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8.png" ContentType="image/png"/>
  <Override PartName="/ppt/media/image16.jpeg" ContentType="image/jpeg"/>
  <Override PartName="/ppt/media/image15.wmf" ContentType="image/x-wmf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36B-D900-4442-9DE2-FF2C6690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FB7-6E81-4FB2-B324-8D6556E6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3CF-30B2-4842-B0B2-A3BDB41C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544-100D-46AC-B578-7879A9DF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8190-2CE1-4B00-A262-F8F50EA8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0CC0-0EC5-49E0-AE6D-AE0CED23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FEE2-63BC-43A4-8426-A819E99D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ECB1-3154-4012-B820-34D76D3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F566-7033-4590-8164-E080BFAF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42D7-75A7-41D2-8DE4-F86B139E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72FE-A850-41F2-8E53-541D436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006-F282-4D4F-809B-CAC6F47D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B59C-8604-4A37-80B8-77D032D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300C-5857-45D1-9129-0DFD17E6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7C5D-D76D-48EE-ACEC-255FE777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2EE2-EB07-4AB8-B08C-16079FDA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84C9-A04B-4B95-A449-D33CC67D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B67E-CFBC-4EEE-82E0-2D3363DB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DEFE-A9D9-4499-AFB4-D1EEC249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E9FFA-54AE-450C-8466-483587D5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44BB-56F7-46DD-832C-0BDE3B7E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B85A-D9F9-4B7F-BEBA-9589EA61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510-DEDA-4E33-8249-5D51A8F4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E2C2-9A67-48A2-9237-918C9ECB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FFC3-93A4-41AF-8317-562FD8B7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22F4-E8D0-4ED0-9FED-DBB96E36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71B6-ABF1-47F6-B5D8-DC6513CD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F3C2-6A28-412E-88FE-30BBF70E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9A755-D884-4ACA-8214-100E878D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D954-196E-4096-A289-DF977700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CD86D-F808-4C0B-A90E-845598AD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5402-92E8-4516-B49C-DD65F3F0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2E6EA-53C0-4948-B216-9F7EB32A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B4A-60FF-4A84-8369-F36D1E99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3695-18CA-42F8-8DE2-59E63CB4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C2EE7-FA0F-4ACC-8D7B-E950342C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F19C-1414-4E51-9720-E9E6035A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0A52-2C7E-4530-9960-585F60A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C50E-89E2-4AFB-B5F4-9B1C96F0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F19A-3C4E-40EA-AFC7-905719F6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4B3D-CCC2-4E75-9F52-AC401CD9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FD29-DB36-4BE2-AF5F-7FFBC4A4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6F8B-1A9C-4A0E-9553-C68230B2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A565-6BBF-42C9-BEF7-36F1FA28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C9B-637F-4629-A955-CABDAD1A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E0423-495F-45FF-9AF0-AA288DF8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B813A-0AF1-4908-B0EF-33A54263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48740-9EE1-4F32-A7FE-5B445D53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08CEA-37E8-4372-9308-63F3DC13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6CF5F-FC7D-4B11-880B-5A904BB7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151CA-2EC7-4D2F-A980-E8FE8FC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D843F-4E49-4FCA-89E3-6F3118A5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8512-D03F-4BCB-B0A9-CE111FE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81897-F9FD-4420-A8F6-525DBCED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1C024-ADC0-4BD0-85A1-BD485144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BA1-FB52-4AF7-9649-E1B1E6D7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B944-004D-49C2-962D-F34E85CC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DBA-A912-4979-A60C-E383C8A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2DC-39E4-4049-9AF7-C4005746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DC4-1E82-4645-9367-89D7299D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7151-C6D4-4145-B438-D685E9FC55C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83FF-50B5-4BA9-BA40-058AC386C2A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B03-B0BD-4490-BAE0-E4816F7ED80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D7B9-F8E5-4C53-8564-539F016AE4A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A1D0-9797-4863-9BB0-D0B4103D5B4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Interaction of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Order and Convexity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.S. Kutatelad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Majoriz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5410080" y="114300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14300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Alexandrov’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Theorem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5334120" y="1143000"/>
          <a:ext cx="29606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143000"/>
                    <a:ext cx="29606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Picture 7" descr="ad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1523880" y="1828800"/>
            <a:ext cx="3040200" cy="259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Dual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Hyperspa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5334120" y="106668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06668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Identific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4876920" y="106668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06668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Blaschke’s Sum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5181480" y="121932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1932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Mixed Volume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as Dualit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5638680" y="99072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99072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Dual Con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5257800" y="129528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29528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Decomposition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and Inclu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181480" y="114300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14300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Isoperimetric-Type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Probl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5715000" y="91764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91764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Problem’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Ingredi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5410080" y="121932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1932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The Gift of Mathematic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Mathematics is not a divine gift. Mathematics is a human enterprise, challenge, and endeavor.  The gift of mathematics goes from  master to  student. The alternating chain of masters and students is the true savior of mathematic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Geometry is a vast treasure trove founded by Euclid  and enriched by his innumerous students and followers. Alexandr Alexandrov was one of th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Convex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Probl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5105520" y="114300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14300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Soap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Bubbl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257800" y="114300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14300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External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Probl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5105520" y="121932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21932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Uryhson-Type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Probl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5410080" y="121932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1932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Current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Hyperplan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Object 4"/>
          <p:cNvGraphicFramePr/>
          <p:nvPr/>
        </p:nvGraphicFramePr>
        <p:xfrm>
          <a:off x="5486400" y="114300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14300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Alexandrov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(1912-1999)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Picture 7" descr="ad_1"/>
          <p:cNvPicPr/>
          <p:nvPr/>
        </p:nvPicPr>
        <p:blipFill>
          <a:blip r:embed="rId1"/>
          <a:stretch/>
        </p:blipFill>
        <p:spPr>
          <a:xfrm>
            <a:off x="1725480" y="1735200"/>
            <a:ext cx="1511280" cy="1981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Alexandr Danilovich Alexandrov was the first and foremost Russian geometer of the twentieth centur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He contributed to mathematics under the sloga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Retreat to Euclid.’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9" descr="Aleksandrov_Aleksandr_by_Halmos"/>
          <p:cNvPicPr/>
          <p:nvPr/>
        </p:nvPicPr>
        <p:blipFill>
          <a:blip r:embed="rId2"/>
          <a:stretch/>
        </p:blipFill>
        <p:spPr>
          <a:xfrm>
            <a:off x="685800" y="762120"/>
            <a:ext cx="3403440" cy="414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His Contribu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5181480" y="76212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Picture 7" descr="ad75"/>
          <p:cNvPicPr/>
          <p:nvPr/>
        </p:nvPicPr>
        <p:blipFill>
          <a:blip r:embed="rId3"/>
          <a:stretch/>
        </p:blipFill>
        <p:spPr>
          <a:xfrm>
            <a:off x="1219320" y="762120"/>
            <a:ext cx="28987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Abstract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Convexit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3" name="Object 4"/>
          <p:cNvGraphicFramePr/>
          <p:nvPr/>
        </p:nvGraphicFramePr>
        <p:xfrm>
          <a:off x="5105520" y="121932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21932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H-Convexit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6" name="Object 7"/>
          <p:cNvGraphicFramePr/>
          <p:nvPr/>
        </p:nvGraphicFramePr>
        <p:xfrm>
          <a:off x="5105520" y="609480"/>
          <a:ext cx="3441600" cy="50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609480"/>
                    <a:ext cx="3441600" cy="50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Hyperspaces 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5257800" y="114624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14624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Reshetnyak’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Theorem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80760" y="2725200"/>
            <a:ext cx="36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Object 7"/>
          <p:cNvGraphicFramePr/>
          <p:nvPr/>
        </p:nvGraphicFramePr>
        <p:xfrm>
          <a:off x="4572000" y="960480"/>
          <a:ext cx="349740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960480"/>
                    <a:ext cx="3497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Choquet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Theo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5334120" y="114300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14300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5:31:49Z</dcterms:created>
  <dc:creator> Kutateladze</dc:creator>
  <dc:description/>
  <dc:language>en-US</dc:language>
  <cp:lastModifiedBy>Kutateladze</cp:lastModifiedBy>
  <dcterms:modified xsi:type="dcterms:W3CDTF">2009-02-14T15:02:15Z</dcterms:modified>
  <cp:revision>33</cp:revision>
  <dc:subject/>
  <dc:title>Interaction of Order and Convexity </dc:title>
</cp:coreProperties>
</file>