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10.png" ContentType="image/png"/>
  <Override PartName="/ppt/media/image4.wmf" ContentType="image/x-wmf"/>
  <Override PartName="/ppt/media/image3.png" ContentType="image/png"/>
  <Override PartName="/ppt/media/image26.png" ContentType="image/png"/>
  <Override PartName="/ppt/media/image28.png" ContentType="image/png"/>
  <Override PartName="/ppt/media/image16.jpeg" ContentType="image/jpeg"/>
  <Override PartName="/ppt/media/image15.wmf" ContentType="image/x-wmf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684C-FD98-4CD9-A4D7-08AF81AE7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EC7C-3D7A-41B4-B53F-C96B2DB1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39A5-1DF1-42D3-A8DA-81761C404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223D-9322-4DBC-9630-F203A9FB7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86B1-A68B-4B37-A6D9-7BBE4984D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1ED2A-4952-41C2-96B4-AA3D5E55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AA5F7-895C-4DAB-A4C0-818CE49C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63C2-5201-4D1B-9A1F-D1E4DE75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686A-46AA-489E-8A26-7B169B74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DDB9-F9DC-45AE-B7FC-D8AD834F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8B0C-02D4-4CD8-B0F4-46D6A948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5BF3-091B-4E2F-B546-2B11CFBD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0F00-806E-41B7-AF5B-E96F506F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75034-AEFA-4CB5-BB8A-CF56782A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88A93-19E5-4EE1-BA04-5BAA296A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1051-9617-47A1-AC39-54CD1B7C0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814C-B268-4D5A-B790-AF6DC55C9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D3CCD-DE65-4306-90B8-44E7428F5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8260D-AA8E-4808-B929-4800B356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1B46A-DC69-475D-936A-9CA870D0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77EB2-D6C6-4592-B90A-CE19B7E8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B728F-4EFC-4378-B899-2BAADC63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ECF1-6C68-496F-8B01-24721902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2B780-893A-4643-9925-BEABCF30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68B8D-EDDB-46C6-A2EE-347FFE63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C4D5D-E0C2-4C5B-A2B9-B0A1924E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0C7BA-D62D-4BC2-98D2-42C930C6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03C1A-BD54-4A1F-BA86-AD7C97D2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57D80-EE9A-4B64-970F-28001BD72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9676E-E1DD-4837-8E50-B477B1B4C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EB2F1-7F9D-4F74-A989-D6A56E19A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545E8-453A-4D78-B70D-7998FEAB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E5A71-6F01-42B8-87B6-8C896A5B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50BA-332B-4A6A-980F-18CC8275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ADFF8-A9CD-43BF-9768-981E1A91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2224C-EFE8-4AEB-97D0-575332B0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66354-E783-4770-A896-266C76B3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F12EC-9B7A-4493-8F05-A69DFBB2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C3794-1ABB-4C99-9282-3DE5C283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BA1D0-F17C-4974-8640-0CA10273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613A6-8056-4957-9C59-89F84B8C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B7C28-6B59-4D0C-B88B-00D93E3C4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F68F8-A022-44A3-B804-DD441A29F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2C629-DAE9-4C7D-B396-D8B3BC6E0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010E-854E-4BF5-AF3A-7D6357AB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2F570-3D95-4BED-B59A-9190825A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C7BB4-0613-4271-8B11-A432406E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1B470-CED5-4F1E-8C4D-78BB7CB0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D5942-987A-4317-A29E-565205B4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D4F2B-E26A-41B3-801C-D43B58BE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0BBF0-9309-4D88-85AB-D46DC2D0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D3463-14A3-40C5-A12A-2972D53C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1F3A5-08D0-4498-8C8D-61FB8C65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8F963-A32B-46A9-BB56-1B887DF5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3C897-97A0-4A99-916F-481C45C6A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75B6-9198-4593-B6DC-9CC812CB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62A7C-E5EB-4735-8A51-F9E7282B5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6F59-4F5D-4E2E-B847-FDB35BA5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EDA4-FA61-4F16-97C5-4B285B02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2866-BFDA-44D1-8775-EC1AF840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2E24-4676-4B4F-ABFD-85858048B28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EC06-C7EA-4690-9355-57F1E3E03C5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FE1E-8F91-4116-8DF9-A09CEC24F73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C4DF-36A5-4067-9279-ED5504B5E5D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7E9A-F040-4BF8-A342-9FA7DD2E4F6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Interaction of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Order and Convexity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S.S. Kutateladz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Majorization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5410080" y="1143000"/>
          <a:ext cx="2959200" cy="41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1143000"/>
                    <a:ext cx="295920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Alexandrov’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 Theorem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5334120" y="1143000"/>
          <a:ext cx="2960640" cy="41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143000"/>
                    <a:ext cx="296064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4" name="Picture 7" descr="ad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1523880" y="1828800"/>
            <a:ext cx="3040200" cy="2590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Dual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Hyperspac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56" name="Object 4"/>
          <p:cNvGraphicFramePr/>
          <p:nvPr/>
        </p:nvGraphicFramePr>
        <p:xfrm>
          <a:off x="5334120" y="1066680"/>
          <a:ext cx="2958840" cy="41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066680"/>
                    <a:ext cx="295884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Identification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59" name="Object 4"/>
          <p:cNvGraphicFramePr/>
          <p:nvPr/>
        </p:nvGraphicFramePr>
        <p:xfrm>
          <a:off x="4876920" y="1066680"/>
          <a:ext cx="2958840" cy="41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066680"/>
                    <a:ext cx="295884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Blaschke’s Sum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62" name="Object 4"/>
          <p:cNvGraphicFramePr/>
          <p:nvPr/>
        </p:nvGraphicFramePr>
        <p:xfrm>
          <a:off x="5181480" y="1219320"/>
          <a:ext cx="2959200" cy="41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219320"/>
                    <a:ext cx="295920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Mixed Volume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as Duality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65" name="Object 4"/>
          <p:cNvGraphicFramePr/>
          <p:nvPr/>
        </p:nvGraphicFramePr>
        <p:xfrm>
          <a:off x="5638680" y="990720"/>
          <a:ext cx="2959200" cy="41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990720"/>
                    <a:ext cx="295920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Dual Con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68" name="Object 4"/>
          <p:cNvGraphicFramePr/>
          <p:nvPr/>
        </p:nvGraphicFramePr>
        <p:xfrm>
          <a:off x="5257800" y="1295280"/>
          <a:ext cx="2959200" cy="41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1295280"/>
                    <a:ext cx="295920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Decomposition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and Inclusion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71" name="Object 4"/>
          <p:cNvGraphicFramePr/>
          <p:nvPr/>
        </p:nvGraphicFramePr>
        <p:xfrm>
          <a:off x="5181480" y="1143000"/>
          <a:ext cx="2959200" cy="41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143000"/>
                    <a:ext cx="295920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Isoperimetric-Type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Problem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74" name="Object 4"/>
          <p:cNvGraphicFramePr/>
          <p:nvPr/>
        </p:nvGraphicFramePr>
        <p:xfrm>
          <a:off x="5715000" y="917640"/>
          <a:ext cx="2959200" cy="41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917640"/>
                    <a:ext cx="295920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Problem’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Ingredien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77" name="Object 4"/>
          <p:cNvGraphicFramePr/>
          <p:nvPr/>
        </p:nvGraphicFramePr>
        <p:xfrm>
          <a:off x="5410080" y="1219320"/>
          <a:ext cx="2959200" cy="41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1219320"/>
                    <a:ext cx="295920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The Gift of Mathematic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Verdana"/>
              </a:rPr>
              <a:t>Mathematics is not a divine gift. Mathematics is a human enterprise, challenge, and endeavor.  The gift of mathematics goes from  master to  student. The alternating chain of masters and students is the true savior of mathematic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Verdana"/>
              </a:rPr>
              <a:t>Geometry is a vast treasure trove founded by Euclid  and enriched by his innumerous students and followers. Alexandr Alexandrov was one of the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Convex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Problem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80" name="Object 4"/>
          <p:cNvGraphicFramePr/>
          <p:nvPr/>
        </p:nvGraphicFramePr>
        <p:xfrm>
          <a:off x="5105520" y="1143000"/>
          <a:ext cx="2958840" cy="41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1143000"/>
                    <a:ext cx="295884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Soap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 Bubbl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83" name="Object 4"/>
          <p:cNvGraphicFramePr/>
          <p:nvPr/>
        </p:nvGraphicFramePr>
        <p:xfrm>
          <a:off x="5257800" y="1143000"/>
          <a:ext cx="2959200" cy="41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1143000"/>
                    <a:ext cx="295920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External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 Problem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86" name="Object 4"/>
          <p:cNvGraphicFramePr/>
          <p:nvPr/>
        </p:nvGraphicFramePr>
        <p:xfrm>
          <a:off x="5105520" y="1219320"/>
          <a:ext cx="2958840" cy="41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1219320"/>
                    <a:ext cx="295884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Uryhson-Type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Problem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89" name="Object 4"/>
          <p:cNvGraphicFramePr/>
          <p:nvPr/>
        </p:nvGraphicFramePr>
        <p:xfrm>
          <a:off x="5410080" y="1219320"/>
          <a:ext cx="2959200" cy="41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1219320"/>
                    <a:ext cx="295920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Current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 Hyperplan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92" name="Object 4"/>
          <p:cNvGraphicFramePr/>
          <p:nvPr/>
        </p:nvGraphicFramePr>
        <p:xfrm>
          <a:off x="5486400" y="1143000"/>
          <a:ext cx="2959200" cy="41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143000"/>
                    <a:ext cx="295920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Alexandrov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(1912-1999)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5" name="Picture 7" descr="ad_1"/>
          <p:cNvPicPr/>
          <p:nvPr/>
        </p:nvPicPr>
        <p:blipFill>
          <a:blip r:embed="rId1"/>
          <a:stretch/>
        </p:blipFill>
        <p:spPr>
          <a:xfrm>
            <a:off x="1725480" y="1735200"/>
            <a:ext cx="1511280" cy="19810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Verdana"/>
              </a:rPr>
              <a:t>Alexandr Danilovich Alexandrov was the first and foremost Russian geometer of the twentieth centur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Verdana"/>
              </a:rPr>
              <a:t>He contributed to mathematics under the sloga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0033cc"/>
                </a:solidFill>
                <a:latin typeface="Verdana"/>
              </a:rPr>
              <a:t>Retreat to Euclid.’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9" descr="Aleksandrov_Aleksandr_by_Halmos"/>
          <p:cNvPicPr/>
          <p:nvPr/>
        </p:nvPicPr>
        <p:blipFill>
          <a:blip r:embed="rId2"/>
          <a:stretch/>
        </p:blipFill>
        <p:spPr>
          <a:xfrm>
            <a:off x="685800" y="762120"/>
            <a:ext cx="3403440" cy="4140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His Contribution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29" name="Object 4"/>
          <p:cNvGraphicFramePr/>
          <p:nvPr/>
        </p:nvGraphicFramePr>
        <p:xfrm>
          <a:off x="5181480" y="762120"/>
          <a:ext cx="2959200" cy="41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762120"/>
                    <a:ext cx="295920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1" name="Picture 7" descr="ad75"/>
          <p:cNvPicPr/>
          <p:nvPr/>
        </p:nvPicPr>
        <p:blipFill>
          <a:blip r:embed="rId3"/>
          <a:stretch/>
        </p:blipFill>
        <p:spPr>
          <a:xfrm>
            <a:off x="1219320" y="762120"/>
            <a:ext cx="2898720" cy="41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Abstract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Convexity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33" name="Object 4"/>
          <p:cNvGraphicFramePr/>
          <p:nvPr/>
        </p:nvGraphicFramePr>
        <p:xfrm>
          <a:off x="5105520" y="1219320"/>
          <a:ext cx="2958840" cy="41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1219320"/>
                    <a:ext cx="295884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H-Convexity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36" name="Object 7"/>
          <p:cNvGraphicFramePr/>
          <p:nvPr/>
        </p:nvGraphicFramePr>
        <p:xfrm>
          <a:off x="5105520" y="609480"/>
          <a:ext cx="3441600" cy="506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609480"/>
                    <a:ext cx="3441600" cy="506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Hyperspaces 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39" name="Object 4"/>
          <p:cNvGraphicFramePr/>
          <p:nvPr/>
        </p:nvGraphicFramePr>
        <p:xfrm>
          <a:off x="5257800" y="1146240"/>
          <a:ext cx="2959200" cy="41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1146240"/>
                    <a:ext cx="295920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Reshetnyak’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Theorem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480760" y="2725200"/>
            <a:ext cx="360" cy="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Object 7"/>
          <p:cNvGraphicFramePr/>
          <p:nvPr/>
        </p:nvGraphicFramePr>
        <p:xfrm>
          <a:off x="4572000" y="960480"/>
          <a:ext cx="3497400" cy="452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960480"/>
                    <a:ext cx="34974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Choquet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 Theory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46" name="Object 4"/>
          <p:cNvGraphicFramePr/>
          <p:nvPr/>
        </p:nvGraphicFramePr>
        <p:xfrm>
          <a:off x="5334120" y="1143000"/>
          <a:ext cx="2958840" cy="41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143000"/>
                    <a:ext cx="295884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15:31:49Z</dcterms:created>
  <dc:creator> Kutateladze</dc:creator>
  <dc:description/>
  <dc:language>en-US</dc:language>
  <cp:lastModifiedBy>Kutateladze</cp:lastModifiedBy>
  <dcterms:modified xsi:type="dcterms:W3CDTF">2009-02-14T15:02:15Z</dcterms:modified>
  <cp:revision>33</cp:revision>
  <dc:subject/>
  <dc:title>Interaction of Order and Convexity </dc:title>
</cp:coreProperties>
</file>