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F61-E4BC-4968-A0F7-F97B700C469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FA81-8050-46CE-8B61-C2C0E495B676}" type="slidenum">
              <a:rPr b="0" lang="ru-RU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51C-A763-4621-9771-FC7614FF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716-3799-4AAA-8C9E-22C93F86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3FE-0301-4001-AE16-EFE66375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6BB-43D2-4370-90DC-6CC07274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B00-79CF-4983-8225-3FDC24FA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5E47-FD0F-4344-89C9-5D4FC215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C1F4-CEB8-4DC8-BC1B-7FD603AC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9904-6D44-4AF1-89E9-26031FC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F728-B650-419E-BCD9-2DC917C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B510-622C-438F-B1A3-C939CF5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08A8-46A3-4EDB-A61A-0D8131EA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6B9-4D2D-4BA5-BABC-450BE56C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5B1-C4EB-4723-8345-509F2B8B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F93B-E982-41C6-A6A1-8766CDA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583-5437-45D1-BBC4-FE146894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AAB4-6052-4299-9310-3A4D9C43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A406-E7BB-4183-B0C4-03966B59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2FA5-A7A4-46F0-88A2-F4B29B56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D306-3501-4EB8-8BC8-ECB0456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DFE4-BCBF-462B-A16C-0DB142EC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4A1B-D64A-4CB7-A3CF-C6C0615B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F1A1-45B0-4C49-9DA6-610C285D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2B0-C558-4002-B341-DD20C7D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245A-660C-4719-B4D2-FBA310B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963C-E03D-4832-ABF9-02F6811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0937-D381-4021-96DE-FC9D122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FFA5-1D38-4EB3-BFC7-AC6B996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56D3-DF8E-4900-8C4A-9244CF1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7568-53E6-4DC3-A85A-4276D91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B4AD-71B6-4204-AA63-51EA9BE8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4A5E-7BA3-42D1-B105-C5921A87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C619-E289-414E-80C1-6AF6FAEE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B1D9-F026-4631-B27F-91D92F43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DA7-CB52-4B7B-B84E-351D031B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388B-29FE-4738-8030-44A6B0FB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B1D0-1FE9-4F04-B6D4-4C17D2B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4810-EF95-4ABA-82CA-96D9367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DAAD-B1BA-4362-8D73-A5FDD01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4E1AD-FF0C-41D0-AA4C-858F7D7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0BA8-D201-47A6-89B4-F93919A1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BAE0-9A5E-495B-8383-6919FC13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6070-853D-4304-98B2-AFEE7EAD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C38F-95E8-49B3-925E-E87C0309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D991-D8D6-4CE7-B202-8D8DC4AC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139-63F8-4C57-B9F2-3B24E64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EB7C-ED3E-4A06-98DA-6AFC4D6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98A6-CABB-496C-A21E-6876A5B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9F50-3DC2-49B9-89B6-D972306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40CD-1E9D-4DF5-8C32-533F39DD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B113-3581-46C8-94A6-FE296BE4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B748-7DDD-4EAF-83B1-36A0A64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2D69C-17BE-4E97-BC45-5855812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4513-539F-4DFF-9F88-501B9E2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C61C-98B8-41DF-A1EA-8ACFF23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16E0-2E31-413E-BAC3-97DF55CE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4FF-9F76-4692-844C-1D78C36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40A5-B7FC-4831-BCC7-F01C4DA5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8EBF-5E01-46FD-8BDA-25CD6032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2E72-BB12-4A3D-8D59-A900636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958B-26AE-453C-A05F-16584F4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1AB7-C3F1-487B-ADE3-DDBD63E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9BFB0-2F57-4773-B9DB-116616DB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E363D-1781-4CA4-A302-25E79EB4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815AD-89D4-4D17-9405-97AB57E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FA77-105F-455A-B2E1-E3176E4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D03C-6D3D-48DC-985C-AD92AC6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534A-F342-424A-A5B7-19C51A8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B2E2C-22F6-4511-8E64-89F275A9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6B685-03EF-4053-831D-26B4C562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39427-2C8E-49B5-B71C-48C9730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4E18A-1DA8-49B8-8497-AAEAA494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5F57-0E4E-41CD-BA9E-0496B93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645B-8191-4640-8090-577BA4F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85C5-A074-4978-8F26-815B0A22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1D252-F7C9-4C5C-AAB6-563CE03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CFF4-A658-4742-99F0-20413CC7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8F03-8191-4CF0-977A-4BF313D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332-C766-4E4A-AD8C-B94ED12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097EB-85AD-414F-B95C-4A48D0B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CC6F-EE72-4E78-A0CD-BB332D9D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4F86-A41D-4ECA-9F9C-F09CB37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9B17-309F-4198-8A4B-E062186D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B24D-36B6-4C50-A6B8-92F7C511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486-CBA1-45FA-B5C2-538398D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33C-CF89-4460-A38C-517F9648D7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AE9-58F7-4937-8216-5CAC5FC6C5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68AA-3AE7-440F-BF9C-FC4E7C84E13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829-8DE7-4A73-8C5E-88E2078F482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43D-68A5-4408-A964-6665F05DA85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0FFB-613C-4FC4-94F4-9FE8481FFDD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6F46-B8EE-41FB-81F1-7B7086609B0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.С. Кутателадз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анторович и дескрип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ервые работы Канторовича относились к популярной в те годы тематике дескриптивной теории множеств.  Лидер этого направления Н. Н. Лузин в 1934 г. писал Канторовичу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Вы должны знать, каково мое отношение к Вам. Вас всего, как человека, я не знаю еще, но угадываю мягкий чарующий характер. Но то что я точно знаю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это размер Ваших духовных сил, которые, насколько я привык угадывать людей, представляют в науке  неограниченные возможности. Я не стану произносить соответствующего слова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зачем? Талант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−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 это слишком мало. Вы имеете право на большее...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зация социу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1920-1930 годы социальные феномены стали  предметом  невербальных исследований, требовавших  создания специальных математических методо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ущественно возросла потребность в статистической обработке данн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оздание новых производств, внедрение передовых технологий, оборудования и материалов вызвали потребность  совершенствования техники  расчето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Бурному развитию прикладной  математики  способствовала автоматизация и механизация процесса вычислени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юз анализа и приложен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1930 годы  прикладная математика стремительно сближается с функциональным анализом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ущественную роль в этом процессе сыграли исследования Джона фон Неймана  по математическим основам квантовой механики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 теории игр как аппарата экономических исследований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России пионером и генератором новых синтетических идей стал  Канторович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странства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остность мышления проявлялась во всем творчестве Канторовича. Идеи линейного программирования  были тесно связаны с его методологическими установками в области математики.   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середине 1930 годов   центральное место в математических исследованиях Канторовича занимал функциональный анализ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лавным своим математическим достижением в этой области Канторович считал выделение специального класса  порядково полных упорядоченных векторных пространств, которые в отечественной литературе именуют K -пространствами или пространствами Канторовича, так как  в своих рабочих тетрадях Канторович писал о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оих пространствах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инцип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В этой заметке я определяю новый тип пространств, которые я называю линейными полуупорядоченными пространствами. Введение этих пространств позволяет изучать линейные операции одного общего класса (операции, значения которых принадлежат такому пространству) как линейные функционалы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нторович, Докл. АН СССР (1935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нейные неравенств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странства Канторовича дали  рамки для построения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ории линейных неравенств,  необходимой в приближенных вычислениях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ля оценок точности. Концепция неравенств весьма приспособлена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ля задач, связанных с приближенными вычислениями, где существенную роль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грают разнообразные оценки точности полученных результатов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ставщиком линейных неравенств была   экономическая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блематика. Целесообразное и оптимальное  поведение в условиях ограниченныхресурсов естественно формулировать в терминах частичного сравн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сто неравенств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онцепция линейных неравенств неразрывна с выпуклостью и, стало быть, геометрией  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функциональным анализом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уклый многогранник −  конечной системы линейных неравенств.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случае общего положениявыпуклые множества суть решения подходящих систем линейныхнеравенст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Функциональный анализ предполагает наличие нетривиальных непрерывных линейных функционалов.  Наличие  такого функционала эквивалентно существованию  непустого  собственного открытого выпуклого множества в объемлющем пространств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нейное программиров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Линейное программирование − техника максимизации линейного функционала на множестве положительных решенийистемы линейных неравенст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удивительно, что  открытие линейного программирования последовало вскоре за созданием основ теории пространств Канторович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рмин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линейное программирование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 был предложен в 1951 г. американским экономистом Т. Купмансом. В 1975 г. Канторович и  Купманс получили  Нобелевскую премию  по экономическим наукам с формулировкой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за ихвклад в теорию оптимального распределения ресурсов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. Особой заслугой   Купманса стала пропаганда методов линейного программирования и защита приоритета  Канторовича в открытии этих методо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В США линейное программирование возникло только в 1947 г. в работах Джорджа Данциг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крытие в экономи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C оптимальным планом любой линейной программы автоматически связаны оптимальные цены или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бъективно обусловленные оценк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. Последнее громоздкое словосочетание Канторович выбрал из тактических соображений  для повышения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ритикоустойчивост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термин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нцепция оптимальных цен и взаимозависимость оптимальных решений и оптимальных цен − такова краткая суть  экономического  открытия Канторович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ниверсальная эври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бстрактные идеи Канторовича в теории K-пространств связаны с  линейным программированием и приближенными методами анализ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деи линейного программирования имманентны теории K-пространств. Выполнение любого из принятых вариантов формулировок принципа двойственности  линейного программирования вабстрактной математической структуре неизбежностью приводит к тому, что исходный объект является K-пространство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Инвентаризация памяти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19 января 2012 г.   столетие со дня рождения Леонида Витальевича Канторовича, всемирно известного математика и экономиста. Вундеркинд, окончивший университет в 18 лет и ставший профессором в 20, академик по математике и лауреат Нобелевской премии по экономике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редкие обстоятельства жизни, достойные некоторого внимания сами по себе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днако извлечь из них полезные для себя выводы вряд ли возможно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события крайне редкие и маловероятные. Другое дело творческое наследие человека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сделанное для других остается, пока оно не забыто, испорчено или оболгано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Юбилейная дата 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повод для инвентаризации памяти.  Вспоминая вклад нашего соотечественника в культуру, мы сохраняем его духовный мир для будущего..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ональный анализ и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прикладная матема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конце 1940 годов Канторович сформулировал и развил тезис о взаимосвязи функционального анализа и прикладной математики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становилась традиция  считать функциональный анализ дисциплиной чисто теоретической, далекой от непосредственных приложений, которая в практических  вопросах не может быть использована. Цель ... в известной мере разрушить эту традицию, указать на связь функционального анализа с вопросами прикладной математики...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ри технолог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хнологию 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мажорирования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в общих упорядоченных векторных пространствах  Канторович взял за основу исследования вариантов метода Ньютона в банаховых пространствах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Дискретизация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−  приближение бесконечномерных пространств и операторов их конечномерными аналогами - связана с удивительным универсальным пониманиемвычислительной математики как науки о онечных приближениях общих компактов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овизна экстремальных задач, возникающих в социальных науках, связана с наличием многомерных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отиворечивых целей, ставящих на первое место проблему согласования интересов или  </a:t>
            </a:r>
            <a:r>
              <a:rPr b="0" lang="ru-RU" sz="2300" spc="-1" strike="noStrike">
                <a:solidFill>
                  <a:srgbClr val="ff0000"/>
                </a:solidFill>
                <a:latin typeface="Corbel"/>
              </a:rPr>
              <a:t>скаляризацию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векторных целей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искретиз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одводя итоги своим исследованиям по общей теории приближенных методов, Канторович писал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«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меется весьма большое число различных методов для разных классов задач и уравнений, и их конструирование и исследование в каждом конкретном случае представляло немалые трудности. Поэтому возникла мысль о построении общей теории, которая позволяла бы их строить и исследовать из некоего единого источника. Эта теория основывалась на идее связи данного пространства, в котором задано исследуемое уравнение, с некоторым более простым, в которое исходное пространство отображается. На основе исследования ,,приближенного уравнения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”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в более простом пространстве открывалась возможность  строить и изучать конкретные приближенные методы в исходном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странстве...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»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ипераппроксим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Многообещающие возможности дисретизпции открывает новый метод гипераппроксимации, связанный с идеями инфинитезимального анализа.   Классическая дискретизация использует аппроксимацию бесконечномерного пространства с помощью лежащих внутри его конечномерных подпространств. В рамках нестандартной теории множеств допустимо аппроксимировать бесконечномерные векторные пространства  более широкими  внешними конечномерными пространствами. Разумеется, размерности таких гипераппроксимаций представляют собой актуальные бесконечно большие натуральные числ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нфинитезимальные методы позволяют предложить и новые схемы гипераппроксимации общих компактных пространств. В качестве таких приближений к компактному множеству сверху могут выступать произвольные конечные внутренние множества, содержащие все стандартные элементы подлежащего аппроксимации компакт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каляриза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пецифические трудности практических задач и необходимость сведения их к числовому случаю были связаны  в творчествеКанторовича с размышлениями о природе вещественных чисел. Элементы своих K-пространств он рассматривал как обобщенные числа, тем самым развивая идеи, которые в наше время принято называть </a:t>
            </a:r>
            <a:r>
              <a:rPr b="0" lang="ru-RU" sz="2600" spc="-1" strike="noStrike">
                <a:solidFill>
                  <a:srgbClr val="ff0000"/>
                </a:solidFill>
                <a:latin typeface="Corbel"/>
              </a:rPr>
              <a:t>скаляризацией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каляризация в самом общем смысле - это приведение к числу. Число представляет собой меру количества. Значит скаляризации имеет общематематическое значени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исла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каляризация по Канторовичу связана с одной из самых ярких страниц математики прошлого века - с проблемой континуума. Метод форсинга Коэна был упрощен в середине 1960 годов сиспользованием аппарата булевых алгебр и новой технологииматематического моделирования, использующей нестандартные модели теории множест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гресс возникшего на этой основе булевозначного анализа продемонстрировал фундаментальное значение расширенных K-пространств. Каждое из таких пространств, как  оказалось совершенно неожиданно, служит равноправной моделью вещественной прямой и, значит, играет в математике ту же фундаментальную роль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странства Канторовича дали новые модели поля вещественных чисел и обрели бессмертие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Уроки Канторович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Противоречие между блестящими достижениями и детская неприспособленностью  к практической линии жизни - один из важных парадоксов, оставленных нам Канторовичем. Сама его жизнь стала ярким и загадочным гуманитарным феноменом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нтравертность Канторовича, очевидная в личном общении, совершенно неожиданно  сочеталась с публичной экстравертностью. Отсутствие ораторского дара соседствовало с глубиной логики и особыми приемами полемики. Его внутренняя  свобода и самодостаточность, мягкость, доброта и исключительная скромность стояли в одном ряду с целенаправленной жесткостью и неутомимостью   на пути  к   поставленной цел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Канторович дал нам образец  наилучшего использования   ресурсов  личности  в условиях внешних и внутренних  ограничений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мы для будущег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емы  Канторовича востребованы человечеством, что видно по учебным планам любого экономического или  математического факультета в мире. Аппарат математики и идея оптимальности стали подручными орудиями любого практикующего экономиста.Новые методы поставили непреодолимую планку для традиционалистов,  рассматривающих экономику как полигон   технологий  типа маккиавелизма, лизоблюдства, здравого смысла и форсайт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Экономика как вечный партнер математики избежит слияния с любой эзотерической частью гуманитарных наук, политики или беллетристики. Новые  поколения математиков будут смотреть на загадочные проблемы экономики как на  бездонный источник  вдохновения и привлекательную арену приложения и совершенствования своих  безупречно строгих методов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Corbel"/>
              </a:rPr>
              <a:t>Вычисление победит гадание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клад в  нау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ективные множе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странства Канторович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инейное программир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трика Канторовича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убинштейн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циональный раскро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«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нторович и Акилов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птимальные це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илучшее использование ресур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стоки математики и эконом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тановление науки как инструмента понимания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долгий и сложный процесс. Зарождение ординального счета фиксировано палеолитическими  находками, отделенными десятками тысяч лет от  явления  разумного и хозяйствующего человека. Экономическая практика предваряет предысторию  математики, сформировавшуюся в науку доказательных вычислений в Древней Греции примерно 2500 лет тому назад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енаправленное поведение  людей  в условиях ограниченных ресурсов стало объектом науки совсем недавно. Датой рождения экономики как науки принято считать 9 марта 17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г.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—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день публикации сочинения Адама Смита «Исследование о природе и причинах богатства народов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»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едмет математики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едмет математики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—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количественные и пространственные формы человеческого мышлен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атематика функционирует как наука доказательных исчислений, постоянно обновляясь и наращивая объем накопленных знани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 временем меняются требования к строгости доказательств и технологиям их получения, возникает деление математики начистую и прикладную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ка и эконом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атематика  изучает формы мышления. Предмет экономики − обстоятельства  человеческого поведения. Математика абстрактна и доказательна, а профессиональные решения  математиков не задевают обычную жизнь людей. Экономика конкретна и декларативна, а практические  упражнения экономистов основательно  жизнь меняют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Цель математики −   безупречные истины и методы их получения. Цель экономики −  индивидуальное благополучие  и пути его достиж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атематика не вмешивается в личную жизнь человека. Экономика задевает его кошелек и кошелку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писок  коренных различий математики и экономики бесконечен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атематизация экономи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XIX век отмечен  первыми попытками применения математических методов в экономике в работах  Антуана Огюста Курно, Карла Маркса, Уильяма Стенли Джевонса, Леона Вальраса и его преемника по Лозаннскому университету Вильфредо Парето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Математическая экономика −  новация XX века. Именно тогда возникло понимание того, что экономические проблемы требуют совершенно нового  математического аппарата.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К экономической проблематике обратились математики первой величины −  Джон фон Нейман и Леонид  Канторович.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Теория игр как  аппарат изучения экономического поведения илинейное программирование как аппарат принятия решенийпривели к стремительной математизации экономик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зрывы ментальност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ежду точным и гуманитарным стилями мышления существуют принципиальные различия. Люди склонны к рассуждениям по аналогии и методу неполной индукции, рождающим иллюзию общезначимости знакомых приемов. Различия технологий не всегда выделены отчетливо, что, в свою очередь, способствует самоизоляции и вырождению громадных  разделов наук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азница в менталитете математиков и экономисто затрудняет их взаимопонимание и сотрудничество. Невидимы, но вездесущи перегородки мышления, изолирующие математическое сообщество от своего экономического визав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солидация мыш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печатляющее многообразие направлений исследований Канторовича объединяется как его личностью, так и его методическими установками. Он всегда подчеркивал внутреннее единство науки, взаимопроникновение идей и методов, необходимых для решения самых разнообразных теоретических иприкладных проблем математики 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экономик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Характерной чертой  творчества Канторовича была ориентация на наиболее трудные проблемы и самые перспективные идеи математики и экономики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своего времен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04:24:42Z</dcterms:created>
  <dc:creator>Kutateladze</dc:creator>
  <dc:description/>
  <dc:language>en-US</dc:language>
  <cp:lastModifiedBy>Kutateladze</cp:lastModifiedBy>
  <dcterms:modified xsi:type="dcterms:W3CDTF">2012-06-16T03:01:18Z</dcterms:modified>
  <cp:revision>23</cp:revision>
  <dc:subject/>
  <dc:title>Математика и экономика Л.В.Канторовича</dc:title>
</cp:coreProperties>
</file>