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836-334C-48D4-A050-62A4FEE6378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629-FBAC-4B33-BD1B-D879B0B650E7}" type="slidenum">
              <a:rPr b="0" lang="ru-RU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D71-367D-4197-B400-C6476045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A16-1568-4410-99B5-EDB20D7A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BAF-3351-46C5-8E6F-821EBE43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09A-B428-4E81-8593-D6F4F166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66A-5365-4891-B84C-B034AAC5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E065-3B27-47EE-AA30-7C95ED87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6838-96A7-4E0D-B15D-DE663925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520B-A5C1-4110-959F-70FB2EE7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FB3-ECEB-4980-AB90-0DA3415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049C-79C2-4B19-997B-F5465BC6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FC9-82E8-47C2-9C38-B1413DD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973-6A2B-42C2-A4D5-9F0FA918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D8AD-3389-4360-B8C9-66989A7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E4EA-5F46-4991-AFE9-50F9F02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50FD-3126-4F55-8CA0-95D64BCD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CBD3-884D-4A63-ADD2-5B825E6E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2894-28B6-4279-B158-186AEDBD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B33F-EED2-408F-B257-3318D2B3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D9E2-9C26-4B17-BFF9-D5C9858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A93D-C0BC-4B9F-8386-EFB27B59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8E9F-B5CC-4945-8BDB-8D92973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B6D8-BB5E-4794-8FE1-E15A1B6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5E9-75C8-4B49-B89A-87806943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9F97-932E-4F53-A2B8-50EEB11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8827-F87F-4886-8A10-759C82B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96E9-6C27-413C-8DC9-1270A4B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DB76-E301-4911-93DC-B2A13A3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97FD-E370-4DF6-A0B7-37B0EAA2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4576-E23D-449A-91AC-4A88BE10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A579-18D6-43CE-81C4-1253F1DB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A8BA-1530-4F3E-82E7-FF8EE42D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6298-167E-4C80-92F8-C91BEA8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EE93-83B8-441B-8962-F42A5D42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2EB-29A7-41E0-9CFD-191351D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785A-3B5A-43E3-80D7-49BF60D4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E5CF-8363-4D3C-8914-A9F74797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97BB-45CF-4A25-8489-6E8C4E43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3D1B-1E54-4459-8C9B-F4B98A56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596A-5834-471C-ABEB-B0AE520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A975-F16E-4397-A8F0-7F1E47B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87B2-9F23-4717-9884-D970E0F9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621A-A709-4A69-ABBF-7538BBDC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5455-05EC-41CA-8721-4BD6118A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4F65-5F95-417C-A34D-182547AA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4AE-CFE1-4348-839F-9749C517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5D0D-8045-4322-B0AF-5408F3A1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719A-8E1C-486C-8C31-90E505B7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5F84-DC07-4455-8FBB-E9E745C8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907B-1970-4A80-AC01-9ACBFC78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8C16-8012-40DA-9050-3887B029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C540A-2EEE-4E05-A193-5115205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1C9A-647A-4D50-AF21-B7EA2AD3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EF36-E70E-4B53-A0A0-7BE9C33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31B7-EF2D-452D-A881-6921266B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4DBD-D98A-4B13-926A-7D6751AD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526-05E4-402D-88C8-C4276158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54F65-F677-4ECC-8991-E171F9FC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C2BB-CC99-4EC8-9071-1528A685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0634-AFE9-46B5-B556-DF7122B5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92D2-F486-444C-807F-41D282C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3151-8749-4811-8522-8D36D31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0244E-646D-4DA0-A5E5-AD0CAA36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C1958-498C-4153-996C-D446C69D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64C8-A303-455F-9A7D-F1D7449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FF43-576A-4C29-A819-EAD0F66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180C-2BDF-4BA8-AC70-CE3FD56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D23-3F81-4104-8216-5033D297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B3A6-0E23-4E71-81D7-0141F78E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17FCF-0A04-4CCD-966D-8DD2ADA0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EE8A-980C-48D1-AD9C-29A2CC68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3E25B-8474-44DD-B5A8-70C5D0F2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1118-7302-4DB1-918D-284A7FD6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EC2B-A3FE-42FC-B177-67EA2CCE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B006-996B-4B60-AADD-BC131F0C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B47E-C94E-46AB-A86E-DDB49410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2F83-0126-4A65-8FB7-CFEFE668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02AA-CD38-446C-8C56-26104EE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1D5-3C9D-446E-B1B3-16CA2247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5994-B2F9-484A-A74C-7D429E8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7254-48B4-4CAE-963E-1C4CBFF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BEE8-B77A-452B-8A9C-11F5A11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8DD3-B293-4285-A3C1-8A3F8AF0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4138-B7B6-429E-B36D-EC7642EF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165-6E4F-4A85-AB94-80994AB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891-B247-4464-AA4F-E8647913930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A3A9-515E-43A9-8282-69D6069E302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8FB-E53C-46C9-9A65-67D8DE5A4B8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FB34-D938-4592-85D6-6ADECEA94D5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DCD-C122-484E-A382-3BA88DF80DC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5E61-C2CF-48B7-B61D-886579E2ED7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8C6-5EC7-4B1D-AD8B-7D8FCD13AC3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.С. Кутателадз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анторович и дескрип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ервые работы Канторовича относились к популярной в те годы тематике дескриптивной теории множеств.  Лидер этого направления Н. Н. Лузин в 1934 г. писал Канторовичу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Вы должны знать, каково мое отношение к Вам. Вас всего, как человека, я не знаю еще, но угадываю мягкий чарующий характер. Но то что я точно знаю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−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 это размер Ваших духовных сил, которые, насколько я привык угадывать людей, представляют в науке  неограниченные возможности. Я не стану произносить соответствующего слова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−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 зачем? Талант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−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 это слишком мало. Вы имеете право на большее...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»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атематизация социу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 1920-1930 годы социальные феномены стали  предметом  невербальных исследований, требовавших  создания специальных математических методо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ущественно возросла потребность в статистической обработке данн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оздание новых производств, внедрение передовых технологий, оборудования и материалов вызвали потребность  совершенствования техники  расчето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Бурному развитию прикладной  математики  способствовала автоматизация и механизация процесса вычислени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юз анализа и приложен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1930 годы  прикладная математика стремительно сближается с функциональным анализом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ущественную роль в этом процессе сыграли исследования Джона фон Неймана  по математическим основам квантовой механики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 теории игр как аппарата экономических исследований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России пионером и генератором новых синтетических идей стал  Канторович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странства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Целостность мышления проявлялась во всем творчестве Канторовича. Идеи линейного программирования  были тесно связаны с его методологическими установками в области математики.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середине 1930 годов   центральное место в математических исследованиях Канторовича занимал функциональный анализ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Главным своим математическим достижением в этой области Канторович считал выделение специального класса  порядково полных упорядоченных векторных пространств, которые в отечественной литературе именуют K -пространствами или пространствами Канторовича, так как  в своих рабочих тетрадях Канторович писал о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оих пространствах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»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В этой заметке я определяю новый тип пространств, которые я называю линейными полуупорядоченными пространствами. Введение этих пространств позволяет изучать линейные операции одного общего класса (операции, значения которых принадлежат такому пространству) как линейные функционалы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нторович, Докл. АН СССР (1935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нейные неравенств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остранства Канторовича дали  рамки для построения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теории линейных неравенств,  необходимой в приближенных вычислениях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для оценок точности. Концепция неравенств весьма приспособлена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для задач, связанных с приближенными вычислениями, где существенную роль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грают разнообразные оценки точности полученных результатов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ставщиком линейных неравенств была   экономическая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облематика. Целесообразное и оптимальное  поведение в условиях ограниченныхресурсов естественно формулировать в терминах частичного сравн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сто неравенств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Концепция линейных неравенств неразрывна с выпуклостью и, стало быть, геометрией  и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функциональным анализом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ыпуклый многогранник −  конечной системы линейных неравенств.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 случае общего положениявыпуклые множества суть решения подходящих систем линейныхнеравенст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Функциональный анализ предполагает наличие нетривиальных непрерывных линейных функционалов.  Наличие  такого функционала эквивалентно существованию  непустого  собственного открытого выпуклого множества в объемлющем пространств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нейное программиров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Линейное программирование − техника максимизации линейного функционала на множестве положительных решенийистемы линейных неравенст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еудивительно, что  открытие линейного программирования последовало вскоре за созданием основ теории пространств Канторович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рмин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линейное программирование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был предложен в 1951 г. американским экономистом Т. Купмансом. В 1975 г. Канторович и  Купманс получили  Нобелевскую премию  по экономическим наукам с формулировкой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за ихвклад в теорию оптимального распределения ресурсов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. Особой заслугой   Купманса стала пропаганда методов линейного программирования и защита приоритета  Канторовича в открытии этих методо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 США линейное программирование возникло только в 1947 г. в работах Джорджа Данциг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крытие в экономи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C оптимальным планом любой линейной программы автоматически связаны оптимальные цены или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ъективно обусловленные оценк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. Последнее громоздкое словосочетание Канторович выбрал из тактических соображений  для повышения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ритикоустойчивост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термин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нцепция оптимальных цен и взаимозависимость оптимальных решений и оптимальных цен − такова краткая суть  экономического  открытия Канторович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Универсальная эври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бстрактные идеи Канторовича в теории K-пространств связаны с  линейным программированием и приближенными методами анализ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деи линейного программирования имманентны теории K-пространств. Выполнение любого из принятых вариантов формулировок принципа двойственности  линейного программирования вабстрактной математической структуре неизбежностью приводит к тому, что исходный объект является K-пространство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Инвентаризация памяти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19 января 2012 г.   столетие со дня рождения Леонида Витальевича Канторовича, всемирно известного математика и экономиста. Вундеркинд, окончивший университет в 18 лет и ставший профессором в 20, академик по математике и лауреат Нобелевской премии по экономике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редкие обстоятельства жизни, достойные некоторого внимания сами по себе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днако извлечь из них полезные для себя выводы вряд ли возможно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события крайне редкие и маловероятные. Другое дело творческое наследие человека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сделанное для других остается, пока оно не забыто, испорчено или оболгано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Юбилейная дата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повод для инвентаризации памяти.  Вспоминая вклад нашего соотечественника в культуру, мы сохраняем его духовный мир для будущего..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ональный анализ и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прикладная матема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конце 1940 годов Канторович сформулировал и развил тезис о взаимосвязи функционального анализа и прикладной математик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становилась традиция  считать функциональный анализ дисциплиной чисто теоретической, далекой от непосредственных приложений, которая в практических  вопросах не может быть использована. Цель ... в известной мере разрушить эту традицию, указать на связь функционального анализа с вопросами прикладной математики...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ри технолог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Технологию  </a:t>
            </a:r>
            <a:r>
              <a:rPr b="0" lang="ru-RU" sz="2300" spc="-1" strike="noStrike">
                <a:solidFill>
                  <a:srgbClr val="ff0000"/>
                </a:solidFill>
                <a:latin typeface="Corbel"/>
              </a:rPr>
              <a:t>мажорирования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в общих упорядоченных векторных пространствах  Канторович взял за основу исследования вариантов метода Ньютона в банаховых пространствах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Corbel"/>
              </a:rPr>
              <a:t>Дискретизация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−  приближение бесконечномерных пространств и операторов их конечномерными аналогами - связана с удивительным универсальным пониманиемвычислительной математики как науки о онечных приближениях общих компактов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Новизна экстремальных задач, возникающих в социальных науках, связана с наличием многомерных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отиворечивых целей, ставящих на первое место проблему согласования интересов или  </a:t>
            </a:r>
            <a:r>
              <a:rPr b="0" lang="ru-RU" sz="2300" spc="-1" strike="noStrike">
                <a:solidFill>
                  <a:srgbClr val="ff0000"/>
                </a:solidFill>
                <a:latin typeface="Corbel"/>
              </a:rPr>
              <a:t>скаляризацию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векторных целей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искретиза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одводя итоги своим исследованиям по общей теории приближенных методов, Канторович писал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«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меется весьма большое число различных методов для разных классов задач и уравнений, и их конструирование и исследование в каждом конкретном случае представляло немалые трудности. Поэтому возникла мысль о построении общей теории, которая позволяла бы их строить и исследовать из некоего единого источника. Эта теория основывалась на идее связи данного пространства, в котором задано исследуемое уравнение, с некоторым более простым, в которое исходное пространство отображается. На основе исследования ,,приближенного уравнения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”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в более простом пространстве открывалась возможность  строить и изучать конкретные приближенные методы в исходном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странстве...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»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ипераппроксима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Многообещающие возможности дисретизпции открывает новый метод гипераппроксимации, связанный с идеями инфинитезимального анализа.   Классическая дискретизация использует аппроксимацию бесконечномерного пространства с помощью лежащих внутри его конечномерных подпространств. В рамках нестандартной теории множеств допустимо аппроксимировать бесконечномерные векторные пространства  более широкими  внешними конечномерными пространствами. Разумеется, размерности таких гипераппроксимаций представляют собой актуальные бесконечно большие натуральные числ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нфинитезимальные методы позволяют предложить и новые схемы гипераппроксимации общих компактных пространств. В качестве таких приближений к компактному множеству сверху могут выступать произвольные конечные внутренние множества, содержащие все стандартные элементы подлежащего аппроксимации компакт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каляриза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пецифические трудности практических задач и необходимость сведения их к числовому случаю были связаны  в творчествеКанторовича с размышлениями о природе вещественных чисел. Элементы своих K-пространств он рассматривал как обобщенные числа, тем самым развивая идеи, которые в наше время принято называть </a:t>
            </a:r>
            <a:r>
              <a:rPr b="0" lang="ru-RU" sz="2600" spc="-1" strike="noStrike">
                <a:solidFill>
                  <a:srgbClr val="ff0000"/>
                </a:solidFill>
                <a:latin typeface="Corbel"/>
              </a:rPr>
              <a:t>скаляризацией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каляризация в самом общем смысле - это приведение к числу. Число представляет собой меру количества. Значит скаляризации имеет общематематическое значени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исла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каляризация по Канторовичу связана с одной из самых ярких страниц математики прошлого века - с проблемой континуума. Метод форсинга Коэна был упрощен в середине 1960 годов сиспользованием аппарата булевых алгебр и новой технологииматематического моделирования, использующей нестандартные модели теории множест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гресс возникшего на этой основе булевозначного анализа продемонстрировал фундаментальное значение расширенных K-пространств. Каждое из таких пространств, как  оказалось совершенно неожиданно, служит равноправной моделью вещественной прямой и, значит, играет в математике ту же фундаментальную роль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странства Канторовича дали новые модели поля вещественных чисел и обрели бессмертие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Уроки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тиворечие между блестящими достижениями и детская неприспособленностью  к практической линии жизни - один из важных парадоксов, оставленных нам Канторовичем. Сама его жизнь стала ярким и загадочным гуманитарным феноменом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нтравертность Канторовича, очевидная в личном общении, совершенно неожиданно  сочеталась с публичной экстравертностью. Отсутствие ораторского дара соседствовало с глубиной логики и особыми приемами полемики. Его внутренняя  свобода и самодостаточность, мягкость, доброта и исключительная скромность стояли в одном ряду с целенаправленной жесткостью и неутомимостью   на пути  к   поставленной цел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Канторович дал нам образец  наилучшего использования   ресурсов  личности  в условиях внешних и внутренних  ограничений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мы для будущег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Мемы  Канторовича востребованы человечеством, что видно по учебным планам любого экономического или  математического факультета в мире. Аппарат математики и идея оптимальности стали подручными орудиями любого практикующего экономиста.Новые методы поставили непреодолимую планку для традиционалистов,  рассматривающих экономику как полигон   технологий  типа маккиавелизма, лизоблюдства, здравого смысла и форсайт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Экономика как вечный партнер математики избежит слияния с любой эзотерической частью гуманитарных наук, политики или беллетристики. Новые  поколения математиков будут смотреть на загадочные проблемы экономики как на  бездонный источник  вдохновения и привлекательную арену приложения и совершенствования своих  безупречно строгих методо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Corbel"/>
              </a:rPr>
              <a:t>Вычисление победит гадание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клад в  нау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ективные множеств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странства Канторович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инейное программир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трика Канторовича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убинштей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циональный раскро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нторович и Акилов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птимальные це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илучшее использование ресур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стоки математики и эконом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тановление науки как инструмента понимания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долгий и сложный процесс. Зарождение ординального счета фиксировано палеолитическими  находками, отделенными десятками тысяч лет от  явления  разумного и хозяйствующего человека. Экономическая практика предваряет предысторию  математики, сформировавшуюся в науку доказательных вычислений в Древней Греции примерно 2500 лет тому назад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Целенаправленное поведение  людей  в условиях ограниченных ресурсов стало объектом науки совсем недавно. Датой рождения экономики как науки принято считать 9 марта 1776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г.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—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день публикации сочинения Адама Смита «Исследование о природе и причинах богатства народов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едмет математики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едмет математики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количественные и пространственные формы человеческого мышления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атематика функционирует как наука доказательных исчислений, постоянно обновляясь и наращивая объем накопленных знан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 временем меняются требования к строгости доказательств и технологиям их получения, возникает деление математики начистую и прикладную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атематика и эконом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атематика  изучает формы мышления. Предмет экономики − обстоятельства  человеческого поведения. Математика абстрактна и доказательна, а профессиональные решения  математиков не задевают обычную жизнь людей. Экономика конкретна и декларативна, а практические  упражнения экономистов основательно  жизнь меняют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Цель математики −   безупречные истины и методы их получения. Цель экономики −  индивидуальное благополучие  и пути его достиж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атематика не вмешивается в личную жизнь человека. Экономика задевает его кошелек и кошелку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писок  коренных различий математики и экономики бесконечен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атематизация эконом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XIX век отмечен  первыми попытками применения математических методов в экономике в работах  Антуана Огюста Курно, Карла Маркса, Уильяма Стенли Джевонса, Леона Вальраса и его преемника по Лозаннскому университету Вильфредо Парето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Математическая экономика −  новация XX века. Именно тогда возникло понимание того, что экономические проблемы требуют совершенно нового  математического аппарата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К экономической проблематике обратились математики первой величины −  Джон фон Нейман и Леонид  Канторович.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ория игр как  аппарат изучения экономического поведения илинейное программирование как аппарат принятия решенийпривели к стремительной математизации экономик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зрывы ментальност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ежду точным и гуманитарным стилями мышления существуют принципиальные различия. Люди склонны к рассуждениям по аналогии и методу неполной индукции, рождающим иллюзию общезначимости знакомых приемов. Различия технологий не всегда выделены отчетливо, что, в свою очередь, способствует самоизоляции и вырождению громадных  разделов наук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Разница в менталитете математиков и экономисто затрудняет их взаимопонимание и сотрудничество. Невидимы, но вездесущи перегородки мышления, изолирующие математическое сообщество от своего экономического визав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солидация мыш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печатляющее многообразие направлений исследований Канторовича объединяется как его личностью, так и его методическими установками. Он всегда подчеркивал внутреннее единство науки, взаимопроникновение идей и методов, необходимых для решения самых разнообразных теоретических иприкладных проблем математики и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экономик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Характерной чертой  творчества Канторовича была ориентация на наиболее трудные проблемы и самые перспективные идеи математики и экономики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воего времен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4:24:42Z</dcterms:created>
  <dc:creator>Kutateladze</dc:creator>
  <dc:description/>
  <dc:language>en-US</dc:language>
  <cp:lastModifiedBy>Kutateladze</cp:lastModifiedBy>
  <dcterms:modified xsi:type="dcterms:W3CDTF">2012-06-16T03:01:18Z</dcterms:modified>
  <cp:revision>23</cp:revision>
  <dc:subject/>
  <dc:title>Математика и экономика Л.В.Канторовича</dc:title>
</cp:coreProperties>
</file>