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2110-2F23-45E5-81C5-80D8F3EC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heduling of computer and manufacturing systems has been the subject of extensive research for over sixty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computers and manufacturing, scheduling theory can be applied to many areas including agriculture, hospita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3EE1-A75F-43CE-A1B8-2D0507702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iscuss a large variety of classes of scheduling problems. These classes are specified in terms of a three-field class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025-250B-45AA-A10D-F08EAEBE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cedence relations may be represented by an acyclic directed graph …., where V corresponds with the job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(i,k) means that Jj must …………..  In this case we write 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C496-2715-44BA-865B-B656507E0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scheduling applications, set of jobs must be grouped into batch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7363-5956-4610-A87A-E3A643E0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pting manufacturing terminology we use the notions of jobs and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5EF9-59AB-4204-8507-AF620401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that m machines … have to process n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70EE-350C-4848-B412-00AA3099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 may be represented by Gantt charts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tt charts may be machine-oriented or job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4D90-2E51-40B2-8154-B1BAE8823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job can consist of a number of op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machines is associated with each operation Oij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Oij may be processed on any of the machines in \mui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ides the processing time of operation Oij on machine Mk is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5D5E-6BBF-4B63-A2B1-D467039A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course we will consider the following tw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when each operation have to be executed on the given mac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E68F-F8C5-43F4-A5B3-D2CAEC42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ach operation may be processed on any of all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3561-CFEC-4411-A440-B705FF570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problem the following characteristics are given for job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3E7-8530-4EB3-9B51-C129F63D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note the starting time of job Ji by si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1B3D-BB31-4657-806A-C086A383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F6A-0A94-4425-9DAE-9F81C015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06A-8F69-484A-9AD9-9B2D2044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B5E-AFEE-4E51-8C13-901AAAF3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104-7319-48EC-BB65-D46D4D52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542-C43A-4E33-8693-017E7DD7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7C8-728B-4D65-BAC8-A4AE0BD8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55E-B4C0-4CE5-A1BF-077AC9C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A50-739A-4B3D-B3C6-9BBF32CF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306-0515-4E18-9B13-4ACDB2B7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302-0406-43D2-A82F-16962B2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C1A-45E3-4E33-B39B-33DFEBFF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096-FE8F-4FD3-8CEB-9F75E17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DDE-9AA9-49DA-8F71-66A974500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Schedul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a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time intervals on the same machine overlap, if no time intervals allocated to the same job overlap, and if, in addition, it meets a number of problem-specific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minimizes a given optimality criter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chine environ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fi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b characteris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ote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ty criter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t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mp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lowed. Otherwise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ppear 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lease dates may be specified for each job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for all jobs t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ppear 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restrictions on the processing times or on the numb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dead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pecified for each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a batch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emption (</a:t>
            </a:r>
            <a:r>
              <a:rPr b="0" i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t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emption of a job or operation means that processing may be interrupted and resumed at a later time, even on another machine. A job or operation may be interrupted severa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371600" y="45720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57600" y="45720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029200" y="50292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676520" y="50292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50292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5029200" y="5486400"/>
            <a:ext cx="7621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895480" y="5486400"/>
            <a:ext cx="18288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371600" y="54864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1371600" y="60199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1440" y="4572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41440" y="5029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414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8155080" y="5867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068120" y="596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1609920" y="594360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30000" y="60199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1"/>
          <p:cNvSpPr/>
          <p:nvPr/>
        </p:nvSpPr>
        <p:spPr>
          <a:xfrm>
            <a:off x="167652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617220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denc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990720" y="1371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6"/>
          <p:cNvSpPr/>
          <p:nvPr/>
        </p:nvSpPr>
        <p:spPr>
          <a:xfrm>
            <a:off x="6858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"/>
          <p:cNvSpPr/>
          <p:nvPr/>
        </p:nvSpPr>
        <p:spPr>
          <a:xfrm>
            <a:off x="1447920" y="22096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8"/>
          <p:cNvSpPr/>
          <p:nvPr/>
        </p:nvSpPr>
        <p:spPr>
          <a:xfrm>
            <a:off x="1447920" y="3048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9"/>
          <p:cNvSpPr/>
          <p:nvPr/>
        </p:nvSpPr>
        <p:spPr>
          <a:xfrm>
            <a:off x="2286000" y="22096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0"/>
          <p:cNvSpPr/>
          <p:nvPr/>
        </p:nvSpPr>
        <p:spPr>
          <a:xfrm>
            <a:off x="2286000" y="3048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1"/>
          <p:cNvSpPr/>
          <p:nvPr/>
        </p:nvSpPr>
        <p:spPr>
          <a:xfrm>
            <a:off x="1447920" y="41148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2"/>
          <p:cNvSpPr/>
          <p:nvPr/>
        </p:nvSpPr>
        <p:spPr>
          <a:xfrm>
            <a:off x="685800" y="48006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3"/>
          <p:cNvSpPr/>
          <p:nvPr/>
        </p:nvSpPr>
        <p:spPr>
          <a:xfrm>
            <a:off x="1447920" y="48769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4"/>
          <p:cNvSpPr/>
          <p:nvPr/>
        </p:nvSpPr>
        <p:spPr>
          <a:xfrm>
            <a:off x="2286000" y="46483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286000" y="53341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6"/>
          <p:cNvSpPr/>
          <p:nvPr/>
        </p:nvSpPr>
        <p:spPr>
          <a:xfrm flipV="1">
            <a:off x="1066680" y="2514240"/>
            <a:ext cx="38124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7"/>
          <p:cNvSpPr/>
          <p:nvPr/>
        </p:nvSpPr>
        <p:spPr>
          <a:xfrm>
            <a:off x="1905120" y="2438280"/>
            <a:ext cx="38088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"/>
          <p:cNvSpPr/>
          <p:nvPr/>
        </p:nvSpPr>
        <p:spPr>
          <a:xfrm>
            <a:off x="1066680" y="3048120"/>
            <a:ext cx="38124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>
            <a:off x="1905120" y="3276720"/>
            <a:ext cx="38088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 flipV="1">
            <a:off x="1828800" y="2590560"/>
            <a:ext cx="53352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>
            <a:off x="1828800" y="2590920"/>
            <a:ext cx="4572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>
            <a:off x="990720" y="3124080"/>
            <a:ext cx="533160" cy="990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V="1">
            <a:off x="1066680" y="4495320"/>
            <a:ext cx="457200" cy="3812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>
            <a:off x="1143000" y="502920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1905120" y="4952880"/>
            <a:ext cx="380880" cy="763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>
            <a:off x="1828800" y="5181480"/>
            <a:ext cx="457200" cy="3049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3200400" y="2133720"/>
            <a:ext cx="5410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4438440" y="3429000"/>
            <a:ext cx="12765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4438440" y="4191120"/>
            <a:ext cx="1276560" cy="579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1005120" y="5943600"/>
            <a:ext cx="678636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bitrary acyclic directed graph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ch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jobs must be processed successively on a machine. The finish time of all jobs in a batch is defined to be equal to the finish time of the last job in the b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up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batch. We assume that this setup time is the same for all batches and sequence indepen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tching probl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o gro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s into batches and to schedule these bat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atch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1066680" y="472428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63560" y="4673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78501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106668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228600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5867280" y="42670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523880" y="4267080"/>
            <a:ext cx="7621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743200" y="4267080"/>
            <a:ext cx="10666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809880" y="426708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4724280" y="42670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6324480" y="4267080"/>
            <a:ext cx="8384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7162920" y="4267080"/>
            <a:ext cx="304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1447920" y="21337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363400" y="20574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t up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1066680" y="2971800"/>
            <a:ext cx="10670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439360" y="289548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3290040" y="5400720"/>
            <a:ext cx="20419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5334120" y="4723920"/>
            <a:ext cx="533160" cy="6858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 rot="5400000">
            <a:off x="4114440" y="251424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3795480" y="3267000"/>
            <a:ext cx="12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hin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cal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lated paralle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low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pen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job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qual to a positive integer 1, 2, ... then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s the number of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rbitrary but fixed number of machi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number of machines is arbitrary we set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cal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64760" y="36576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487120" y="411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556344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159840" y="50292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365832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65832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ll machin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4760" y="36576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5487480" y="41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563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159840" y="502920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6586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365868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7322400" y="350532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7322400" y="457200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8"/>
          <p:cNvSpPr/>
          <p:nvPr/>
        </p:nvSpPr>
        <p:spPr>
          <a:xfrm>
            <a:off x="7398720" y="5638680"/>
            <a:ext cx="90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heduling of computer and manufacturing systems has been the subject of extensive research  for over sixty ye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computers and manufacturing, scheduling theory can be applied to many areas including agriculture, hospitals, transport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focus is on the efficient allocation of one  or more resources to activities over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lated Parallel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a single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ing time of job can be different on each mach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1905120" y="3581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371600" y="487692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6248520" y="54864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63244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6248520" y="4419720"/>
            <a:ext cx="761760" cy="76176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3048120" y="3581280"/>
            <a:ext cx="3200400" cy="15264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48120" y="3962520"/>
            <a:ext cx="3124080" cy="6858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048120" y="4191120"/>
            <a:ext cx="3200400" cy="1523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41080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487120" y="4114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56380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3124080" y="3809520"/>
            <a:ext cx="312444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 flipV="1">
            <a:off x="3124080" y="4800600"/>
            <a:ext cx="2971800" cy="38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124080" y="5334120"/>
            <a:ext cx="304812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3201120" y="4495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3658680" y="472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3658320" y="5105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precedence relations betwee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581280" y="50292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3505320" y="59436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3657600" y="327672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8"/>
          <p:cNvSpPr/>
          <p:nvPr/>
        </p:nvSpPr>
        <p:spPr>
          <a:xfrm>
            <a:off x="3581280" y="4191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1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2"/>
          <p:cNvSpPr/>
          <p:nvPr/>
        </p:nvSpPr>
        <p:spPr>
          <a:xfrm>
            <a:off x="6324480" y="6095880"/>
            <a:ext cx="1752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3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4"/>
          <p:cNvSpPr/>
          <p:nvPr/>
        </p:nvSpPr>
        <p:spPr>
          <a:xfrm flipV="1">
            <a:off x="1752480" y="3733560"/>
            <a:ext cx="18288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5"/>
          <p:cNvSpPr/>
          <p:nvPr/>
        </p:nvSpPr>
        <p:spPr>
          <a:xfrm flipV="1">
            <a:off x="2438280" y="4647960"/>
            <a:ext cx="114300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 flipV="1">
            <a:off x="1676520" y="5333760"/>
            <a:ext cx="182880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7"/>
          <p:cNvSpPr/>
          <p:nvPr/>
        </p:nvSpPr>
        <p:spPr>
          <a:xfrm flipV="1">
            <a:off x="1981080" y="6171840"/>
            <a:ext cx="144792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H="1" flipV="1">
            <a:off x="4419360" y="3733560"/>
            <a:ext cx="20574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9"/>
          <p:cNvSpPr/>
          <p:nvPr/>
        </p:nvSpPr>
        <p:spPr>
          <a:xfrm flipH="1" flipV="1">
            <a:off x="4343400" y="4647960"/>
            <a:ext cx="220968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0"/>
          <p:cNvSpPr/>
          <p:nvPr/>
        </p:nvSpPr>
        <p:spPr>
          <a:xfrm flipH="1" flipV="1">
            <a:off x="4266720" y="5486040"/>
            <a:ext cx="266724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1"/>
          <p:cNvSpPr/>
          <p:nvPr/>
        </p:nvSpPr>
        <p:spPr>
          <a:xfrm flipH="1" flipV="1">
            <a:off x="4267080" y="6248160"/>
            <a:ext cx="1905120" cy="759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3581280" y="50292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0"/>
          <p:cNvSpPr/>
          <p:nvPr/>
        </p:nvSpPr>
        <p:spPr>
          <a:xfrm>
            <a:off x="3505320" y="59436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1"/>
          <p:cNvSpPr/>
          <p:nvPr/>
        </p:nvSpPr>
        <p:spPr>
          <a:xfrm>
            <a:off x="3657600" y="327672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>
            <a:off x="3581280" y="419112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6324480" y="6095880"/>
            <a:ext cx="17528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 flipV="1">
            <a:off x="1752480" y="3733560"/>
            <a:ext cx="1828800" cy="5331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 flipV="1">
            <a:off x="2438280" y="4647960"/>
            <a:ext cx="114300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 flipV="1">
            <a:off x="1676520" y="5333760"/>
            <a:ext cx="182880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 flipV="1">
            <a:off x="1981080" y="6171840"/>
            <a:ext cx="144792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H="1" flipV="1">
            <a:off x="4419360" y="3733560"/>
            <a:ext cx="205740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 flipH="1" flipV="1">
            <a:off x="4343400" y="4647960"/>
            <a:ext cx="220968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 flipH="1" flipV="1">
            <a:off x="4266720" y="5486040"/>
            <a:ext cx="266724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 flipH="1" flipV="1">
            <a:off x="4267080" y="6248160"/>
            <a:ext cx="1905120" cy="759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sible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5943600" y="2057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1905120" y="25146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657600" y="297180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648320" y="342900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3657600" y="20574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5181480" y="25146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6553080" y="297180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1905120" y="3429000"/>
            <a:ext cx="1752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3429000" y="46483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4800600" y="51055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8"/>
          <p:cNvSpPr/>
          <p:nvPr/>
        </p:nvSpPr>
        <p:spPr>
          <a:xfrm>
            <a:off x="6553080" y="556272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754380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1905120" y="464832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3429000" y="510552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2"/>
          <p:cNvSpPr/>
          <p:nvPr/>
        </p:nvSpPr>
        <p:spPr>
          <a:xfrm>
            <a:off x="4800600" y="556272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3"/>
          <p:cNvSpPr/>
          <p:nvPr/>
        </p:nvSpPr>
        <p:spPr>
          <a:xfrm>
            <a:off x="5791320" y="6019920"/>
            <a:ext cx="17524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4"/>
          <p:cNvSpPr/>
          <p:nvPr/>
        </p:nvSpPr>
        <p:spPr>
          <a:xfrm>
            <a:off x="288720" y="2381400"/>
            <a:ext cx="115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6"/>
          <p:cNvSpPr/>
          <p:nvPr/>
        </p:nvSpPr>
        <p:spPr>
          <a:xfrm>
            <a:off x="304920" y="487692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job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a set of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hines are ded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...→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,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3520" y="40384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33520" y="4648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3520" y="533412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33520" y="60199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845280" y="3200400"/>
            <a:ext cx="48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/>
          <p:cNvSpPr/>
          <p:nvPr/>
        </p:nvSpPr>
        <p:spPr>
          <a:xfrm>
            <a:off x="3581280" y="541008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1"/>
          <p:cNvSpPr/>
          <p:nvPr/>
        </p:nvSpPr>
        <p:spPr>
          <a:xfrm>
            <a:off x="3581280" y="3657600"/>
            <a:ext cx="685800" cy="685800"/>
          </a:xfrm>
          <a:custGeom>
            <a:avLst/>
            <a:gdLst>
              <a:gd name="textAreaLeft" fmla="*/ 137880 w 685800"/>
              <a:gd name="textAreaRight" fmla="*/ 547920 w 685800"/>
              <a:gd name="textAreaTop" fmla="*/ 137880 h 685800"/>
              <a:gd name="textAreaBottom" fmla="*/ 5479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2"/>
          <p:cNvSpPr/>
          <p:nvPr/>
        </p:nvSpPr>
        <p:spPr>
          <a:xfrm>
            <a:off x="3581280" y="457200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6553080" y="411480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6705720" y="47242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7086600" y="5410080"/>
            <a:ext cx="9907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7326720" y="3276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V="1">
            <a:off x="1752480" y="4038120"/>
            <a:ext cx="1752840" cy="2286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38280" y="4800600"/>
            <a:ext cx="106704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1676520" y="5562720"/>
            <a:ext cx="1752480" cy="152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 flipV="1">
            <a:off x="1981080" y="5181120"/>
            <a:ext cx="1600200" cy="114300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 flipH="1">
            <a:off x="4343040" y="4343400"/>
            <a:ext cx="21337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 flipH="1">
            <a:off x="4343400" y="4876920"/>
            <a:ext cx="2209680" cy="838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4"/>
          <p:cNvSpPr/>
          <p:nvPr/>
        </p:nvSpPr>
        <p:spPr>
          <a:xfrm flipH="1" flipV="1">
            <a:off x="4266720" y="4190760"/>
            <a:ext cx="2667240" cy="1447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cos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457200" y="1808280"/>
                <a:ext cx="8381880" cy="37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denote the  </m:t>
                        </m:r>
                        <m:r>
                          <m:rPr>
                            <m:lit/>
                            <m:nor/>
                          </m:rPr>
                          <m:t xml:space="preserve">finish time  </m:t>
                        </m:r>
                        <m:r>
                          <m:rPr>
                            <m:lit/>
                            <m:nor/>
                          </m:rPr>
                          <m:t xml:space="preserve">of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the associated  </m:t>
                        </m:r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  <m:r>
                          <m:rPr>
                            <m:lit/>
                            <m:nor/>
                          </m:rPr>
                          <m:t xml:space="preserve">  by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ssentially two types of total cost functions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nary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led  </m:t>
                        </m:r>
                        <m:r>
                          <m:rPr>
                            <m:lit/>
                            <m:nor/>
                          </m:rPr>
                          <m:t xml:space="preserve">bottleneck objectives  </m:t>
                        </m:r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rPr>
                            <m:lit/>
                            <m:nor/>
                          </m:rPr>
                          <m:t xml:space="preserve">sum objectives</m:t>
                        </m:r>
                        <m:r>
                          <m:rPr>
                            <m:lit/>
                            <m:nor/>
                          </m:rPr>
                          <m:t xml:space="preserve">, respectivel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 </m:t>
                        </m:r>
                        <m:r>
                          <m:rPr>
                            <m:lit/>
                            <m:nor/>
                          </m:rPr>
                          <m:t xml:space="preserve">scheduling problem  </m:t>
                        </m:r>
                        <m:r>
                          <m:rPr>
                            <m:lit/>
                            <m:nor/>
                          </m:rPr>
                          <m:t xml:space="preserve">is to find a feasible schedul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minimizes the total cost fun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609480" y="1511280"/>
                <a:ext cx="731520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functions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not specified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set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pecial functions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 makespan  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…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otal flow time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weight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low time 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depend on due 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397160" y="1905120"/>
                <a:ext cx="5892480" cy="38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 define for each job 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</m:e>
                      <m:e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lateness,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earliness,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tardiness,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if   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≤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otherwise 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rPr>
                            <m:lit/>
                            <m:nor/>
                          </m:rPr>
                          <m:t xml:space="preserve">unit penalt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ive function which is monotone with respect to all variabl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it is not possible to schedule jobs (operations) early without violating some constr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ia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job (operation) can be processed earlier without changing the processing order or violating the constra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ec,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6858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1447920" y="3276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259092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343400" y="26668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1447920" y="205740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 flipV="1">
            <a:off x="1066680" y="2437920"/>
            <a:ext cx="457200" cy="3049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0"/>
          <p:cNvSpPr/>
          <p:nvPr/>
        </p:nvSpPr>
        <p:spPr>
          <a:xfrm>
            <a:off x="1905120" y="2209680"/>
            <a:ext cx="144756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1"/>
          <p:cNvSpPr/>
          <p:nvPr/>
        </p:nvSpPr>
        <p:spPr>
          <a:xfrm>
            <a:off x="1066680" y="3048120"/>
            <a:ext cx="457200" cy="30456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2"/>
          <p:cNvSpPr/>
          <p:nvPr/>
        </p:nvSpPr>
        <p:spPr>
          <a:xfrm>
            <a:off x="1905120" y="3505320"/>
            <a:ext cx="1447560" cy="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3"/>
          <p:cNvSpPr/>
          <p:nvPr/>
        </p:nvSpPr>
        <p:spPr>
          <a:xfrm flipV="1">
            <a:off x="1905120" y="2971800"/>
            <a:ext cx="68580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5"/>
          <p:cNvSpPr/>
          <p:nvPr/>
        </p:nvSpPr>
        <p:spPr>
          <a:xfrm>
            <a:off x="3352680" y="198108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6"/>
          <p:cNvSpPr/>
          <p:nvPr/>
        </p:nvSpPr>
        <p:spPr>
          <a:xfrm>
            <a:off x="3352680" y="3276720"/>
            <a:ext cx="430200" cy="43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7"/>
          <p:cNvSpPr/>
          <p:nvPr/>
        </p:nvSpPr>
        <p:spPr>
          <a:xfrm flipV="1">
            <a:off x="3809880" y="2971800"/>
            <a:ext cx="53352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8"/>
          <p:cNvSpPr/>
          <p:nvPr/>
        </p:nvSpPr>
        <p:spPr>
          <a:xfrm>
            <a:off x="3809880" y="2286000"/>
            <a:ext cx="60984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1905120" y="2362320"/>
            <a:ext cx="761760" cy="3808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6079680" y="25336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8"/>
          <p:cNvSpPr/>
          <p:nvPr/>
        </p:nvSpPr>
        <p:spPr>
          <a:xfrm>
            <a:off x="13716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9"/>
          <p:cNvSpPr/>
          <p:nvPr/>
        </p:nvSpPr>
        <p:spPr>
          <a:xfrm>
            <a:off x="1371600" y="6019920"/>
            <a:ext cx="2743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"/>
          <p:cNvSpPr/>
          <p:nvPr/>
        </p:nvSpPr>
        <p:spPr>
          <a:xfrm>
            <a:off x="541440" y="5029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2"/>
          <p:cNvSpPr/>
          <p:nvPr/>
        </p:nvSpPr>
        <p:spPr>
          <a:xfrm>
            <a:off x="541440" y="54864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3"/>
          <p:cNvSpPr/>
          <p:nvPr/>
        </p:nvSpPr>
        <p:spPr>
          <a:xfrm>
            <a:off x="4040280" y="5943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4"/>
          <p:cNvSpPr/>
          <p:nvPr/>
        </p:nvSpPr>
        <p:spPr>
          <a:xfrm>
            <a:off x="1068120" y="596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22860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27432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2286000" y="5029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2"/>
          <p:cNvSpPr/>
          <p:nvPr/>
        </p:nvSpPr>
        <p:spPr>
          <a:xfrm>
            <a:off x="1828800" y="5029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18288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4"/>
          <p:cNvSpPr/>
          <p:nvPr/>
        </p:nvSpPr>
        <p:spPr>
          <a:xfrm>
            <a:off x="3200400" y="5486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5"/>
          <p:cNvSpPr/>
          <p:nvPr/>
        </p:nvSpPr>
        <p:spPr>
          <a:xfrm>
            <a:off x="6048000" y="4800600"/>
            <a:ext cx="149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914400" y="4114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914400" y="33526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09680" y="41148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09680" y="33526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400800" y="40384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715000" y="342900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5181480" y="42670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447920" y="1600200"/>
            <a:ext cx="1190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5257800" y="1676520"/>
            <a:ext cx="23814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chin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WordArt 12"/>
          <p:cNvSpPr txBox="1"/>
          <p:nvPr/>
        </p:nvSpPr>
        <p:spPr>
          <a:xfrm>
            <a:off x="6019920" y="3581280"/>
            <a:ext cx="171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1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WordArt 13"/>
          <p:cNvSpPr txBox="1"/>
          <p:nvPr/>
        </p:nvSpPr>
        <p:spPr>
          <a:xfrm>
            <a:off x="5486400" y="4419720"/>
            <a:ext cx="2001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WordArt 14"/>
          <p:cNvSpPr txBox="1"/>
          <p:nvPr/>
        </p:nvSpPr>
        <p:spPr>
          <a:xfrm>
            <a:off x="6705720" y="4191120"/>
            <a:ext cx="199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541080" y="2514600"/>
            <a:ext cx="3088440" cy="71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 ... 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4810680" y="2540160"/>
            <a:ext cx="3375000" cy="71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, ... 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533520" y="518148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for each job an allocation of one or more time intervals on one or more mach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(1|batch|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09480" y="1905120"/>
          <a:ext cx="4648320" cy="155412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4920"/>
                <a:gridCol w="662040"/>
                <a:gridCol w="665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 Box 41"/>
          <p:cNvSpPr/>
          <p:nvPr/>
        </p:nvSpPr>
        <p:spPr>
          <a:xfrm>
            <a:off x="6080040" y="2533680"/>
            <a:ext cx="9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2"/>
          <p:cNvSpPr/>
          <p:nvPr/>
        </p:nvSpPr>
        <p:spPr>
          <a:xfrm>
            <a:off x="533520" y="4800600"/>
            <a:ext cx="73152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3"/>
          <p:cNvSpPr/>
          <p:nvPr/>
        </p:nvSpPr>
        <p:spPr>
          <a:xfrm>
            <a:off x="230040" y="474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7850160" y="4800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5335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6"/>
          <p:cNvSpPr/>
          <p:nvPr/>
        </p:nvSpPr>
        <p:spPr>
          <a:xfrm>
            <a:off x="19051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7"/>
          <p:cNvSpPr/>
          <p:nvPr/>
        </p:nvSpPr>
        <p:spPr>
          <a:xfrm>
            <a:off x="5105520" y="43434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8"/>
          <p:cNvSpPr/>
          <p:nvPr/>
        </p:nvSpPr>
        <p:spPr>
          <a:xfrm>
            <a:off x="990720" y="43434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9"/>
          <p:cNvSpPr/>
          <p:nvPr/>
        </p:nvSpPr>
        <p:spPr>
          <a:xfrm>
            <a:off x="2362320" y="43434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0"/>
          <p:cNvSpPr/>
          <p:nvPr/>
        </p:nvSpPr>
        <p:spPr>
          <a:xfrm>
            <a:off x="3276720" y="43434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1"/>
          <p:cNvSpPr/>
          <p:nvPr/>
        </p:nvSpPr>
        <p:spPr>
          <a:xfrm>
            <a:off x="4648320" y="43434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5562720" y="4343400"/>
            <a:ext cx="1371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3"/>
          <p:cNvSpPr/>
          <p:nvPr/>
        </p:nvSpPr>
        <p:spPr>
          <a:xfrm>
            <a:off x="6934320" y="43434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5"/>
          <p:cNvSpPr/>
          <p:nvPr/>
        </p:nvSpPr>
        <p:spPr>
          <a:xfrm>
            <a:off x="8395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22111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7"/>
          <p:cNvSpPr/>
          <p:nvPr/>
        </p:nvSpPr>
        <p:spPr>
          <a:xfrm>
            <a:off x="48016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541116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9"/>
          <p:cNvSpPr/>
          <p:nvPr/>
        </p:nvSpPr>
        <p:spPr>
          <a:xfrm>
            <a:off x="716400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0"/>
          <p:cNvSpPr/>
          <p:nvPr/>
        </p:nvSpPr>
        <p:spPr>
          <a:xfrm>
            <a:off x="16779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2"/>
          <p:cNvSpPr/>
          <p:nvPr/>
        </p:nvSpPr>
        <p:spPr>
          <a:xfrm>
            <a:off x="334080" y="5715000"/>
            <a:ext cx="832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·3+(1+4+4)·10+(1+4)·15=1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3 (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mt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057400" y="1752480"/>
          <a:ext cx="4876920" cy="2210040"/>
        </p:xfrm>
        <a:graphic>
          <a:graphicData uri="http://schemas.openxmlformats.org/drawingml/2006/table">
            <a:tbl>
              <a:tblPr/>
              <a:tblGrid>
                <a:gridCol w="974880"/>
                <a:gridCol w="976320"/>
                <a:gridCol w="974520"/>
                <a:gridCol w="976320"/>
                <a:gridCol w="974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Line 38"/>
          <p:cNvSpPr/>
          <p:nvPr/>
        </p:nvSpPr>
        <p:spPr>
          <a:xfrm>
            <a:off x="762120" y="525780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458640" y="5207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5640480" y="5257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1"/>
          <p:cNvSpPr/>
          <p:nvPr/>
        </p:nvSpPr>
        <p:spPr>
          <a:xfrm>
            <a:off x="762120" y="48006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3"/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4"/>
          <p:cNvSpPr/>
          <p:nvPr/>
        </p:nvSpPr>
        <p:spPr>
          <a:xfrm>
            <a:off x="12193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133720" y="48006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8"/>
          <p:cNvSpPr/>
          <p:nvPr/>
        </p:nvSpPr>
        <p:spPr>
          <a:xfrm>
            <a:off x="3962520" y="4800600"/>
            <a:ext cx="9144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1076760" y="518148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6"/>
          <p:cNvSpPr/>
          <p:nvPr/>
        </p:nvSpPr>
        <p:spPr>
          <a:xfrm>
            <a:off x="16765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7"/>
          <p:cNvSpPr/>
          <p:nvPr/>
        </p:nvSpPr>
        <p:spPr>
          <a:xfrm>
            <a:off x="304812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8"/>
          <p:cNvSpPr/>
          <p:nvPr/>
        </p:nvSpPr>
        <p:spPr>
          <a:xfrm>
            <a:off x="3819960" y="518148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9"/>
          <p:cNvSpPr/>
          <p:nvPr/>
        </p:nvSpPr>
        <p:spPr>
          <a:xfrm>
            <a:off x="1466280" y="5181480"/>
            <a:ext cx="9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0"/>
          <p:cNvSpPr/>
          <p:nvPr/>
        </p:nvSpPr>
        <p:spPr>
          <a:xfrm>
            <a:off x="12193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1"/>
          <p:cNvSpPr/>
          <p:nvPr/>
        </p:nvSpPr>
        <p:spPr>
          <a:xfrm>
            <a:off x="16765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2"/>
          <p:cNvSpPr/>
          <p:nvPr/>
        </p:nvSpPr>
        <p:spPr>
          <a:xfrm>
            <a:off x="39625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63"/>
          <p:cNvSpPr/>
          <p:nvPr/>
        </p:nvSpPr>
        <p:spPr>
          <a:xfrm>
            <a:off x="25909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4"/>
          <p:cNvSpPr/>
          <p:nvPr/>
        </p:nvSpPr>
        <p:spPr>
          <a:xfrm>
            <a:off x="441972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5"/>
          <p:cNvSpPr/>
          <p:nvPr/>
        </p:nvSpPr>
        <p:spPr>
          <a:xfrm>
            <a:off x="145764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6"/>
          <p:cNvSpPr/>
          <p:nvPr/>
        </p:nvSpPr>
        <p:spPr>
          <a:xfrm>
            <a:off x="191484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2448360" y="5562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8"/>
          <p:cNvSpPr/>
          <p:nvPr/>
        </p:nvSpPr>
        <p:spPr>
          <a:xfrm>
            <a:off x="4200840" y="56386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9"/>
          <p:cNvSpPr/>
          <p:nvPr/>
        </p:nvSpPr>
        <p:spPr>
          <a:xfrm>
            <a:off x="6809760" y="4572000"/>
            <a:ext cx="1449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4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2286000" y="1447920"/>
          <a:ext cx="4114800" cy="310824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  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Rectangle 60"/>
          <p:cNvSpPr/>
          <p:nvPr/>
        </p:nvSpPr>
        <p:spPr>
          <a:xfrm>
            <a:off x="20574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61"/>
          <p:cNvSpPr/>
          <p:nvPr/>
        </p:nvSpPr>
        <p:spPr>
          <a:xfrm flipV="1">
            <a:off x="2057400" y="6324480"/>
            <a:ext cx="3200400" cy="30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2"/>
          <p:cNvSpPr/>
          <p:nvPr/>
        </p:nvSpPr>
        <p:spPr>
          <a:xfrm>
            <a:off x="1227240" y="53640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3"/>
          <p:cNvSpPr/>
          <p:nvPr/>
        </p:nvSpPr>
        <p:spPr>
          <a:xfrm>
            <a:off x="1227240" y="582120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4"/>
          <p:cNvSpPr/>
          <p:nvPr/>
        </p:nvSpPr>
        <p:spPr>
          <a:xfrm>
            <a:off x="5106960" y="62784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5"/>
          <p:cNvSpPr/>
          <p:nvPr/>
        </p:nvSpPr>
        <p:spPr>
          <a:xfrm>
            <a:off x="1753920" y="6303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6"/>
          <p:cNvSpPr/>
          <p:nvPr/>
        </p:nvSpPr>
        <p:spPr>
          <a:xfrm>
            <a:off x="29718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7"/>
          <p:cNvSpPr/>
          <p:nvPr/>
        </p:nvSpPr>
        <p:spPr>
          <a:xfrm>
            <a:off x="34290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8"/>
          <p:cNvSpPr/>
          <p:nvPr/>
        </p:nvSpPr>
        <p:spPr>
          <a:xfrm>
            <a:off x="2971800" y="53640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9"/>
          <p:cNvSpPr/>
          <p:nvPr/>
        </p:nvSpPr>
        <p:spPr>
          <a:xfrm>
            <a:off x="20574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0"/>
          <p:cNvSpPr/>
          <p:nvPr/>
        </p:nvSpPr>
        <p:spPr>
          <a:xfrm>
            <a:off x="25146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1"/>
          <p:cNvSpPr/>
          <p:nvPr/>
        </p:nvSpPr>
        <p:spPr>
          <a:xfrm>
            <a:off x="38862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2"/>
          <p:cNvSpPr/>
          <p:nvPr/>
        </p:nvSpPr>
        <p:spPr>
          <a:xfrm>
            <a:off x="1227240" y="49528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73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4"/>
          <p:cNvSpPr/>
          <p:nvPr/>
        </p:nvSpPr>
        <p:spPr>
          <a:xfrm>
            <a:off x="25146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5"/>
          <p:cNvSpPr/>
          <p:nvPr/>
        </p:nvSpPr>
        <p:spPr>
          <a:xfrm>
            <a:off x="29718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6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7"/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8"/>
          <p:cNvSpPr/>
          <p:nvPr/>
        </p:nvSpPr>
        <p:spPr>
          <a:xfrm>
            <a:off x="38862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79"/>
          <p:cNvSpPr/>
          <p:nvPr/>
        </p:nvSpPr>
        <p:spPr>
          <a:xfrm>
            <a:off x="4343400" y="48769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0"/>
          <p:cNvSpPr/>
          <p:nvPr/>
        </p:nvSpPr>
        <p:spPr>
          <a:xfrm>
            <a:off x="4343400" y="582120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γ, 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gular objective functions. Which of the following are regular? If you say a function is regular, prove it. If you say otherwise, give an example to show that it i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or so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n inst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γ, where γ is a regular objective function, show that there exists an active schedule which is opt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1143000" y="50292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124080" y="457200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95680" y="50292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143000" y="45720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3124080" y="411480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4495680" y="4114800"/>
            <a:ext cx="76212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2666880" y="5029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43000" y="4114800"/>
            <a:ext cx="1523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5257800" y="5486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1143000" y="601992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066680" y="175248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3048120" y="1752480"/>
            <a:ext cx="2514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441972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1066680" y="22096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3048120" y="2209680"/>
            <a:ext cx="13716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4419720" y="2666880"/>
            <a:ext cx="76176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2590920" y="2666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1066680" y="2666880"/>
            <a:ext cx="1524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5181480" y="2666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1066680" y="3200400"/>
            <a:ext cx="6858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1"/>
          <p:cNvSpPr/>
          <p:nvPr/>
        </p:nvSpPr>
        <p:spPr>
          <a:xfrm>
            <a:off x="236880" y="17524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236880" y="22096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36880" y="266688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389160" y="4038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389160" y="4495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389160" y="5029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3"/>
          <p:cNvSpPr/>
          <p:nvPr/>
        </p:nvSpPr>
        <p:spPr>
          <a:xfrm>
            <a:off x="389160" y="5486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7850160" y="30481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7926480" y="59436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7"/>
          <p:cNvSpPr/>
          <p:nvPr/>
        </p:nvSpPr>
        <p:spPr>
          <a:xfrm>
            <a:off x="763560" y="314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9"/>
          <p:cNvSpPr/>
          <p:nvPr/>
        </p:nvSpPr>
        <p:spPr>
          <a:xfrm>
            <a:off x="83952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7200" y="28195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3520" y="1752480"/>
            <a:ext cx="1190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WordArt 12"/>
          <p:cNvSpPr txBox="1"/>
          <p:nvPr/>
        </p:nvSpPr>
        <p:spPr>
          <a:xfrm>
            <a:off x="2666880" y="1600200"/>
            <a:ext cx="24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erations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743200" y="251460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2743200" y="312408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2743200" y="3809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74320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6781680" y="33526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2"/>
          <p:cNvSpPr/>
          <p:nvPr/>
        </p:nvSpPr>
        <p:spPr>
          <a:xfrm>
            <a:off x="6629400" y="42670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25"/>
          <p:cNvSpPr txBox="1"/>
          <p:nvPr/>
        </p:nvSpPr>
        <p:spPr>
          <a:xfrm>
            <a:off x="6400800" y="1447920"/>
            <a:ext cx="23814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chin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7696080" y="2590920"/>
            <a:ext cx="762120" cy="76176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7772400" y="365760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6019920" y="2590920"/>
            <a:ext cx="761760" cy="76176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5715000" y="3581280"/>
            <a:ext cx="762120" cy="76212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4"/>
          <p:cNvSpPr/>
          <p:nvPr/>
        </p:nvSpPr>
        <p:spPr>
          <a:xfrm>
            <a:off x="5638680" y="2286000"/>
            <a:ext cx="2057400" cy="3429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6249600" y="4913280"/>
            <a:ext cx="649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6"/>
          <p:cNvSpPr/>
          <p:nvPr/>
        </p:nvSpPr>
        <p:spPr>
          <a:xfrm flipV="1">
            <a:off x="4495680" y="3124080"/>
            <a:ext cx="1219320" cy="1371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7"/>
          <p:cNvSpPr/>
          <p:nvPr/>
        </p:nvSpPr>
        <p:spPr>
          <a:xfrm>
            <a:off x="4572000" y="4952880"/>
            <a:ext cx="16002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 rot="16200000">
            <a:off x="3504960" y="4190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3486240" y="5172120"/>
            <a:ext cx="67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dicated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33520" y="304812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362320" y="25909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362320" y="32004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362320" y="388620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362320" y="45720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6248520" y="4114800"/>
            <a:ext cx="761760" cy="762120"/>
          </a:xfrm>
          <a:custGeom>
            <a:avLst/>
            <a:gdLst>
              <a:gd name="textAreaLeft" fmla="*/ 153000 w 761760"/>
              <a:gd name="textAreaRight" fmla="*/ 608760 w 76176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238880" y="4876920"/>
            <a:ext cx="762120" cy="761760"/>
          </a:xfrm>
          <a:custGeom>
            <a:avLst/>
            <a:gdLst>
              <a:gd name="textAreaLeft" fmla="*/ 173880 w 762120"/>
              <a:gd name="textAreaRight" fmla="*/ 588240 w 76212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6095880" y="2590920"/>
            <a:ext cx="762120" cy="76176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1760"/>
              <a:gd name="textAreaBottom" fmla="*/ 6087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7162920" y="32004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934320" y="480060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429000" y="4191120"/>
            <a:ext cx="2514600" cy="759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4191120" y="4800600"/>
            <a:ext cx="2743200" cy="68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1"/>
          <p:cNvSpPr/>
          <p:nvPr/>
        </p:nvSpPr>
        <p:spPr>
          <a:xfrm rot="16200000">
            <a:off x="3124080" y="4266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046320" y="52484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3"/>
          <p:cNvSpPr/>
          <p:nvPr/>
        </p:nvSpPr>
        <p:spPr>
          <a:xfrm>
            <a:off x="5943600" y="396252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4"/>
          <p:cNvSpPr/>
          <p:nvPr/>
        </p:nvSpPr>
        <p:spPr>
          <a:xfrm>
            <a:off x="6934320" y="3048120"/>
            <a:ext cx="1295280" cy="10666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5"/>
          <p:cNvSpPr/>
          <p:nvPr/>
        </p:nvSpPr>
        <p:spPr>
          <a:xfrm>
            <a:off x="5715000" y="2438280"/>
            <a:ext cx="1295280" cy="106704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3733920" y="2895480"/>
            <a:ext cx="182880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4648320" y="3581280"/>
            <a:ext cx="2133360" cy="763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843480" y="1398600"/>
            <a:ext cx="466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one element 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allel Mach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85800" y="33526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90920" y="28195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590920" y="342900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90920" y="411480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590920" y="480060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629400" y="365760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6477120" y="45720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5867280" y="2895480"/>
            <a:ext cx="762120" cy="762120"/>
          </a:xfrm>
          <a:custGeom>
            <a:avLst/>
            <a:gdLst>
              <a:gd name="textAreaLeft" fmla="*/ 153000 w 762120"/>
              <a:gd name="textAreaRight" fmla="*/ 609120 w 762120"/>
              <a:gd name="textAreaTop" fmla="*/ 153000 h 762120"/>
              <a:gd name="textAreaBottom" fmla="*/ 609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30" y="14222"/>
                </a:lnTo>
                <a:lnTo>
                  <a:pt x="3163" y="18437"/>
                </a:lnTo>
                <a:lnTo>
                  <a:pt x="7231" y="19209"/>
                </a:lnTo>
                <a:lnTo>
                  <a:pt x="10800" y="21600"/>
                </a:lnTo>
                <a:lnTo>
                  <a:pt x="14222" y="19270"/>
                </a:lnTo>
                <a:lnTo>
                  <a:pt x="18437" y="18437"/>
                </a:lnTo>
                <a:lnTo>
                  <a:pt x="19209" y="14369"/>
                </a:lnTo>
                <a:lnTo>
                  <a:pt x="21600" y="10800"/>
                </a:lnTo>
                <a:lnTo>
                  <a:pt x="19270" y="7378"/>
                </a:lnTo>
                <a:lnTo>
                  <a:pt x="18437" y="3163"/>
                </a:lnTo>
                <a:lnTo>
                  <a:pt x="14369" y="2391"/>
                </a:lnTo>
                <a:lnTo>
                  <a:pt x="10800" y="0"/>
                </a:lnTo>
                <a:lnTo>
                  <a:pt x="7378" y="2330"/>
                </a:lnTo>
                <a:lnTo>
                  <a:pt x="3163" y="3163"/>
                </a:lnTo>
                <a:lnTo>
                  <a:pt x="2391" y="723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5562720" y="3886200"/>
            <a:ext cx="761760" cy="762120"/>
          </a:xfrm>
          <a:custGeom>
            <a:avLst/>
            <a:gdLst>
              <a:gd name="textAreaLeft" fmla="*/ 173880 w 761760"/>
              <a:gd name="textAreaRight" fmla="*/ 587880 w 76176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5486400" y="2590920"/>
            <a:ext cx="2057400" cy="3429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3962520" y="2819160"/>
            <a:ext cx="190476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419720" y="5257800"/>
            <a:ext cx="1600200" cy="6094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900000" y="1459080"/>
            <a:ext cx="7025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equal to the set of al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Da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ing requir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sociated with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measures the cost of comple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d Completio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σ)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ing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hedule 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σ)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ion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jo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chedule 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7:26:38Z</dcterms:created>
  <dc:creator>Kononov</dc:creator>
  <dc:description/>
  <dc:language>en-US</dc:language>
  <cp:lastModifiedBy>Alexander Kononov</cp:lastModifiedBy>
  <dcterms:modified xsi:type="dcterms:W3CDTF">2016-02-09T13:30:29Z</dcterms:modified>
  <cp:revision>78</cp:revision>
  <dc:subject/>
  <dc:title>Classification of Scheduling Problems</dc:title>
</cp:coreProperties>
</file>