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E43-50DA-470A-AA3C-EA5DA477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770-05CF-42AD-82DC-AE6C4A17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9A4-D9F4-4670-A8D6-1C3CF928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04E-CE68-405F-BBB6-1819101E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CE2-CFD8-4BE8-ACDE-DFDE9C74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4E0-7A97-4586-A508-10D3DD65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BDE-200D-4D6E-86F3-631A650E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5BB-95A4-420D-9AA5-7D7FD99E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55A-DC30-48AE-9921-03420D21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491-3D05-47BB-AAB5-1DCD31DE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D46-D928-4A33-859C-690D30A4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2F5-1B11-4FD2-B5B7-35B13CF2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3074-1156-49D9-B731-B2AD6658B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ion Algorithms for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 are denoted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number of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s are deno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when there is more than one machine, we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note the number of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assignment of jobs to machines and associated starting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..., 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si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asible schedule will have the property that at any point in time a machine processes at most one job at a time; that is if two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ssigned to the same machine then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note the time at whi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s processing in given schedule, i.e.,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chedule associated with a given algorith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noted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denc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228600" y="1752480"/>
                <a:ext cx="8534520" cy="358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The sum of the job processing times of a set of jobs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 is deno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we use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to denote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 sum of all processing tim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In some cases we have </m:t>
                        </m:r>
                        <m:r>
                          <m:rPr>
                            <m:lit/>
                            <m:nor/>
                          </m:rPr>
                          <m:t xml:space="preserve">precedence constraints </m:t>
                        </m:r>
                        <m:r>
                          <m:rPr>
                            <m:lit/>
                            <m:nor/>
                          </m:rPr>
                          <m:t xml:space="preserve">among jobs; that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partitial order </m:t>
                        </m:r>
                        <m:r>
                          <m:t xml:space="preserve">≺</m:t>
                        </m:r>
                        <m:r>
                          <m:rPr>
                            <m:lit/>
                            <m:nor/>
                          </m:rPr>
                          <m:t xml:space="preserve"> on the set of jobs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≺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mplies that job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anno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gin until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completed process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e say that the jobs ar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ependent </m:t>
                        </m:r>
                        <m:r>
                          <m:rPr>
                            <m:lit/>
                            <m:nor/>
                          </m:rPr>
                          <m:t xml:space="preserve">when there are no precedence constraints in the mode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ider scheduling problem on a single machine. In a given instance,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ue date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ociated with it, as well as a processing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 for a given schedul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defin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e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 job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in particular, if the job completes before its due date, its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es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negative. Our goal find a schedule that minimizes the maximum lateness over all job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457200" y="5257800"/>
                <a:ext cx="830592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lim>
                        </m:limLow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denote the minimum value of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ver all schedules as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ivery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a new model with delivery times. In this model, each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processed on the machine and then spend an additional amount of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ing delivered. Thi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interpreted as an additional processing requirement on a non-bottleneck machine, or as a physical delivery (travel)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ivery-completion ti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2666880" y="4114800"/>
                <a:ext cx="3353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we introduce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lease da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model: 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egin its processing before its release d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is problem is strong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ard; a reduction from                    3-PARTITION is relatively straightfor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B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523880" y="2743200"/>
                <a:ext cx="60962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≥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;</m:t>
                        </m:r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Scheduling Algorithm (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us first consider a straightforward generalization of Graha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list scheduling algorith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whenever the machine becomes available, schedule the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vailab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on the list. A job is defined a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has already been rel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Theorem 10.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this bound is t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1143000" y="2895480"/>
                <a:ext cx="2438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sup>
                    </m:sSubSup>
                    <m:r>
                      <m:t xml:space="preserve">&lt;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228600" y="2362320"/>
                <a:ext cx="8686800" cy="24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an instance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of the scheduling problem and an assosia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st-processing schedule given by Algorithm 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 the jo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ose lateness attains that of the schedule,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i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is no idle time on the machine between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we have</m:t>
                        </m:r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&lt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3|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. Given natur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re a sub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 {1,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 job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re exist a schedul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600200" y="48006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1073160" y="466236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1073160" y="496728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1073160" y="527220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4"/>
          <p:cNvSpPr/>
          <p:nvPr/>
        </p:nvSpPr>
        <p:spPr>
          <a:xfrm>
            <a:off x="1600200" y="5791320"/>
            <a:ext cx="5029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6"/>
          <p:cNvSpPr/>
          <p:nvPr/>
        </p:nvSpPr>
        <p:spPr>
          <a:xfrm>
            <a:off x="5257800" y="46483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3844440" y="579132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1"/>
          <p:cNvSpPr/>
          <p:nvPr/>
        </p:nvSpPr>
        <p:spPr>
          <a:xfrm>
            <a:off x="5063760" y="579132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2"/>
          <p:cNvSpPr/>
          <p:nvPr/>
        </p:nvSpPr>
        <p:spPr>
          <a:xfrm>
            <a:off x="1433880" y="5772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1600200" y="46483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819520" y="5105520"/>
            <a:ext cx="12189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038480" y="541008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32"/>
          <p:cNvSpPr/>
          <p:nvPr/>
        </p:nvSpPr>
        <p:spPr>
          <a:xfrm>
            <a:off x="1523880" y="577548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32"/>
          <p:cNvSpPr/>
          <p:nvPr/>
        </p:nvSpPr>
        <p:spPr>
          <a:xfrm>
            <a:off x="5241960" y="577548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32"/>
          <p:cNvSpPr/>
          <p:nvPr/>
        </p:nvSpPr>
        <p:spPr>
          <a:xfrm>
            <a:off x="3962520" y="577548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2"/>
          <p:cNvSpPr/>
          <p:nvPr/>
        </p:nvSpPr>
        <p:spPr>
          <a:xfrm>
            <a:off x="2743200" y="577548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2677320" y="57722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600200" y="5105520"/>
            <a:ext cx="1219320" cy="30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038480" y="5105520"/>
            <a:ext cx="1219320" cy="30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819520" y="4800600"/>
            <a:ext cx="24382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600200" y="5410080"/>
            <a:ext cx="24382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37"/>
              <p:cNvSpPr txBox="1"/>
              <p:nvPr/>
            </p:nvSpPr>
            <p:spPr>
              <a:xfrm>
                <a:off x="5742000" y="1982880"/>
                <a:ext cx="1725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∉</m:t>
                        </m:r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d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1"/>
              <p:cNvSpPr txBox="1"/>
              <p:nvPr/>
            </p:nvSpPr>
            <p:spPr>
              <a:xfrm>
                <a:off x="304920" y="5334120"/>
                <a:ext cx="22096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3" name=""/>
          <p:cNvGraphicFramePr/>
          <p:nvPr/>
        </p:nvGraphicFramePr>
        <p:xfrm>
          <a:off x="685800" y="1752480"/>
          <a:ext cx="3809880" cy="205740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28"/>
          <p:cNvSpPr/>
          <p:nvPr/>
        </p:nvSpPr>
        <p:spPr>
          <a:xfrm>
            <a:off x="689040" y="4562640"/>
            <a:ext cx="153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0"/>
          <p:cNvSpPr/>
          <p:nvPr/>
        </p:nvSpPr>
        <p:spPr>
          <a:xfrm>
            <a:off x="2916000" y="4572000"/>
            <a:ext cx="1737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5"/>
              <p:cNvSpPr txBox="1"/>
              <p:nvPr/>
            </p:nvSpPr>
            <p:spPr>
              <a:xfrm>
                <a:off x="2895480" y="5334120"/>
                <a:ext cx="2057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37"/>
          <p:cNvSpPr/>
          <p:nvPr/>
        </p:nvSpPr>
        <p:spPr>
          <a:xfrm>
            <a:off x="5412960" y="4952880"/>
            <a:ext cx="33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= (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)/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Rul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List Scheduling Algorithm to a list with jobs ordered by non-increasing delivery times (equivalent to an EDD, or earliest due-date, order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course, the two-job instance just given illustrates that the worst-case performance does not improve over arbitrary list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Corollary 10.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is bound is t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143000" y="2895480"/>
                <a:ext cx="2438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&lt;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ical jo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us examine this heuristi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lightly more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us define a critical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ne whose lateness attains that of the schedu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876920" y="2514600"/>
                <a:ext cx="18842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job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erence job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6"/>
              <p:cNvSpPr txBox="1"/>
              <p:nvPr/>
            </p:nvSpPr>
            <p:spPr>
              <a:xfrm>
                <a:off x="685800" y="3886200"/>
                <a:ext cx="4114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58"/>
              <p:cNvSpPr txBox="1"/>
              <p:nvPr/>
            </p:nvSpPr>
            <p:spPr>
              <a:xfrm>
                <a:off x="685800" y="4648320"/>
                <a:ext cx="4191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62"/>
              <p:cNvSpPr txBox="1"/>
              <p:nvPr/>
            </p:nvSpPr>
            <p:spPr>
              <a:xfrm>
                <a:off x="762120" y="56386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≤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" name="Rectangle 6"/>
          <p:cNvSpPr/>
          <p:nvPr/>
        </p:nvSpPr>
        <p:spPr>
          <a:xfrm>
            <a:off x="2133720" y="23623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1219320" y="2362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304920" y="2362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5181480" y="2362320"/>
            <a:ext cx="60984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5791320" y="2362320"/>
            <a:ext cx="53316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324480" y="2362320"/>
            <a:ext cx="60984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934320" y="23623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3352680" y="2362320"/>
            <a:ext cx="609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3962520" y="23623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4572000" y="23623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9"/>
          <p:cNvSpPr/>
          <p:nvPr/>
        </p:nvSpPr>
        <p:spPr>
          <a:xfrm>
            <a:off x="7620120" y="23623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3"/>
          <p:cNvSpPr/>
          <p:nvPr/>
        </p:nvSpPr>
        <p:spPr>
          <a:xfrm flipV="1">
            <a:off x="6934320" y="19807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4"/>
          <p:cNvSpPr/>
          <p:nvPr/>
        </p:nvSpPr>
        <p:spPr>
          <a:xfrm>
            <a:off x="6934320" y="1981080"/>
            <a:ext cx="1904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304920" y="2971800"/>
            <a:ext cx="88390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14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88390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9"/>
          <p:cNvSpPr/>
          <p:nvPr/>
        </p:nvSpPr>
        <p:spPr>
          <a:xfrm>
            <a:off x="8157600" y="2895480"/>
            <a:ext cx="96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7688160" y="14889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32"/>
          <p:cNvSpPr/>
          <p:nvPr/>
        </p:nvSpPr>
        <p:spPr>
          <a:xfrm flipV="1">
            <a:off x="7620120" y="2209680"/>
            <a:ext cx="0" cy="152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33"/>
          <p:cNvSpPr/>
          <p:nvPr/>
        </p:nvSpPr>
        <p:spPr>
          <a:xfrm>
            <a:off x="7620120" y="2209680"/>
            <a:ext cx="9903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34"/>
          <p:cNvSpPr/>
          <p:nvPr/>
        </p:nvSpPr>
        <p:spPr>
          <a:xfrm>
            <a:off x="8610480" y="2209680"/>
            <a:ext cx="0" cy="7621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35"/>
          <p:cNvSpPr/>
          <p:nvPr/>
        </p:nvSpPr>
        <p:spPr>
          <a:xfrm flipV="1">
            <a:off x="8229600" y="2286000"/>
            <a:ext cx="0" cy="763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36"/>
          <p:cNvSpPr/>
          <p:nvPr/>
        </p:nvSpPr>
        <p:spPr>
          <a:xfrm>
            <a:off x="8229600" y="2286000"/>
            <a:ext cx="4572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37"/>
          <p:cNvSpPr/>
          <p:nvPr/>
        </p:nvSpPr>
        <p:spPr>
          <a:xfrm>
            <a:off x="8686800" y="2286000"/>
            <a:ext cx="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33526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0"/>
          <p:cNvSpPr/>
          <p:nvPr/>
        </p:nvSpPr>
        <p:spPr>
          <a:xfrm>
            <a:off x="3208680" y="28954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2"/>
          <p:cNvSpPr/>
          <p:nvPr/>
        </p:nvSpPr>
        <p:spPr>
          <a:xfrm>
            <a:off x="5325840" y="2327400"/>
            <a:ext cx="405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4"/>
          <p:cNvSpPr/>
          <p:nvPr/>
        </p:nvSpPr>
        <p:spPr>
          <a:xfrm flipV="1">
            <a:off x="5791320" y="2057040"/>
            <a:ext cx="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45"/>
          <p:cNvSpPr/>
          <p:nvPr/>
        </p:nvSpPr>
        <p:spPr>
          <a:xfrm>
            <a:off x="5791320" y="2057400"/>
            <a:ext cx="13716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46"/>
          <p:cNvSpPr/>
          <p:nvPr/>
        </p:nvSpPr>
        <p:spPr>
          <a:xfrm>
            <a:off x="7162920" y="2057400"/>
            <a:ext cx="0" cy="9144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5790240" y="1565280"/>
            <a:ext cx="93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48"/>
          <p:cNvSpPr/>
          <p:nvPr/>
        </p:nvSpPr>
        <p:spPr>
          <a:xfrm flipV="1">
            <a:off x="6324480" y="213336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49"/>
          <p:cNvSpPr/>
          <p:nvPr/>
        </p:nvSpPr>
        <p:spPr>
          <a:xfrm>
            <a:off x="6324480" y="2133720"/>
            <a:ext cx="2438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0"/>
          <p:cNvSpPr/>
          <p:nvPr/>
        </p:nvSpPr>
        <p:spPr>
          <a:xfrm>
            <a:off x="8763120" y="2133720"/>
            <a:ext cx="0" cy="838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53"/>
          <p:cNvSpPr/>
          <p:nvPr/>
        </p:nvSpPr>
        <p:spPr>
          <a:xfrm rot="16200000">
            <a:off x="5029200" y="1294920"/>
            <a:ext cx="228600" cy="3581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4"/>
          <p:cNvSpPr/>
          <p:nvPr/>
        </p:nvSpPr>
        <p:spPr>
          <a:xfrm>
            <a:off x="3413160" y="311796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itical sequence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ja-JP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64"/>
              <p:cNvSpPr txBox="1"/>
              <p:nvPr/>
            </p:nvSpPr>
            <p:spPr>
              <a:xfrm>
                <a:off x="4267080" y="5638680"/>
                <a:ext cx="2667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7" name="Text Box 66"/>
          <p:cNvSpPr/>
          <p:nvPr/>
        </p:nvSpPr>
        <p:spPr>
          <a:xfrm>
            <a:off x="5855760" y="4613400"/>
            <a:ext cx="283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erenc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8"/>
          <p:cNvSpPr/>
          <p:nvPr/>
        </p:nvSpPr>
        <p:spPr>
          <a:xfrm>
            <a:off x="5562720" y="2819520"/>
            <a:ext cx="1143000" cy="1828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mple 3/2-Approximation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228600" y="2209680"/>
                <a:ext cx="8686800" cy="32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an instance of  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job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f it is exist, be the uniqu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ob with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Notice that if no such job exists then the schedule b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ackson's rule satisfies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r>
                          <m:t xml:space="preserve">&lt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e define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tition of jobs other than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s follow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&gt;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ose instances in which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exists, clearly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the schedule given by Jacks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rule, and determine a critical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ritical sequence for the schedule. If there exists no interference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stop and return this sche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in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, then stop and return the schedule of Step 1. Otherwise, order the job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nondecreasing release dates an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nonincreasing delivery times. (Not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) Construct a schedule given by the order set A,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llowed by the ordered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better of this schedule and that constructed in Step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Theorem 10.4 (Novicki &amp; Smutnicki [1994]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(3/2)-approximation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(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chedu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40"/>
              <p:cNvSpPr txBox="1"/>
              <p:nvPr/>
            </p:nvSpPr>
            <p:spPr>
              <a:xfrm>
                <a:off x="0" y="1219320"/>
                <a:ext cx="35053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6"/>
              <p:cNvSpPr txBox="1"/>
              <p:nvPr/>
            </p:nvSpPr>
            <p:spPr>
              <a:xfrm>
                <a:off x="304920" y="4191120"/>
                <a:ext cx="46479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or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8"/>
              <p:cNvSpPr txBox="1"/>
              <p:nvPr/>
            </p:nvSpPr>
            <p:spPr>
              <a:xfrm>
                <a:off x="6324480" y="4191120"/>
                <a:ext cx="2362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p>
                    </m:sSubSup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9" name="Rectangle 4"/>
          <p:cNvSpPr/>
          <p:nvPr/>
        </p:nvSpPr>
        <p:spPr>
          <a:xfrm>
            <a:off x="2133720" y="1905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1219320" y="19051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304920" y="19051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5181480" y="1905120"/>
            <a:ext cx="60984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5791320" y="1905120"/>
            <a:ext cx="53316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6324480" y="1905120"/>
            <a:ext cx="60984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6934320" y="19051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352680" y="1905120"/>
            <a:ext cx="609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962520" y="1905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4572000" y="1905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7620120" y="19051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5"/>
          <p:cNvSpPr/>
          <p:nvPr/>
        </p:nvSpPr>
        <p:spPr>
          <a:xfrm flipV="1">
            <a:off x="6934320" y="1523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6934320" y="1523880"/>
            <a:ext cx="1904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7"/>
          <p:cNvSpPr/>
          <p:nvPr/>
        </p:nvSpPr>
        <p:spPr>
          <a:xfrm>
            <a:off x="8839080" y="15238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8"/>
          <p:cNvSpPr/>
          <p:nvPr/>
        </p:nvSpPr>
        <p:spPr>
          <a:xfrm flipV="1">
            <a:off x="7620120" y="1752480"/>
            <a:ext cx="0" cy="152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7620120" y="1752480"/>
            <a:ext cx="9903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8610480" y="1752480"/>
            <a:ext cx="0" cy="7621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1"/>
          <p:cNvSpPr/>
          <p:nvPr/>
        </p:nvSpPr>
        <p:spPr>
          <a:xfrm flipV="1">
            <a:off x="8229600" y="1828800"/>
            <a:ext cx="0" cy="763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8229600" y="1828800"/>
            <a:ext cx="4572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"/>
          <p:cNvSpPr/>
          <p:nvPr/>
        </p:nvSpPr>
        <p:spPr>
          <a:xfrm>
            <a:off x="8686800" y="1828800"/>
            <a:ext cx="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33526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5"/>
          <p:cNvSpPr/>
          <p:nvPr/>
        </p:nvSpPr>
        <p:spPr>
          <a:xfrm>
            <a:off x="3208680" y="24382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6"/>
          <p:cNvSpPr/>
          <p:nvPr/>
        </p:nvSpPr>
        <p:spPr>
          <a:xfrm>
            <a:off x="5325840" y="1870200"/>
            <a:ext cx="405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7"/>
          <p:cNvSpPr/>
          <p:nvPr/>
        </p:nvSpPr>
        <p:spPr>
          <a:xfrm flipV="1">
            <a:off x="5791320" y="1599840"/>
            <a:ext cx="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8"/>
          <p:cNvSpPr/>
          <p:nvPr/>
        </p:nvSpPr>
        <p:spPr>
          <a:xfrm>
            <a:off x="5791320" y="1600200"/>
            <a:ext cx="13716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7162920" y="1600200"/>
            <a:ext cx="0" cy="9144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30"/>
          <p:cNvSpPr/>
          <p:nvPr/>
        </p:nvSpPr>
        <p:spPr>
          <a:xfrm flipV="1">
            <a:off x="6324480" y="167616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6324480" y="1676520"/>
            <a:ext cx="2438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32"/>
          <p:cNvSpPr/>
          <p:nvPr/>
        </p:nvSpPr>
        <p:spPr>
          <a:xfrm>
            <a:off x="8763120" y="1676520"/>
            <a:ext cx="0" cy="838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33"/>
          <p:cNvSpPr/>
          <p:nvPr/>
        </p:nvSpPr>
        <p:spPr>
          <a:xfrm rot="16200000">
            <a:off x="5029200" y="837720"/>
            <a:ext cx="228600" cy="3581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4"/>
          <p:cNvSpPr/>
          <p:nvPr/>
        </p:nvSpPr>
        <p:spPr>
          <a:xfrm>
            <a:off x="3883680" y="266688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itical sequenc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304920" y="2514600"/>
            <a:ext cx="88390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37"/>
          <p:cNvSpPr/>
          <p:nvPr/>
        </p:nvSpPr>
        <p:spPr>
          <a:xfrm>
            <a:off x="8157600" y="2666880"/>
            <a:ext cx="96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475760" y="10666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43"/>
          <p:cNvSpPr/>
          <p:nvPr/>
        </p:nvSpPr>
        <p:spPr>
          <a:xfrm>
            <a:off x="380880" y="3429000"/>
            <a:ext cx="2895840" cy="38088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ference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44"/>
          <p:cNvSpPr/>
          <p:nvPr/>
        </p:nvSpPr>
        <p:spPr>
          <a:xfrm>
            <a:off x="3505320" y="3505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45"/>
          <p:cNvSpPr/>
          <p:nvPr/>
        </p:nvSpPr>
        <p:spPr>
          <a:xfrm>
            <a:off x="4572000" y="3429000"/>
            <a:ext cx="2971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is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0"/>
              <p:cNvSpPr txBox="1"/>
              <p:nvPr/>
            </p:nvSpPr>
            <p:spPr>
              <a:xfrm>
                <a:off x="457200" y="5029200"/>
                <a:ext cx="2362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7" name="AutoShape 52"/>
          <p:cNvSpPr/>
          <p:nvPr/>
        </p:nvSpPr>
        <p:spPr>
          <a:xfrm>
            <a:off x="5257800" y="43434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3"/>
          <p:cNvSpPr/>
          <p:nvPr/>
        </p:nvSpPr>
        <p:spPr>
          <a:xfrm>
            <a:off x="3124080" y="5257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54"/>
          <p:cNvSpPr/>
          <p:nvPr/>
        </p:nvSpPr>
        <p:spPr>
          <a:xfrm>
            <a:off x="4343400" y="5105520"/>
            <a:ext cx="990720" cy="5331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=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55"/>
          <p:cNvSpPr/>
          <p:nvPr/>
        </p:nvSpPr>
        <p:spPr>
          <a:xfrm>
            <a:off x="1219320" y="6019920"/>
            <a:ext cx="1371600" cy="38088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b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56"/>
          <p:cNvSpPr/>
          <p:nvPr/>
        </p:nvSpPr>
        <p:spPr>
          <a:xfrm>
            <a:off x="2895480" y="60958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57"/>
          <p:cNvSpPr/>
          <p:nvPr/>
        </p:nvSpPr>
        <p:spPr>
          <a:xfrm>
            <a:off x="4114800" y="6019920"/>
            <a:ext cx="2971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is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(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chedu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2057400" y="16765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219320" y="16765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609480" y="16765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2743200" y="167652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6477120" y="16765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7238880" y="16765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7924680" y="16765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304920" y="16765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3"/>
          <p:cNvSpPr/>
          <p:nvPr/>
        </p:nvSpPr>
        <p:spPr>
          <a:xfrm rot="16200000">
            <a:off x="1371600" y="106668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14"/>
          <p:cNvSpPr/>
          <p:nvPr/>
        </p:nvSpPr>
        <p:spPr>
          <a:xfrm rot="16200000">
            <a:off x="7315200" y="129528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923760" y="243828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6943680" y="243828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7"/>
              <p:cNvSpPr txBox="1"/>
              <p:nvPr/>
            </p:nvSpPr>
            <p:spPr>
              <a:xfrm>
                <a:off x="228600" y="3505320"/>
                <a:ext cx="861048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fix a job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define a sequence tracing backward in time from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the first idle tim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to the beginning of schedul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e denote the job tha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gins processing at that point in time by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e us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to denote the set of job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ginning with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ending with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so that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lineate cases based on the status of the jobs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proceed to show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at in every case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600200" y="180972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1073160" y="167148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1073160" y="197640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1073160" y="228132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1600200" y="2800440"/>
            <a:ext cx="5029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5257800" y="165744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3844440" y="280044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5063760" y="280044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1433880" y="27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6"/>
          <p:cNvSpPr/>
          <p:nvPr/>
        </p:nvSpPr>
        <p:spPr>
          <a:xfrm>
            <a:off x="1600200" y="16574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2114640"/>
            <a:ext cx="12189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038480" y="2419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2"/>
          <p:cNvSpPr/>
          <p:nvPr/>
        </p:nvSpPr>
        <p:spPr>
          <a:xfrm>
            <a:off x="1523880" y="278460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2"/>
          <p:cNvSpPr/>
          <p:nvPr/>
        </p:nvSpPr>
        <p:spPr>
          <a:xfrm>
            <a:off x="5241960" y="278460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2"/>
          <p:cNvSpPr/>
          <p:nvPr/>
        </p:nvSpPr>
        <p:spPr>
          <a:xfrm>
            <a:off x="3962520" y="278460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2743200" y="278460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9"/>
          <p:cNvSpPr/>
          <p:nvPr/>
        </p:nvSpPr>
        <p:spPr>
          <a:xfrm>
            <a:off x="2677320" y="2781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600200" y="2114640"/>
            <a:ext cx="1219320" cy="30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038480" y="2114640"/>
            <a:ext cx="1219320" cy="30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819520" y="1809720"/>
            <a:ext cx="24382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600200" y="2419200"/>
            <a:ext cx="24382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600200" y="501012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073160" y="456732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073160" y="487188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1073160" y="517680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600200" y="5695920"/>
            <a:ext cx="5029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6"/>
          <p:cNvSpPr/>
          <p:nvPr/>
        </p:nvSpPr>
        <p:spPr>
          <a:xfrm>
            <a:off x="5257800" y="455292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9"/>
          <p:cNvSpPr/>
          <p:nvPr/>
        </p:nvSpPr>
        <p:spPr>
          <a:xfrm>
            <a:off x="3844440" y="569592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1"/>
          <p:cNvSpPr/>
          <p:nvPr/>
        </p:nvSpPr>
        <p:spPr>
          <a:xfrm>
            <a:off x="5063760" y="569592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1433880" y="567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1600200" y="45529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819520" y="4705200"/>
            <a:ext cx="12189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038480" y="531504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32"/>
          <p:cNvSpPr/>
          <p:nvPr/>
        </p:nvSpPr>
        <p:spPr>
          <a:xfrm>
            <a:off x="1523880" y="56800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32"/>
          <p:cNvSpPr/>
          <p:nvPr/>
        </p:nvSpPr>
        <p:spPr>
          <a:xfrm>
            <a:off x="5241960" y="56800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3962520" y="56800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32"/>
          <p:cNvSpPr/>
          <p:nvPr/>
        </p:nvSpPr>
        <p:spPr>
          <a:xfrm>
            <a:off x="2743200" y="56800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2677320" y="5676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600200" y="4705200"/>
            <a:ext cx="12193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038480" y="4705200"/>
            <a:ext cx="12193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819520" y="5010120"/>
            <a:ext cx="24382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600200" y="5315040"/>
            <a:ext cx="24382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45"/>
          <p:cNvSpPr/>
          <p:nvPr/>
        </p:nvSpPr>
        <p:spPr>
          <a:xfrm>
            <a:off x="620280" y="373392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s of partition job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809880" y="3809880"/>
            <a:ext cx="22860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5486400" y="3809880"/>
            <a:ext cx="762120" cy="30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038480" y="3809880"/>
            <a:ext cx="152640" cy="3049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191120" y="3809880"/>
            <a:ext cx="457200" cy="3049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648320" y="3809880"/>
            <a:ext cx="228600" cy="30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876920" y="3809880"/>
            <a:ext cx="22860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105520" y="3809880"/>
            <a:ext cx="380880" cy="304920"/>
          </a:xfrm>
          <a:prstGeom prst="rect">
            <a:avLst/>
          </a:prstGeom>
          <a:solidFill>
            <a:srgbClr val="9c9cd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3"/>
          <p:cNvSpPr/>
          <p:nvPr/>
        </p:nvSpPr>
        <p:spPr>
          <a:xfrm>
            <a:off x="3657600" y="3505320"/>
            <a:ext cx="2819520" cy="9144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Straight Arrow Connector 56"/>
          <p:cNvCxnSpPr/>
          <p:nvPr/>
        </p:nvCxnSpPr>
        <p:spPr>
          <a:xfrm flipH="1">
            <a:off x="2437920" y="4343400"/>
            <a:ext cx="1905840" cy="38160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0" name="Straight Arrow Connector 60"/>
          <p:cNvCxnSpPr/>
          <p:nvPr/>
        </p:nvCxnSpPr>
        <p:spPr>
          <a:xfrm>
            <a:off x="4723920" y="4419720"/>
            <a:ext cx="1080" cy="45792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Straight Arrow Connector 63"/>
          <p:cNvCxnSpPr/>
          <p:nvPr/>
        </p:nvCxnSpPr>
        <p:spPr>
          <a:xfrm flipH="1" flipV="1">
            <a:off x="4495320" y="2285640"/>
            <a:ext cx="534240" cy="137232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2" name="Straight Arrow Connector 66"/>
          <p:cNvCxnSpPr/>
          <p:nvPr/>
        </p:nvCxnSpPr>
        <p:spPr>
          <a:xfrm flipH="1" flipV="1">
            <a:off x="2361600" y="2285640"/>
            <a:ext cx="2362680" cy="129600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.1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8"/>
              <p:cNvSpPr txBox="1"/>
              <p:nvPr/>
            </p:nvSpPr>
            <p:spPr>
              <a:xfrm>
                <a:off x="3276720" y="3429000"/>
                <a:ext cx="3657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4"/>
          <p:cNvSpPr/>
          <p:nvPr/>
        </p:nvSpPr>
        <p:spPr>
          <a:xfrm>
            <a:off x="1981080" y="1981080"/>
            <a:ext cx="7635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219320" y="1981080"/>
            <a:ext cx="7617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09480" y="1981080"/>
            <a:ext cx="6098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4114800" y="1981080"/>
            <a:ext cx="373392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7848720" y="1981080"/>
            <a:ext cx="763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19810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2743200" y="1981080"/>
            <a:ext cx="533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304920" y="19810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2"/>
          <p:cNvSpPr/>
          <p:nvPr/>
        </p:nvSpPr>
        <p:spPr>
          <a:xfrm rot="16200000">
            <a:off x="1638360" y="1104480"/>
            <a:ext cx="304920" cy="2971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076400" y="274320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16"/>
          <p:cNvSpPr/>
          <p:nvPr/>
        </p:nvSpPr>
        <p:spPr>
          <a:xfrm rot="5400000">
            <a:off x="1752120" y="456840"/>
            <a:ext cx="304920" cy="2590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1602360" y="114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0"/>
              <p:cNvSpPr txBox="1"/>
              <p:nvPr/>
            </p:nvSpPr>
            <p:spPr>
              <a:xfrm>
                <a:off x="838080" y="5440320"/>
                <a:ext cx="762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2" name="Text Box 22"/>
          <p:cNvSpPr/>
          <p:nvPr/>
        </p:nvSpPr>
        <p:spPr>
          <a:xfrm>
            <a:off x="3446640" y="4343400"/>
            <a:ext cx="10249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1006200" y="3505320"/>
            <a:ext cx="109080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25"/>
          <p:cNvSpPr/>
          <p:nvPr/>
        </p:nvSpPr>
        <p:spPr>
          <a:xfrm>
            <a:off x="2286000" y="36576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26"/>
          <p:cNvSpPr/>
          <p:nvPr/>
        </p:nvSpPr>
        <p:spPr>
          <a:xfrm>
            <a:off x="3962520" y="502920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27"/>
          <p:cNvSpPr/>
          <p:nvPr/>
        </p:nvSpPr>
        <p:spPr>
          <a:xfrm>
            <a:off x="6553080" y="41911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.2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3276720" y="3429000"/>
                <a:ext cx="3657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Rectangle 4"/>
          <p:cNvSpPr/>
          <p:nvPr/>
        </p:nvSpPr>
        <p:spPr>
          <a:xfrm>
            <a:off x="7238880" y="1905120"/>
            <a:ext cx="763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6477120" y="1905120"/>
            <a:ext cx="7617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5867280" y="1905120"/>
            <a:ext cx="609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838080" y="190512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4572000" y="19051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228600" y="19051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8001000" y="1905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5562720" y="19051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2"/>
          <p:cNvSpPr/>
          <p:nvPr/>
        </p:nvSpPr>
        <p:spPr>
          <a:xfrm rot="16200000">
            <a:off x="6896160" y="1028520"/>
            <a:ext cx="304560" cy="2971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6334200" y="266688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4"/>
          <p:cNvSpPr/>
          <p:nvPr/>
        </p:nvSpPr>
        <p:spPr>
          <a:xfrm rot="5400000">
            <a:off x="7009920" y="380520"/>
            <a:ext cx="304920" cy="2590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701244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16"/>
              <p:cNvSpPr txBox="1"/>
              <p:nvPr/>
            </p:nvSpPr>
            <p:spPr>
              <a:xfrm>
                <a:off x="838080" y="5440320"/>
                <a:ext cx="762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2" name="Text Box 17"/>
          <p:cNvSpPr/>
          <p:nvPr/>
        </p:nvSpPr>
        <p:spPr>
          <a:xfrm>
            <a:off x="3446640" y="4343400"/>
            <a:ext cx="11041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8"/>
          <p:cNvSpPr/>
          <p:nvPr/>
        </p:nvSpPr>
        <p:spPr>
          <a:xfrm>
            <a:off x="1006200" y="3505320"/>
            <a:ext cx="109080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19"/>
          <p:cNvSpPr/>
          <p:nvPr/>
        </p:nvSpPr>
        <p:spPr>
          <a:xfrm>
            <a:off x="2286000" y="36576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20"/>
          <p:cNvSpPr/>
          <p:nvPr/>
        </p:nvSpPr>
        <p:spPr>
          <a:xfrm>
            <a:off x="3962520" y="502920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21"/>
          <p:cNvSpPr/>
          <p:nvPr/>
        </p:nvSpPr>
        <p:spPr>
          <a:xfrm>
            <a:off x="6553080" y="41911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.1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0"/>
              <p:cNvSpPr txBox="1"/>
              <p:nvPr/>
            </p:nvSpPr>
            <p:spPr>
              <a:xfrm>
                <a:off x="990720" y="4267080"/>
                <a:ext cx="38862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22"/>
              <p:cNvSpPr txBox="1"/>
              <p:nvPr/>
            </p:nvSpPr>
            <p:spPr>
              <a:xfrm>
                <a:off x="5410080" y="4267080"/>
                <a:ext cx="1828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0" name="Rectangle 3"/>
          <p:cNvSpPr/>
          <p:nvPr/>
        </p:nvSpPr>
        <p:spPr>
          <a:xfrm>
            <a:off x="2057400" y="21337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1295280" y="2133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5800" y="21337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2743200" y="213372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6477120" y="21337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7238880" y="21337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7924680" y="2133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304920" y="21337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11"/>
          <p:cNvSpPr/>
          <p:nvPr/>
        </p:nvSpPr>
        <p:spPr>
          <a:xfrm rot="16200000">
            <a:off x="1371600" y="152388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2"/>
          <p:cNvSpPr/>
          <p:nvPr/>
        </p:nvSpPr>
        <p:spPr>
          <a:xfrm rot="16200000">
            <a:off x="7315200" y="175248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923760" y="289548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6943680" y="289548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7"/>
          <p:cNvSpPr/>
          <p:nvPr/>
        </p:nvSpPr>
        <p:spPr>
          <a:xfrm rot="5400000">
            <a:off x="3428640" y="-990720"/>
            <a:ext cx="228600" cy="5715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320256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370800" y="3470400"/>
            <a:ext cx="874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.1.1: All of the job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re processed before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6"/>
              <p:cNvSpPr txBox="1"/>
              <p:nvPr/>
            </p:nvSpPr>
            <p:spPr>
              <a:xfrm>
                <a:off x="990720" y="5638680"/>
                <a:ext cx="52578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≤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6" name="AutoShape 28"/>
          <p:cNvSpPr/>
          <p:nvPr/>
        </p:nvSpPr>
        <p:spPr>
          <a:xfrm>
            <a:off x="4724280" y="502920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29"/>
          <p:cNvSpPr/>
          <p:nvPr/>
        </p:nvSpPr>
        <p:spPr>
          <a:xfrm>
            <a:off x="5334120" y="502920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.1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4267080" y="4191120"/>
                <a:ext cx="47246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4"/>
              <p:cNvSpPr txBox="1"/>
              <p:nvPr/>
            </p:nvSpPr>
            <p:spPr>
              <a:xfrm>
                <a:off x="3581280" y="5105520"/>
                <a:ext cx="19353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1"/>
              <p:cNvSpPr txBox="1"/>
              <p:nvPr/>
            </p:nvSpPr>
            <p:spPr>
              <a:xfrm>
                <a:off x="3606840" y="6019920"/>
                <a:ext cx="55371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2" name="Rectangle 5"/>
          <p:cNvSpPr/>
          <p:nvPr/>
        </p:nvSpPr>
        <p:spPr>
          <a:xfrm>
            <a:off x="2057400" y="21337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1295280" y="2133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685800" y="21337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2743200" y="213372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6477120" y="21337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7238880" y="21337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7924680" y="2133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304920" y="21337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1371600" y="152388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14"/>
          <p:cNvSpPr/>
          <p:nvPr/>
        </p:nvSpPr>
        <p:spPr>
          <a:xfrm rot="16200000">
            <a:off x="7315200" y="175248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923760" y="289548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6943680" y="289548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17"/>
          <p:cNvSpPr/>
          <p:nvPr/>
        </p:nvSpPr>
        <p:spPr>
          <a:xfrm rot="5400000">
            <a:off x="3428640" y="-990720"/>
            <a:ext cx="228600" cy="5715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320256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370080" y="3470400"/>
            <a:ext cx="852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.1.2: At least one job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processed after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1523880" y="55627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23"/>
          <p:cNvSpPr/>
          <p:nvPr/>
        </p:nvSpPr>
        <p:spPr>
          <a:xfrm>
            <a:off x="7315200" y="502920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26"/>
              <p:cNvSpPr txBox="1"/>
              <p:nvPr/>
            </p:nvSpPr>
            <p:spPr>
              <a:xfrm>
                <a:off x="609480" y="4952880"/>
                <a:ext cx="1908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28"/>
              <p:cNvSpPr txBox="1"/>
              <p:nvPr/>
            </p:nvSpPr>
            <p:spPr>
              <a:xfrm>
                <a:off x="609480" y="6019920"/>
                <a:ext cx="20034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AutoShape 29"/>
          <p:cNvSpPr/>
          <p:nvPr/>
        </p:nvSpPr>
        <p:spPr>
          <a:xfrm>
            <a:off x="3657600" y="4343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30"/>
          <p:cNvSpPr/>
          <p:nvPr/>
        </p:nvSpPr>
        <p:spPr>
          <a:xfrm>
            <a:off x="2743200" y="62485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31"/>
          <p:cNvSpPr/>
          <p:nvPr/>
        </p:nvSpPr>
        <p:spPr>
          <a:xfrm>
            <a:off x="5638680" y="5029200"/>
            <a:ext cx="395280" cy="504720"/>
          </a:xfrm>
          <a:custGeom>
            <a:avLst/>
            <a:gdLst>
              <a:gd name="textAreaLeft" fmla="*/ 0 w 395280"/>
              <a:gd name="textAreaRight" fmla="*/ 338760 w 395280"/>
              <a:gd name="textAreaTop" fmla="*/ 33660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134640" y="4098960"/>
            <a:ext cx="163584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\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33"/>
          <p:cNvSpPr/>
          <p:nvPr/>
        </p:nvSpPr>
        <p:spPr>
          <a:xfrm>
            <a:off x="182880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34"/>
          <p:cNvSpPr/>
          <p:nvPr/>
        </p:nvSpPr>
        <p:spPr>
          <a:xfrm>
            <a:off x="2448360" y="4114800"/>
            <a:ext cx="1049400" cy="579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.2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3"/>
              <p:cNvSpPr txBox="1"/>
              <p:nvPr/>
            </p:nvSpPr>
            <p:spPr>
              <a:xfrm>
                <a:off x="990720" y="4267080"/>
                <a:ext cx="38862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4"/>
              <p:cNvSpPr txBox="1"/>
              <p:nvPr/>
            </p:nvSpPr>
            <p:spPr>
              <a:xfrm>
                <a:off x="5410080" y="4289400"/>
                <a:ext cx="18288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0" name="Rectangle 5"/>
          <p:cNvSpPr/>
          <p:nvPr/>
        </p:nvSpPr>
        <p:spPr>
          <a:xfrm>
            <a:off x="2057400" y="21337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1295280" y="2133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685800" y="21337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2743200" y="213372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477120" y="21337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7238880" y="21337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7924680" y="2133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304920" y="21337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13"/>
          <p:cNvSpPr/>
          <p:nvPr/>
        </p:nvSpPr>
        <p:spPr>
          <a:xfrm rot="16200000">
            <a:off x="1371600" y="152388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4"/>
          <p:cNvSpPr/>
          <p:nvPr/>
        </p:nvSpPr>
        <p:spPr>
          <a:xfrm rot="16200000">
            <a:off x="7315200" y="175248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923760" y="289548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6"/>
          <p:cNvSpPr/>
          <p:nvPr/>
        </p:nvSpPr>
        <p:spPr>
          <a:xfrm>
            <a:off x="6943680" y="289548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17"/>
          <p:cNvSpPr/>
          <p:nvPr/>
        </p:nvSpPr>
        <p:spPr>
          <a:xfrm rot="5400000">
            <a:off x="5181480" y="-609480"/>
            <a:ext cx="304920" cy="5029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8"/>
          <p:cNvSpPr/>
          <p:nvPr/>
        </p:nvSpPr>
        <p:spPr>
          <a:xfrm>
            <a:off x="4879080" y="137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9"/>
          <p:cNvSpPr/>
          <p:nvPr/>
        </p:nvSpPr>
        <p:spPr>
          <a:xfrm>
            <a:off x="370080" y="3470400"/>
            <a:ext cx="852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.1.1: All of the job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re processed after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1828800" y="5638680"/>
                <a:ext cx="43988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≤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6" name="AutoShape 22"/>
          <p:cNvSpPr/>
          <p:nvPr/>
        </p:nvSpPr>
        <p:spPr>
          <a:xfrm>
            <a:off x="4724280" y="502920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23"/>
          <p:cNvSpPr/>
          <p:nvPr/>
        </p:nvSpPr>
        <p:spPr>
          <a:xfrm>
            <a:off x="5334120" y="502920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.2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4267080" y="4191120"/>
                <a:ext cx="47246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4"/>
              <p:cNvSpPr txBox="1"/>
              <p:nvPr/>
            </p:nvSpPr>
            <p:spPr>
              <a:xfrm>
                <a:off x="3505320" y="5127480"/>
                <a:ext cx="20113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5"/>
              <p:cNvSpPr txBox="1"/>
              <p:nvPr/>
            </p:nvSpPr>
            <p:spPr>
              <a:xfrm>
                <a:off x="4191120" y="6019920"/>
                <a:ext cx="47894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62" name="Rectangle 6"/>
          <p:cNvSpPr/>
          <p:nvPr/>
        </p:nvSpPr>
        <p:spPr>
          <a:xfrm>
            <a:off x="2057400" y="2133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1295280" y="2133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762120" y="21337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2743200" y="213372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6477120" y="21337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1"/>
          <p:cNvSpPr/>
          <p:nvPr/>
        </p:nvSpPr>
        <p:spPr>
          <a:xfrm>
            <a:off x="7238880" y="21337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7924680" y="2133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304920" y="21337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14"/>
          <p:cNvSpPr/>
          <p:nvPr/>
        </p:nvSpPr>
        <p:spPr>
          <a:xfrm rot="16200000">
            <a:off x="1295640" y="1600200"/>
            <a:ext cx="304560" cy="2286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15"/>
          <p:cNvSpPr/>
          <p:nvPr/>
        </p:nvSpPr>
        <p:spPr>
          <a:xfrm rot="16200000">
            <a:off x="7315200" y="175248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923760" y="289548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6943680" y="289548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18"/>
          <p:cNvSpPr/>
          <p:nvPr/>
        </p:nvSpPr>
        <p:spPr>
          <a:xfrm rot="5400000">
            <a:off x="5143320" y="-647640"/>
            <a:ext cx="304920" cy="5105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320256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234360" y="3429000"/>
            <a:ext cx="87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.2.2: At least one job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processed before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21"/>
          <p:cNvSpPr/>
          <p:nvPr/>
        </p:nvSpPr>
        <p:spPr>
          <a:xfrm>
            <a:off x="1523880" y="55627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22"/>
          <p:cNvSpPr/>
          <p:nvPr/>
        </p:nvSpPr>
        <p:spPr>
          <a:xfrm>
            <a:off x="7238880" y="502920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23"/>
              <p:cNvSpPr txBox="1"/>
              <p:nvPr/>
            </p:nvSpPr>
            <p:spPr>
              <a:xfrm>
                <a:off x="609480" y="4952880"/>
                <a:ext cx="1908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24"/>
              <p:cNvSpPr txBox="1"/>
              <p:nvPr/>
            </p:nvSpPr>
            <p:spPr>
              <a:xfrm>
                <a:off x="644400" y="6019920"/>
                <a:ext cx="1933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1" name="AutoShape 25"/>
          <p:cNvSpPr/>
          <p:nvPr/>
        </p:nvSpPr>
        <p:spPr>
          <a:xfrm>
            <a:off x="3657600" y="4343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26"/>
          <p:cNvSpPr/>
          <p:nvPr/>
        </p:nvSpPr>
        <p:spPr>
          <a:xfrm>
            <a:off x="2743200" y="624852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27"/>
          <p:cNvSpPr/>
          <p:nvPr/>
        </p:nvSpPr>
        <p:spPr>
          <a:xfrm>
            <a:off x="5638680" y="5029200"/>
            <a:ext cx="395280" cy="504720"/>
          </a:xfrm>
          <a:custGeom>
            <a:avLst/>
            <a:gdLst>
              <a:gd name="textAreaLeft" fmla="*/ 0 w 395280"/>
              <a:gd name="textAreaRight" fmla="*/ 338760 w 395280"/>
              <a:gd name="textAreaTop" fmla="*/ 33660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8"/>
          <p:cNvSpPr/>
          <p:nvPr/>
        </p:nvSpPr>
        <p:spPr>
          <a:xfrm>
            <a:off x="134640" y="4098960"/>
            <a:ext cx="172440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\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29"/>
          <p:cNvSpPr/>
          <p:nvPr/>
        </p:nvSpPr>
        <p:spPr>
          <a:xfrm>
            <a:off x="190512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0"/>
          <p:cNvSpPr/>
          <p:nvPr/>
        </p:nvSpPr>
        <p:spPr>
          <a:xfrm>
            <a:off x="2448720" y="4114800"/>
            <a:ext cx="1054080" cy="579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3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9"/>
              <p:cNvSpPr txBox="1"/>
              <p:nvPr/>
            </p:nvSpPr>
            <p:spPr>
              <a:xfrm>
                <a:off x="7162920" y="5181480"/>
                <a:ext cx="1549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21"/>
              <p:cNvSpPr txBox="1"/>
              <p:nvPr/>
            </p:nvSpPr>
            <p:spPr>
              <a:xfrm>
                <a:off x="7162920" y="5716440"/>
                <a:ext cx="158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26"/>
              <p:cNvSpPr txBox="1"/>
              <p:nvPr/>
            </p:nvSpPr>
            <p:spPr>
              <a:xfrm>
                <a:off x="6553080" y="3733920"/>
                <a:ext cx="1828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1" name="Rectangle 3"/>
          <p:cNvSpPr/>
          <p:nvPr/>
        </p:nvSpPr>
        <p:spPr>
          <a:xfrm>
            <a:off x="2057400" y="182880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1219320" y="182880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609480" y="182880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2743200" y="182880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6477120" y="182880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7238880" y="182880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7924680" y="182880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304920" y="18288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1"/>
          <p:cNvSpPr/>
          <p:nvPr/>
        </p:nvSpPr>
        <p:spPr>
          <a:xfrm rot="16200000">
            <a:off x="1371600" y="1218960"/>
            <a:ext cx="304920" cy="2438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2"/>
          <p:cNvSpPr/>
          <p:nvPr/>
        </p:nvSpPr>
        <p:spPr>
          <a:xfrm rot="16200000">
            <a:off x="7315200" y="144756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923760" y="259092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6943680" y="259092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7"/>
          <p:cNvSpPr/>
          <p:nvPr/>
        </p:nvSpPr>
        <p:spPr>
          <a:xfrm rot="5400000">
            <a:off x="4800240" y="-1219320"/>
            <a:ext cx="228600" cy="5715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4497840" y="114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228600" y="3200400"/>
            <a:ext cx="676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at job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gets processed first 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4"/>
          <p:cNvSpPr/>
          <p:nvPr/>
        </p:nvSpPr>
        <p:spPr>
          <a:xfrm>
            <a:off x="309960" y="3809880"/>
            <a:ext cx="92124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1688760" y="3809880"/>
            <a:ext cx="875520" cy="51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28"/>
              <p:cNvSpPr txBox="1"/>
              <p:nvPr/>
            </p:nvSpPr>
            <p:spPr>
              <a:xfrm>
                <a:off x="3200400" y="3809880"/>
                <a:ext cx="20574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30"/>
              <p:cNvSpPr txBox="1"/>
              <p:nvPr/>
            </p:nvSpPr>
            <p:spPr>
              <a:xfrm>
                <a:off x="3352680" y="4419720"/>
                <a:ext cx="21337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31"/>
              <p:cNvSpPr txBox="1"/>
              <p:nvPr/>
            </p:nvSpPr>
            <p:spPr>
              <a:xfrm>
                <a:off x="2133720" y="5029200"/>
                <a:ext cx="29718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32"/>
              <p:cNvSpPr txBox="1"/>
              <p:nvPr/>
            </p:nvSpPr>
            <p:spPr>
              <a:xfrm>
                <a:off x="5715000" y="4572000"/>
                <a:ext cx="32338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3"/>
              <p:cNvSpPr txBox="1"/>
              <p:nvPr/>
            </p:nvSpPr>
            <p:spPr>
              <a:xfrm>
                <a:off x="685800" y="6348240"/>
                <a:ext cx="82310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13" name="Rectangle 35"/>
          <p:cNvSpPr/>
          <p:nvPr/>
        </p:nvSpPr>
        <p:spPr>
          <a:xfrm>
            <a:off x="309960" y="4419720"/>
            <a:ext cx="92124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37"/>
          <p:cNvSpPr/>
          <p:nvPr/>
        </p:nvSpPr>
        <p:spPr>
          <a:xfrm>
            <a:off x="1619280" y="4419720"/>
            <a:ext cx="1387080" cy="51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38"/>
          <p:cNvSpPr/>
          <p:nvPr/>
        </p:nvSpPr>
        <p:spPr>
          <a:xfrm>
            <a:off x="164160" y="5029200"/>
            <a:ext cx="101412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44"/>
          <p:cNvSpPr/>
          <p:nvPr/>
        </p:nvSpPr>
        <p:spPr>
          <a:xfrm>
            <a:off x="1219320" y="4038480"/>
            <a:ext cx="380880" cy="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5"/>
          <p:cNvSpPr/>
          <p:nvPr/>
        </p:nvSpPr>
        <p:spPr>
          <a:xfrm>
            <a:off x="1219320" y="4648320"/>
            <a:ext cx="380880" cy="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46"/>
          <p:cNvSpPr/>
          <p:nvPr/>
        </p:nvSpPr>
        <p:spPr>
          <a:xfrm>
            <a:off x="1219320" y="5334120"/>
            <a:ext cx="838080" cy="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47"/>
          <p:cNvSpPr/>
          <p:nvPr/>
        </p:nvSpPr>
        <p:spPr>
          <a:xfrm flipH="1">
            <a:off x="5333760" y="396252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48"/>
          <p:cNvSpPr/>
          <p:nvPr/>
        </p:nvSpPr>
        <p:spPr>
          <a:xfrm>
            <a:off x="2590920" y="4038480"/>
            <a:ext cx="533160" cy="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49"/>
          <p:cNvSpPr/>
          <p:nvPr/>
        </p:nvSpPr>
        <p:spPr>
          <a:xfrm>
            <a:off x="3048120" y="4648320"/>
            <a:ext cx="304560" cy="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50"/>
          <p:cNvSpPr/>
          <p:nvPr/>
        </p:nvSpPr>
        <p:spPr>
          <a:xfrm flipH="1">
            <a:off x="5486400" y="4038480"/>
            <a:ext cx="990720" cy="5335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51"/>
          <p:cNvSpPr/>
          <p:nvPr/>
        </p:nvSpPr>
        <p:spPr>
          <a:xfrm>
            <a:off x="5257800" y="4114800"/>
            <a:ext cx="99072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52"/>
          <p:cNvSpPr/>
          <p:nvPr/>
        </p:nvSpPr>
        <p:spPr>
          <a:xfrm>
            <a:off x="5486400" y="4724280"/>
            <a:ext cx="228600" cy="763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53"/>
          <p:cNvSpPr/>
          <p:nvPr/>
        </p:nvSpPr>
        <p:spPr>
          <a:xfrm flipV="1">
            <a:off x="5105520" y="495288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54"/>
          <p:cNvSpPr/>
          <p:nvPr/>
        </p:nvSpPr>
        <p:spPr>
          <a:xfrm flipH="1">
            <a:off x="5181480" y="5105520"/>
            <a:ext cx="990720" cy="1143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55"/>
          <p:cNvSpPr/>
          <p:nvPr/>
        </p:nvSpPr>
        <p:spPr>
          <a:xfrm flipH="1">
            <a:off x="5638680" y="5486400"/>
            <a:ext cx="1524240" cy="762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56"/>
          <p:cNvSpPr/>
          <p:nvPr/>
        </p:nvSpPr>
        <p:spPr>
          <a:xfrm flipH="1">
            <a:off x="6095880" y="5943600"/>
            <a:ext cx="1067040" cy="380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1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trongly NP-hard, there do exist polynomial approximation schemes for it, that is,         a family of (1+1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approximation algorithms               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 2, 3, …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plain the polynomial approximation scheme, we first examine an artificial situation that we shall use as a tool in analyzing the eventual algorith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ed In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4"/>
              <p:cNvSpPr txBox="1"/>
              <p:nvPr/>
            </p:nvSpPr>
            <p:spPr>
              <a:xfrm>
                <a:off x="658800" y="1922400"/>
                <a:ext cx="7900920" cy="372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us focus on a specific instance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pose we know an optimal schedule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 with value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 us denote the starting job of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 as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addition, we introduse a parameter </m:t>
                        </m:r>
                        <m:r>
                          <m:t xml:space="preserve">δ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to be specified lat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w consider a modified instance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  <m:r>
                      <m:rPr>
                        <m:lit/>
                        <m:nor/>
                      </m:rPr>
                      <m:t xml:space="preserve"> as follows: for all jobs 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δ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et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q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while for those job 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ith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δ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et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rPr>
                        <m:lit/>
                        <m:nor/>
                      </m:rPr>
                      <m:t xml:space="preserve"> and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q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The processing times of all jobs</m:t>
                    </m:r>
                    <m:r>
                      <m:rPr>
                        <m:lit/>
                        <m:nor/>
                      </m:rPr>
                      <m:t xml:space="preserve">remain unchanged in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ed Instan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70"/>
              <p:cNvSpPr txBox="1"/>
              <p:nvPr/>
            </p:nvSpPr>
            <p:spPr>
              <a:xfrm>
                <a:off x="228600" y="5638680"/>
                <a:ext cx="79246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 is an optimal schedule for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Moreover, any schedule that is optimal for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is also optimal for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Rectangle 4"/>
          <p:cNvSpPr/>
          <p:nvPr/>
        </p:nvSpPr>
        <p:spPr>
          <a:xfrm>
            <a:off x="2666880" y="23623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219320" y="2362320"/>
            <a:ext cx="1447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04920" y="23623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4952880" y="2362320"/>
            <a:ext cx="175284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6934320" y="23623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5268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3657600" y="23623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426708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3"/>
          <p:cNvSpPr/>
          <p:nvPr/>
        </p:nvSpPr>
        <p:spPr>
          <a:xfrm>
            <a:off x="7620120" y="23623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4"/>
          <p:cNvSpPr/>
          <p:nvPr/>
        </p:nvSpPr>
        <p:spPr>
          <a:xfrm flipV="1">
            <a:off x="3657600" y="19807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5"/>
          <p:cNvSpPr/>
          <p:nvPr/>
        </p:nvSpPr>
        <p:spPr>
          <a:xfrm>
            <a:off x="3657600" y="1981080"/>
            <a:ext cx="5181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6"/>
          <p:cNvSpPr/>
          <p:nvPr/>
        </p:nvSpPr>
        <p:spPr>
          <a:xfrm>
            <a:off x="304920" y="2971800"/>
            <a:ext cx="88390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7"/>
          <p:cNvSpPr/>
          <p:nvPr/>
        </p:nvSpPr>
        <p:spPr>
          <a:xfrm>
            <a:off x="88390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8"/>
          <p:cNvSpPr/>
          <p:nvPr/>
        </p:nvSpPr>
        <p:spPr>
          <a:xfrm>
            <a:off x="8521200" y="2922480"/>
            <a:ext cx="72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9"/>
          <p:cNvSpPr/>
          <p:nvPr/>
        </p:nvSpPr>
        <p:spPr>
          <a:xfrm>
            <a:off x="5319720" y="2424240"/>
            <a:ext cx="180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20"/>
          <p:cNvSpPr/>
          <p:nvPr/>
        </p:nvSpPr>
        <p:spPr>
          <a:xfrm>
            <a:off x="60948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1"/>
          <p:cNvSpPr/>
          <p:nvPr/>
        </p:nvSpPr>
        <p:spPr>
          <a:xfrm>
            <a:off x="91440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2"/>
          <p:cNvSpPr/>
          <p:nvPr/>
        </p:nvSpPr>
        <p:spPr>
          <a:xfrm>
            <a:off x="6705720" y="23623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23"/>
          <p:cNvSpPr/>
          <p:nvPr/>
        </p:nvSpPr>
        <p:spPr>
          <a:xfrm>
            <a:off x="4572000" y="2362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24"/>
          <p:cNvSpPr/>
          <p:nvPr/>
        </p:nvSpPr>
        <p:spPr>
          <a:xfrm flipV="1">
            <a:off x="6705720" y="1752480"/>
            <a:ext cx="0" cy="6098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25"/>
          <p:cNvSpPr/>
          <p:nvPr/>
        </p:nvSpPr>
        <p:spPr>
          <a:xfrm>
            <a:off x="6705720" y="1752480"/>
            <a:ext cx="53316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6"/>
          <p:cNvSpPr/>
          <p:nvPr/>
        </p:nvSpPr>
        <p:spPr>
          <a:xfrm>
            <a:off x="7238880" y="1752480"/>
            <a:ext cx="0" cy="12193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7"/>
          <p:cNvSpPr/>
          <p:nvPr/>
        </p:nvSpPr>
        <p:spPr>
          <a:xfrm flipV="1">
            <a:off x="2666880" y="1599840"/>
            <a:ext cx="0" cy="762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8"/>
          <p:cNvSpPr/>
          <p:nvPr/>
        </p:nvSpPr>
        <p:spPr>
          <a:xfrm>
            <a:off x="2666880" y="1600200"/>
            <a:ext cx="57150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9"/>
          <p:cNvSpPr/>
          <p:nvPr/>
        </p:nvSpPr>
        <p:spPr>
          <a:xfrm>
            <a:off x="8381880" y="1600200"/>
            <a:ext cx="0" cy="137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30"/>
          <p:cNvSpPr/>
          <p:nvPr/>
        </p:nvSpPr>
        <p:spPr>
          <a:xfrm>
            <a:off x="685800" y="2895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31"/>
          <p:cNvSpPr/>
          <p:nvPr/>
        </p:nvSpPr>
        <p:spPr>
          <a:xfrm>
            <a:off x="4343400" y="2895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463320" y="2971800"/>
            <a:ext cx="3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34"/>
          <p:cNvSpPr/>
          <p:nvPr/>
        </p:nvSpPr>
        <p:spPr>
          <a:xfrm>
            <a:off x="4120920" y="2971800"/>
            <a:ext cx="3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7"/>
          <p:cNvSpPr/>
          <p:nvPr/>
        </p:nvSpPr>
        <p:spPr>
          <a:xfrm>
            <a:off x="2666880" y="4495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8"/>
          <p:cNvSpPr/>
          <p:nvPr/>
        </p:nvSpPr>
        <p:spPr>
          <a:xfrm>
            <a:off x="1219320" y="4495680"/>
            <a:ext cx="14475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9"/>
          <p:cNvSpPr/>
          <p:nvPr/>
        </p:nvSpPr>
        <p:spPr>
          <a:xfrm>
            <a:off x="304920" y="44956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40"/>
          <p:cNvSpPr/>
          <p:nvPr/>
        </p:nvSpPr>
        <p:spPr>
          <a:xfrm>
            <a:off x="4952880" y="4495680"/>
            <a:ext cx="1752840" cy="38124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41"/>
          <p:cNvSpPr/>
          <p:nvPr/>
        </p:nvSpPr>
        <p:spPr>
          <a:xfrm>
            <a:off x="6934320" y="44956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42"/>
          <p:cNvSpPr/>
          <p:nvPr/>
        </p:nvSpPr>
        <p:spPr>
          <a:xfrm>
            <a:off x="33526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43"/>
          <p:cNvSpPr/>
          <p:nvPr/>
        </p:nvSpPr>
        <p:spPr>
          <a:xfrm>
            <a:off x="3657600" y="44956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4"/>
          <p:cNvSpPr/>
          <p:nvPr/>
        </p:nvSpPr>
        <p:spPr>
          <a:xfrm>
            <a:off x="42670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5"/>
          <p:cNvSpPr/>
          <p:nvPr/>
        </p:nvSpPr>
        <p:spPr>
          <a:xfrm>
            <a:off x="7620120" y="4495680"/>
            <a:ext cx="609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46"/>
          <p:cNvSpPr/>
          <p:nvPr/>
        </p:nvSpPr>
        <p:spPr>
          <a:xfrm flipV="1">
            <a:off x="3657600" y="41148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7"/>
          <p:cNvSpPr/>
          <p:nvPr/>
        </p:nvSpPr>
        <p:spPr>
          <a:xfrm>
            <a:off x="3657600" y="4114800"/>
            <a:ext cx="5181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8"/>
          <p:cNvSpPr/>
          <p:nvPr/>
        </p:nvSpPr>
        <p:spPr>
          <a:xfrm>
            <a:off x="8839080" y="411480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49"/>
          <p:cNvSpPr/>
          <p:nvPr/>
        </p:nvSpPr>
        <p:spPr>
          <a:xfrm>
            <a:off x="5319720" y="4557600"/>
            <a:ext cx="180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50"/>
          <p:cNvSpPr/>
          <p:nvPr/>
        </p:nvSpPr>
        <p:spPr>
          <a:xfrm>
            <a:off x="6094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51"/>
          <p:cNvSpPr/>
          <p:nvPr/>
        </p:nvSpPr>
        <p:spPr>
          <a:xfrm>
            <a:off x="91440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2"/>
          <p:cNvSpPr/>
          <p:nvPr/>
        </p:nvSpPr>
        <p:spPr>
          <a:xfrm>
            <a:off x="670572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53"/>
          <p:cNvSpPr/>
          <p:nvPr/>
        </p:nvSpPr>
        <p:spPr>
          <a:xfrm>
            <a:off x="4572000" y="4495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54"/>
          <p:cNvSpPr/>
          <p:nvPr/>
        </p:nvSpPr>
        <p:spPr>
          <a:xfrm flipV="1">
            <a:off x="6705720" y="3885840"/>
            <a:ext cx="0" cy="6094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55"/>
          <p:cNvSpPr/>
          <p:nvPr/>
        </p:nvSpPr>
        <p:spPr>
          <a:xfrm>
            <a:off x="6705720" y="3886200"/>
            <a:ext cx="213336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57"/>
          <p:cNvSpPr/>
          <p:nvPr/>
        </p:nvSpPr>
        <p:spPr>
          <a:xfrm flipV="1">
            <a:off x="2666880" y="3733920"/>
            <a:ext cx="0" cy="761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8"/>
          <p:cNvSpPr/>
          <p:nvPr/>
        </p:nvSpPr>
        <p:spPr>
          <a:xfrm>
            <a:off x="2666880" y="3733920"/>
            <a:ext cx="6172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59"/>
          <p:cNvSpPr/>
          <p:nvPr/>
        </p:nvSpPr>
        <p:spPr>
          <a:xfrm>
            <a:off x="8839080" y="3733920"/>
            <a:ext cx="0" cy="137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60"/>
          <p:cNvSpPr/>
          <p:nvPr/>
        </p:nvSpPr>
        <p:spPr>
          <a:xfrm>
            <a:off x="114300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61"/>
          <p:cNvSpPr/>
          <p:nvPr/>
        </p:nvSpPr>
        <p:spPr>
          <a:xfrm>
            <a:off x="487692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64"/>
          <p:cNvSpPr/>
          <p:nvPr/>
        </p:nvSpPr>
        <p:spPr>
          <a:xfrm>
            <a:off x="304920" y="5105520"/>
            <a:ext cx="88390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6"/>
          <p:cNvSpPr/>
          <p:nvPr/>
        </p:nvSpPr>
        <p:spPr>
          <a:xfrm>
            <a:off x="8426880" y="5181480"/>
            <a:ext cx="69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67"/>
          <p:cNvSpPr/>
          <p:nvPr/>
        </p:nvSpPr>
        <p:spPr>
          <a:xfrm>
            <a:off x="762120" y="3048120"/>
            <a:ext cx="380880" cy="198108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68"/>
          <p:cNvSpPr/>
          <p:nvPr/>
        </p:nvSpPr>
        <p:spPr>
          <a:xfrm>
            <a:off x="441972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69"/>
          <p:cNvSpPr/>
          <p:nvPr/>
        </p:nvSpPr>
        <p:spPr>
          <a:xfrm>
            <a:off x="4419720" y="3048120"/>
            <a:ext cx="533160" cy="198108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72"/>
          <p:cNvSpPr/>
          <p:nvPr/>
        </p:nvSpPr>
        <p:spPr>
          <a:xfrm>
            <a:off x="366480" y="12384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74"/>
              <p:cNvSpPr txBox="1"/>
              <p:nvPr/>
            </p:nvSpPr>
            <p:spPr>
              <a:xfrm>
                <a:off x="228600" y="3581280"/>
                <a:ext cx="419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3|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560" y="1523880"/>
            <a:ext cx="8381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Partition. Given natur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                   such that                 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partition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ip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 the sum of the numbers in each subset is equal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Reduction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special” jobs 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partition” job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” job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i=2,…,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” job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re exist a schedul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838080" y="5334120"/>
            <a:ext cx="6127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11040" y="517680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311040" y="548172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11040" y="578628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4"/>
          <p:cNvSpPr/>
          <p:nvPr/>
        </p:nvSpPr>
        <p:spPr>
          <a:xfrm>
            <a:off x="838080" y="6305400"/>
            <a:ext cx="7391520" cy="19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7543800" y="51624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082320" y="630540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1"/>
          <p:cNvSpPr/>
          <p:nvPr/>
        </p:nvSpPr>
        <p:spPr>
          <a:xfrm>
            <a:off x="4301640" y="630540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671760" y="6286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6"/>
          <p:cNvSpPr/>
          <p:nvPr/>
        </p:nvSpPr>
        <p:spPr>
          <a:xfrm>
            <a:off x="838080" y="516240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447920" y="5638680"/>
            <a:ext cx="612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057400" y="5943600"/>
            <a:ext cx="122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2"/>
          <p:cNvSpPr/>
          <p:nvPr/>
        </p:nvSpPr>
        <p:spPr>
          <a:xfrm>
            <a:off x="762120" y="62895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2"/>
          <p:cNvSpPr/>
          <p:nvPr/>
        </p:nvSpPr>
        <p:spPr>
          <a:xfrm>
            <a:off x="4419720" y="62895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2"/>
          <p:cNvSpPr/>
          <p:nvPr/>
        </p:nvSpPr>
        <p:spPr>
          <a:xfrm>
            <a:off x="3200400" y="62895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2"/>
          <p:cNvSpPr/>
          <p:nvPr/>
        </p:nvSpPr>
        <p:spPr>
          <a:xfrm>
            <a:off x="1981080" y="62895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1863360" y="628668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838080" y="5638680"/>
            <a:ext cx="612720" cy="306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057400" y="5638680"/>
            <a:ext cx="6127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6"/>
              <p:cNvSpPr txBox="1"/>
              <p:nvPr/>
            </p:nvSpPr>
            <p:spPr>
              <a:xfrm>
                <a:off x="2057400" y="1905120"/>
                <a:ext cx="120636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6"/>
          <p:cNvSpPr/>
          <p:nvPr/>
        </p:nvSpPr>
        <p:spPr>
          <a:xfrm>
            <a:off x="1447920" y="5334120"/>
            <a:ext cx="1224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666880" y="5334120"/>
            <a:ext cx="1224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886200" y="5334120"/>
            <a:ext cx="1224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5105520" y="5334120"/>
            <a:ext cx="1224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64000" y="5638680"/>
            <a:ext cx="612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273480" y="5638680"/>
            <a:ext cx="6127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886200" y="5638680"/>
            <a:ext cx="612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495680" y="5638680"/>
            <a:ext cx="6127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105520" y="5638680"/>
            <a:ext cx="612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715000" y="5638680"/>
            <a:ext cx="6127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0" y="5638680"/>
            <a:ext cx="612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931080" y="5638680"/>
            <a:ext cx="6127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71680" y="5943600"/>
            <a:ext cx="122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491000" y="5943600"/>
            <a:ext cx="122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5710320" y="5943600"/>
            <a:ext cx="122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931080" y="5943600"/>
            <a:ext cx="612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7264080" y="6305400"/>
            <a:ext cx="10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2"/>
          <p:cNvSpPr/>
          <p:nvPr/>
        </p:nvSpPr>
        <p:spPr>
          <a:xfrm>
            <a:off x="7527960" y="62895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and small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32"/>
              <p:cNvSpPr txBox="1"/>
              <p:nvPr/>
            </p:nvSpPr>
            <p:spPr>
              <a:xfrm>
                <a:off x="8381880" y="274320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38"/>
              <p:cNvSpPr txBox="1"/>
              <p:nvPr/>
            </p:nvSpPr>
            <p:spPr>
              <a:xfrm>
                <a:off x="3733920" y="5367240"/>
                <a:ext cx="4190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≤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Rectangle 4"/>
          <p:cNvSpPr/>
          <p:nvPr/>
        </p:nvSpPr>
        <p:spPr>
          <a:xfrm>
            <a:off x="2514600" y="2057400"/>
            <a:ext cx="685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1066680" y="2057400"/>
            <a:ext cx="1447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16812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4800600" y="2057400"/>
            <a:ext cx="175248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6797520" y="2071800"/>
            <a:ext cx="685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9"/>
          <p:cNvSpPr/>
          <p:nvPr/>
        </p:nvSpPr>
        <p:spPr>
          <a:xfrm>
            <a:off x="321624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0"/>
          <p:cNvSpPr/>
          <p:nvPr/>
        </p:nvSpPr>
        <p:spPr>
          <a:xfrm>
            <a:off x="3521160" y="20718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1"/>
          <p:cNvSpPr/>
          <p:nvPr/>
        </p:nvSpPr>
        <p:spPr>
          <a:xfrm>
            <a:off x="413064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2"/>
          <p:cNvSpPr/>
          <p:nvPr/>
        </p:nvSpPr>
        <p:spPr>
          <a:xfrm>
            <a:off x="7483320" y="207180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"/>
          <p:cNvSpPr/>
          <p:nvPr/>
        </p:nvSpPr>
        <p:spPr>
          <a:xfrm flipV="1">
            <a:off x="3521160" y="169020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3521160" y="1690560"/>
            <a:ext cx="5181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8702640" y="169056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6"/>
          <p:cNvSpPr/>
          <p:nvPr/>
        </p:nvSpPr>
        <p:spPr>
          <a:xfrm>
            <a:off x="5183280" y="2133720"/>
            <a:ext cx="180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7"/>
          <p:cNvSpPr/>
          <p:nvPr/>
        </p:nvSpPr>
        <p:spPr>
          <a:xfrm>
            <a:off x="47304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8"/>
          <p:cNvSpPr/>
          <p:nvPr/>
        </p:nvSpPr>
        <p:spPr>
          <a:xfrm>
            <a:off x="777960" y="2071800"/>
            <a:ext cx="304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9"/>
          <p:cNvSpPr/>
          <p:nvPr/>
        </p:nvSpPr>
        <p:spPr>
          <a:xfrm>
            <a:off x="6568920" y="2071800"/>
            <a:ext cx="228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20"/>
          <p:cNvSpPr/>
          <p:nvPr/>
        </p:nvSpPr>
        <p:spPr>
          <a:xfrm>
            <a:off x="4435560" y="2071800"/>
            <a:ext cx="380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1"/>
          <p:cNvSpPr/>
          <p:nvPr/>
        </p:nvSpPr>
        <p:spPr>
          <a:xfrm flipV="1">
            <a:off x="6568920" y="1461960"/>
            <a:ext cx="0" cy="6098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6568920" y="1461960"/>
            <a:ext cx="2133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3"/>
          <p:cNvSpPr/>
          <p:nvPr/>
        </p:nvSpPr>
        <p:spPr>
          <a:xfrm flipV="1">
            <a:off x="2530440" y="1309320"/>
            <a:ext cx="0" cy="762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24"/>
          <p:cNvSpPr/>
          <p:nvPr/>
        </p:nvSpPr>
        <p:spPr>
          <a:xfrm>
            <a:off x="2530440" y="1309680"/>
            <a:ext cx="6172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25"/>
          <p:cNvSpPr/>
          <p:nvPr/>
        </p:nvSpPr>
        <p:spPr>
          <a:xfrm>
            <a:off x="8702640" y="1309680"/>
            <a:ext cx="0" cy="137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26"/>
          <p:cNvSpPr/>
          <p:nvPr/>
        </p:nvSpPr>
        <p:spPr>
          <a:xfrm>
            <a:off x="1006560" y="260496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27"/>
          <p:cNvSpPr/>
          <p:nvPr/>
        </p:nvSpPr>
        <p:spPr>
          <a:xfrm>
            <a:off x="4740120" y="26049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168120" y="2681280"/>
            <a:ext cx="88394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29"/>
              <p:cNvSpPr txBox="1"/>
              <p:nvPr/>
            </p:nvSpPr>
            <p:spPr>
              <a:xfrm>
                <a:off x="0" y="1219320"/>
                <a:ext cx="876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Text Box 30"/>
          <p:cNvSpPr/>
          <p:nvPr/>
        </p:nvSpPr>
        <p:spPr>
          <a:xfrm>
            <a:off x="1084680" y="1233360"/>
            <a:ext cx="3970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1"/>
          <p:cNvSpPr/>
          <p:nvPr/>
        </p:nvSpPr>
        <p:spPr>
          <a:xfrm>
            <a:off x="1694520" y="1233360"/>
            <a:ext cx="3970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4"/>
          <p:cNvSpPr/>
          <p:nvPr/>
        </p:nvSpPr>
        <p:spPr>
          <a:xfrm>
            <a:off x="228240" y="3276720"/>
            <a:ext cx="77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us analyze the schedul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ed by Jacks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rule on this in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5"/>
          <p:cNvSpPr/>
          <p:nvPr/>
        </p:nvSpPr>
        <p:spPr>
          <a:xfrm>
            <a:off x="306000" y="4521240"/>
            <a:ext cx="2943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terference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6"/>
          <p:cNvSpPr/>
          <p:nvPr/>
        </p:nvSpPr>
        <p:spPr>
          <a:xfrm>
            <a:off x="4274640" y="4495680"/>
            <a:ext cx="33566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7"/>
          <p:cNvSpPr/>
          <p:nvPr/>
        </p:nvSpPr>
        <p:spPr>
          <a:xfrm>
            <a:off x="697320" y="5359320"/>
            <a:ext cx="10879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5"/>
          <p:cNvSpPr/>
          <p:nvPr/>
        </p:nvSpPr>
        <p:spPr>
          <a:xfrm>
            <a:off x="463680" y="3733920"/>
            <a:ext cx="508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tical job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erenc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52"/>
          <p:cNvSpPr/>
          <p:nvPr/>
        </p:nvSpPr>
        <p:spPr>
          <a:xfrm>
            <a:off x="3352680" y="46483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53"/>
          <p:cNvSpPr/>
          <p:nvPr/>
        </p:nvSpPr>
        <p:spPr>
          <a:xfrm>
            <a:off x="1905120" y="5486400"/>
            <a:ext cx="1676160" cy="304920"/>
          </a:xfrm>
          <a:prstGeom prst="rightArrow">
            <a:avLst>
              <a:gd name="adj1" fmla="val 50000"/>
              <a:gd name="adj2" fmla="val 1374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and small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3"/>
              <p:cNvSpPr txBox="1"/>
              <p:nvPr/>
            </p:nvSpPr>
            <p:spPr>
              <a:xfrm>
                <a:off x="8381880" y="274320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5"/>
              <p:cNvSpPr txBox="1"/>
              <p:nvPr/>
            </p:nvSpPr>
            <p:spPr>
              <a:xfrm>
                <a:off x="5867280" y="4191120"/>
                <a:ext cx="2438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6" name="Rectangle 6"/>
          <p:cNvSpPr/>
          <p:nvPr/>
        </p:nvSpPr>
        <p:spPr>
          <a:xfrm>
            <a:off x="2514600" y="2057400"/>
            <a:ext cx="685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1066680" y="2057400"/>
            <a:ext cx="1447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16812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4800600" y="2057400"/>
            <a:ext cx="175248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6797520" y="2071800"/>
            <a:ext cx="685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321624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3521160" y="20718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413064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7483320" y="207180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5"/>
          <p:cNvSpPr/>
          <p:nvPr/>
        </p:nvSpPr>
        <p:spPr>
          <a:xfrm flipV="1">
            <a:off x="3521160" y="169020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6"/>
          <p:cNvSpPr/>
          <p:nvPr/>
        </p:nvSpPr>
        <p:spPr>
          <a:xfrm>
            <a:off x="3521160" y="1690560"/>
            <a:ext cx="5181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7"/>
          <p:cNvSpPr/>
          <p:nvPr/>
        </p:nvSpPr>
        <p:spPr>
          <a:xfrm>
            <a:off x="8702640" y="169056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9"/>
          <p:cNvSpPr/>
          <p:nvPr/>
        </p:nvSpPr>
        <p:spPr>
          <a:xfrm>
            <a:off x="47304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20"/>
          <p:cNvSpPr/>
          <p:nvPr/>
        </p:nvSpPr>
        <p:spPr>
          <a:xfrm>
            <a:off x="777960" y="2071800"/>
            <a:ext cx="304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21"/>
          <p:cNvSpPr/>
          <p:nvPr/>
        </p:nvSpPr>
        <p:spPr>
          <a:xfrm>
            <a:off x="6568920" y="2071800"/>
            <a:ext cx="228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2"/>
          <p:cNvSpPr/>
          <p:nvPr/>
        </p:nvSpPr>
        <p:spPr>
          <a:xfrm>
            <a:off x="4435560" y="2071800"/>
            <a:ext cx="380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23"/>
          <p:cNvSpPr/>
          <p:nvPr/>
        </p:nvSpPr>
        <p:spPr>
          <a:xfrm flipV="1">
            <a:off x="6568920" y="1461960"/>
            <a:ext cx="0" cy="6098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24"/>
          <p:cNvSpPr/>
          <p:nvPr/>
        </p:nvSpPr>
        <p:spPr>
          <a:xfrm>
            <a:off x="6568920" y="1461960"/>
            <a:ext cx="2133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25"/>
          <p:cNvSpPr/>
          <p:nvPr/>
        </p:nvSpPr>
        <p:spPr>
          <a:xfrm flipV="1">
            <a:off x="2530440" y="1309320"/>
            <a:ext cx="0" cy="762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26"/>
          <p:cNvSpPr/>
          <p:nvPr/>
        </p:nvSpPr>
        <p:spPr>
          <a:xfrm>
            <a:off x="2530440" y="1309680"/>
            <a:ext cx="6172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7"/>
          <p:cNvSpPr/>
          <p:nvPr/>
        </p:nvSpPr>
        <p:spPr>
          <a:xfrm>
            <a:off x="8702640" y="1309680"/>
            <a:ext cx="0" cy="137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28"/>
          <p:cNvSpPr/>
          <p:nvPr/>
        </p:nvSpPr>
        <p:spPr>
          <a:xfrm>
            <a:off x="1006560" y="260496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29"/>
          <p:cNvSpPr/>
          <p:nvPr/>
        </p:nvSpPr>
        <p:spPr>
          <a:xfrm>
            <a:off x="4740120" y="26049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30"/>
          <p:cNvSpPr/>
          <p:nvPr/>
        </p:nvSpPr>
        <p:spPr>
          <a:xfrm>
            <a:off x="168120" y="2681280"/>
            <a:ext cx="88394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31"/>
              <p:cNvSpPr txBox="1"/>
              <p:nvPr/>
            </p:nvSpPr>
            <p:spPr>
              <a:xfrm>
                <a:off x="228600" y="1066680"/>
                <a:ext cx="1143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1" name="Text Box 32"/>
          <p:cNvSpPr/>
          <p:nvPr/>
        </p:nvSpPr>
        <p:spPr>
          <a:xfrm>
            <a:off x="1450080" y="1219320"/>
            <a:ext cx="3970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33"/>
          <p:cNvSpPr/>
          <p:nvPr/>
        </p:nvSpPr>
        <p:spPr>
          <a:xfrm>
            <a:off x="1983240" y="1219320"/>
            <a:ext cx="3970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8"/>
          <p:cNvSpPr/>
          <p:nvPr/>
        </p:nvSpPr>
        <p:spPr>
          <a:xfrm>
            <a:off x="7174440" y="3276720"/>
            <a:ext cx="10879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9"/>
          <p:cNvSpPr/>
          <p:nvPr/>
        </p:nvSpPr>
        <p:spPr>
          <a:xfrm>
            <a:off x="223200" y="3276720"/>
            <a:ext cx="654804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ical job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erenc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40"/>
              <p:cNvSpPr txBox="1"/>
              <p:nvPr/>
            </p:nvSpPr>
            <p:spPr>
              <a:xfrm>
                <a:off x="914400" y="4114800"/>
                <a:ext cx="2438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41"/>
              <p:cNvSpPr txBox="1"/>
              <p:nvPr/>
            </p:nvSpPr>
            <p:spPr>
              <a:xfrm>
                <a:off x="7162920" y="4952880"/>
                <a:ext cx="11430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42"/>
              <p:cNvSpPr txBox="1"/>
              <p:nvPr/>
            </p:nvSpPr>
            <p:spPr>
              <a:xfrm>
                <a:off x="1447920" y="6019920"/>
                <a:ext cx="73152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Text Box 44"/>
          <p:cNvSpPr/>
          <p:nvPr/>
        </p:nvSpPr>
        <p:spPr>
          <a:xfrm>
            <a:off x="246960" y="5029200"/>
            <a:ext cx="6133680" cy="579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gins processing after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45"/>
          <p:cNvSpPr/>
          <p:nvPr/>
        </p:nvSpPr>
        <p:spPr>
          <a:xfrm>
            <a:off x="8381880" y="3505320"/>
            <a:ext cx="457200" cy="2209680"/>
          </a:xfrm>
          <a:custGeom>
            <a:avLst/>
            <a:gdLst>
              <a:gd name="textAreaLeft" fmla="*/ 61200 w 457200"/>
              <a:gd name="textAreaRight" fmla="*/ 396000 w 457200"/>
              <a:gd name="textAreaTop" fmla="*/ 443880 h 2209680"/>
              <a:gd name="textAreaBottom" fmla="*/ 14702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82" stAng="-5400000" swAng="5400000"/>
                <a:lnTo>
                  <a:pt x="21600" y="10032"/>
                </a:lnTo>
                <a:arcTo wR="21600" hR="8682" stAng="0" swAng="2544522"/>
                <a:lnTo>
                  <a:pt x="8700" y="20865"/>
                </a:lnTo>
                <a:lnTo>
                  <a:pt x="0" y="18039"/>
                </a:lnTo>
                <a:lnTo>
                  <a:pt x="8700" y="13743"/>
                </a:lnTo>
                <a:lnTo>
                  <a:pt x="8700" y="16629"/>
                </a:lnTo>
                <a:arcTo wR="21600" hR="8682" stAng="2544522" swAng="-2436802"/>
                <a:lnTo>
                  <a:pt x="21535" y="9357"/>
                </a:lnTo>
                <a:arcTo wR="21600" hR="8682" stAng="-107720" swAng="-5292280"/>
                <a:close/>
              </a:path>
              <a:path fill="darkenLess" w="21600" h="21600">
                <a:moveTo>
                  <a:pt x="0" y="0"/>
                </a:moveTo>
                <a:arcTo wR="21600" hR="8682" stAng="-5400000" swAng="5400000"/>
                <a:lnTo>
                  <a:pt x="21600" y="10032"/>
                </a:lnTo>
                <a:arcTo wR="21600" hR="8682" stAng="0" swAng="-107720"/>
                <a:lnTo>
                  <a:pt x="21535" y="9357"/>
                </a:lnTo>
                <a:arcTo wR="21600" hR="8682" stAng="-107720" swAng="-529228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47"/>
          <p:cNvSpPr/>
          <p:nvPr/>
        </p:nvSpPr>
        <p:spPr>
          <a:xfrm rot="10800000">
            <a:off x="6476760" y="3657600"/>
            <a:ext cx="609480" cy="457200"/>
          </a:xfrm>
          <a:custGeom>
            <a:avLst/>
            <a:gdLst>
              <a:gd name="textAreaLeft" fmla="*/ 0 w 609480"/>
              <a:gd name="textAreaRight" fmla="*/ 522360 w 609480"/>
              <a:gd name="textAreaTop" fmla="*/ 37224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6791" y="0"/>
                </a:moveTo>
                <a:lnTo>
                  <a:pt x="11981" y="7200"/>
                </a:lnTo>
                <a:lnTo>
                  <a:pt x="15067" y="7200"/>
                </a:lnTo>
                <a:lnTo>
                  <a:pt x="15067" y="17578"/>
                </a:lnTo>
                <a:lnTo>
                  <a:pt x="0" y="17578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6791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48"/>
          <p:cNvSpPr/>
          <p:nvPr/>
        </p:nvSpPr>
        <p:spPr>
          <a:xfrm rot="10800000">
            <a:off x="228240" y="4419360"/>
            <a:ext cx="609480" cy="533160"/>
          </a:xfrm>
          <a:custGeom>
            <a:avLst/>
            <a:gdLst>
              <a:gd name="textAreaLeft" fmla="*/ 0 w 609480"/>
              <a:gd name="textAreaRight" fmla="*/ 522360 w 609480"/>
              <a:gd name="textAreaTop" fmla="*/ 43416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6791" y="0"/>
                </a:moveTo>
                <a:lnTo>
                  <a:pt x="11981" y="7200"/>
                </a:lnTo>
                <a:lnTo>
                  <a:pt x="15067" y="7200"/>
                </a:lnTo>
                <a:lnTo>
                  <a:pt x="15067" y="17578"/>
                </a:lnTo>
                <a:lnTo>
                  <a:pt x="0" y="17578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6791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49"/>
          <p:cNvSpPr/>
          <p:nvPr/>
        </p:nvSpPr>
        <p:spPr>
          <a:xfrm rot="10800000">
            <a:off x="3504960" y="3885840"/>
            <a:ext cx="685800" cy="609480"/>
          </a:xfrm>
          <a:custGeom>
            <a:avLst/>
            <a:gdLst>
              <a:gd name="textAreaLeft" fmla="*/ 394560 w 685800"/>
              <a:gd name="textAreaRight" fmla="*/ 624600 w 685800"/>
              <a:gd name="textAreaTop" fmla="*/ 126720 h 609480"/>
              <a:gd name="textAreaBottom" fmla="*/ 216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149" y="0"/>
                </a:lnTo>
                <a:lnTo>
                  <a:pt x="14149" y="4500"/>
                </a:lnTo>
                <a:lnTo>
                  <a:pt x="12427" y="4500"/>
                </a:lnTo>
                <a:cubicBezTo>
                  <a:pt x="5564" y="4500"/>
                  <a:pt x="0" y="7929"/>
                  <a:pt x="0" y="12158"/>
                </a:cubicBezTo>
                <a:lnTo>
                  <a:pt x="0" y="21600"/>
                </a:lnTo>
                <a:lnTo>
                  <a:pt x="3228" y="21600"/>
                </a:lnTo>
                <a:lnTo>
                  <a:pt x="3228" y="12158"/>
                </a:lnTo>
                <a:cubicBezTo>
                  <a:pt x="3228" y="9673"/>
                  <a:pt x="7347" y="7658"/>
                  <a:pt x="12427" y="7658"/>
                </a:cubicBezTo>
                <a:lnTo>
                  <a:pt x="14149" y="7658"/>
                </a:lnTo>
                <a:lnTo>
                  <a:pt x="1414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50"/>
          <p:cNvSpPr/>
          <p:nvPr/>
        </p:nvSpPr>
        <p:spPr>
          <a:xfrm>
            <a:off x="6477120" y="51055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51"/>
          <p:cNvSpPr/>
          <p:nvPr/>
        </p:nvSpPr>
        <p:spPr>
          <a:xfrm>
            <a:off x="2057400" y="55627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52"/>
          <p:cNvSpPr/>
          <p:nvPr/>
        </p:nvSpPr>
        <p:spPr>
          <a:xfrm>
            <a:off x="2666880" y="4648320"/>
            <a:ext cx="2057400" cy="1523880"/>
          </a:xfrm>
          <a:prstGeom prst="line">
            <a:avLst/>
          </a:prstGeom>
          <a:ln w="4752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53"/>
          <p:cNvSpPr/>
          <p:nvPr/>
        </p:nvSpPr>
        <p:spPr>
          <a:xfrm>
            <a:off x="6705720" y="4724280"/>
            <a:ext cx="533160" cy="1447920"/>
          </a:xfrm>
          <a:prstGeom prst="line">
            <a:avLst/>
          </a:prstGeom>
          <a:ln w="4752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54"/>
          <p:cNvSpPr/>
          <p:nvPr/>
        </p:nvSpPr>
        <p:spPr>
          <a:xfrm flipV="1">
            <a:off x="7238880" y="3123720"/>
            <a:ext cx="914400" cy="7621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55"/>
          <p:cNvSpPr/>
          <p:nvPr/>
        </p:nvSpPr>
        <p:spPr>
          <a:xfrm>
            <a:off x="7238880" y="3124080"/>
            <a:ext cx="914400" cy="7621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4"/>
              <p:cNvSpPr txBox="1"/>
              <p:nvPr/>
            </p:nvSpPr>
            <p:spPr>
              <a:xfrm>
                <a:off x="152280" y="2209680"/>
                <a:ext cx="8610840" cy="22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us refer to the heuristic schedule just constructed as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we know the optimal starting times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of the jobs of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can reconstruct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 and ge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&lt;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esign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act, in order to reconstruct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is sufficient to know simply positions that each of the job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we can then run Jackso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rule with the exception that when a position belonging to a job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ached, we place that job next in the ordering. Of course, we also do not know the positions of the job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by try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hoice for positioning the job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equence and selecting the best schedule generated, we are guaranteed to find a schedule as good 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|B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uch cho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hoose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4"/>
              <p:cNvSpPr txBox="1"/>
              <p:nvPr/>
            </p:nvSpPr>
            <p:spPr>
              <a:xfrm>
                <a:off x="631800" y="2057400"/>
                <a:ext cx="7804080" cy="32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w we observe the tradeoff with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: by choosing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can guarantee that we produce a schedule of value at mo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r>
                          <m:t xml:space="preserve">k</m:t>
                        </m:r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k</m:t>
                            </m:r>
                          </m:e>
                        </m:d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 the other hand, the number of jobs in 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is bounded by 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so the number of possible choices for positions that we ne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try is </m:t>
                        </m:r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any fixed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we thus have a polynomial ti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lgorithm with a performance guarantee of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the job list by non-increasing processing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List Schedul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LPT 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/3-factor approximation algorithm fo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problems provide a good starting point for the study approximation algorithms, and historically they were among the first problems to be analyzed this w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as the first time that someone presented a worst-case analysis of an approximation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probably 1966, the year that Ron Graham analyzed a simple procedure for one of the most basic scheduling problem: minimizing makespan in an identical parallel machine environ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|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cal machin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must be processed without interruption for a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0 on on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, each of which can process at most one job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Scheduling (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 given a list of the jobs in some arbitrary order. Whenever a machine becomes available, the next job on the list is assigned to begin processing on the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rst Approximation Algorith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Theorem 10.1 (Graham [1966]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Scheduling Algorith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 approximation algorith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3"/>
              <p:cNvSpPr txBox="1"/>
              <p:nvPr/>
            </p:nvSpPr>
            <p:spPr>
              <a:xfrm>
                <a:off x="533520" y="2514600"/>
                <a:ext cx="1676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7"/>
              <p:cNvSpPr txBox="1"/>
              <p:nvPr/>
            </p:nvSpPr>
            <p:spPr>
              <a:xfrm>
                <a:off x="228600" y="4114800"/>
                <a:ext cx="89154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Rectangle 4"/>
          <p:cNvSpPr/>
          <p:nvPr/>
        </p:nvSpPr>
        <p:spPr>
          <a:xfrm>
            <a:off x="3886200" y="16002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800600" y="1600200"/>
            <a:ext cx="2286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886200" y="19051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5105520" y="19051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6400800" y="1905120"/>
            <a:ext cx="18288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886200" y="220968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5410080" y="2209680"/>
            <a:ext cx="1295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886200" y="2514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800600" y="2514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5715000" y="2514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6629400" y="2514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359160" y="152388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3359160" y="182880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3359160" y="213372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359160" y="243828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3886200" y="3124080"/>
            <a:ext cx="5029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6"/>
          <p:cNvSpPr/>
          <p:nvPr/>
        </p:nvSpPr>
        <p:spPr>
          <a:xfrm>
            <a:off x="8229600" y="22096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7"/>
          <p:cNvSpPr/>
          <p:nvPr/>
        </p:nvSpPr>
        <p:spPr>
          <a:xfrm>
            <a:off x="6400800" y="22096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6253560" y="3100320"/>
            <a:ext cx="345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1"/>
          <p:cNvSpPr/>
          <p:nvPr/>
        </p:nvSpPr>
        <p:spPr>
          <a:xfrm>
            <a:off x="8006760" y="3100320"/>
            <a:ext cx="4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3718440" y="31384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9"/>
              <p:cNvSpPr txBox="1"/>
              <p:nvPr/>
            </p:nvSpPr>
            <p:spPr>
              <a:xfrm>
                <a:off x="304920" y="1219320"/>
                <a:ext cx="27432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m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Line 42"/>
          <p:cNvSpPr/>
          <p:nvPr/>
        </p:nvSpPr>
        <p:spPr>
          <a:xfrm>
            <a:off x="3048120" y="2286000"/>
            <a:ext cx="990360" cy="297180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43"/>
          <p:cNvSpPr/>
          <p:nvPr/>
        </p:nvSpPr>
        <p:spPr>
          <a:xfrm>
            <a:off x="2209680" y="3200400"/>
            <a:ext cx="3962520" cy="213372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5:19:51Z</dcterms:created>
  <dc:creator>Kononov</dc:creator>
  <dc:description/>
  <dc:language>en-US</dc:language>
  <cp:lastModifiedBy>Alexander Kononov</cp:lastModifiedBy>
  <dcterms:modified xsi:type="dcterms:W3CDTF">2016-04-20T09:04:46Z</dcterms:modified>
  <cp:revision>134</cp:revision>
  <dc:subject/>
  <dc:title>Approximation Algorithms for Scheduling</dc:title>
</cp:coreProperties>
</file>