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A117-0D57-4489-B7F5-E2663A18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F88-CB5E-4BF6-971A-5F4B1359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complete bipartit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w.l.o.g that n \leq 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(V_1=v_1,…,v_n; V_2=w_1,…,w_m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358B-FD6C-4EB8-A8A5-DD8D0A0A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complete bipartit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w.l.o.g that n \leq 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(V_1=v_1,…,v_n; V_2=w_1,…,w_m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ADB9-7ABC-4409-B22C-AE6014B8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ay represent the assignment problem by the matrix C=(c_ij) and formulate it as a linear program with 0-1-variabbles x_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x_ij = 1 if and only if v_i is assigned to w_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2.8 and 2.9 each v_i is assigned to a unique element in V_2, and each w_j is involved in at the most one assign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9E6-8F2E-450D-803F-5227AE49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signment problem may be reduced to the transshipment problem by adding a source vertex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arcs (s, v_i) and a sink t with arcs (w_j, t) to the bipartite graph. All costs of the new arcs are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zero, and the lower and upper capacities are zero and one, respectively. Finally, we let s be the only supply nod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 the only demand node. Both supply and demand are equal to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4877-0758-4B06-9FD9-55A780F2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consider the single machine problem with unit processing times that can be reduced to assignment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725E-FFB8-4CB1-A7BE-C72E646D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984-0BEA-4482-A4B3-16836AA5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B1B-5D83-4B9D-9D0A-C1294609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240-5D79-412C-BB26-51BC3EF4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65D-4668-4F73-A3AB-06A90686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C28-5082-4330-988D-26D2236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C3E-107B-431E-9B04-13CE0F3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23C-2785-4273-8D3D-FDFCFCC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372-3945-4AC7-BCAA-F818AA51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7CB-4EC2-4BA6-8528-6DE73A87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7B8-D4C1-47B8-8C95-2A3D353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92B-FDD2-414C-9883-CF766A09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34E-DBA8-409D-8ACE-BC7012DC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B06D-4543-4933-84DA-786D810EA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13012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Problem, 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 optimal schedule σ which occupies time             slo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xi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construc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lu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ext time slot in which a job can be schedu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ime sl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σ is empty, a job scheduled later in σ can be mov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reasing the objectiv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the new schedule is optimal, too, and we have a contradiction to the maxima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ignment Probl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914400" y="1676520"/>
                <a:ext cx="7315200" cy="38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complete bipartite graph which define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rresponding assignment problem is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-values we choo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j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≤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5"/>
          <p:cNvSpPr/>
          <p:nvPr/>
        </p:nvSpPr>
        <p:spPr>
          <a:xfrm>
            <a:off x="2209680" y="3657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6324480" y="2971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6400800" y="40384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0"/>
          <p:cNvCxnSpPr>
            <a:stCxn id="202" idx="4"/>
            <a:endCxn id="200" idx="5"/>
          </p:cNvCxnSpPr>
          <p:nvPr/>
        </p:nvCxnSpPr>
        <p:spPr>
          <a:xfrm flipH="1" flipV="1">
            <a:off x="2415960" y="4854240"/>
            <a:ext cx="4061520" cy="124200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03" name="AutoShape 11"/>
          <p:cNvCxnSpPr>
            <a:stCxn id="198" idx="2"/>
            <a:endCxn id="197" idx="6"/>
          </p:cNvCxnSpPr>
          <p:nvPr/>
        </p:nvCxnSpPr>
        <p:spPr>
          <a:xfrm flipH="1">
            <a:off x="2361960" y="3047760"/>
            <a:ext cx="396288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04" name="Oval 14"/>
          <p:cNvSpPr/>
          <p:nvPr/>
        </p:nvSpPr>
        <p:spPr>
          <a:xfrm>
            <a:off x="2209680" y="2362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6400800" y="50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16"/>
          <p:cNvCxnSpPr>
            <a:stCxn id="205" idx="0"/>
            <a:endCxn id="204" idx="4"/>
          </p:cNvCxnSpPr>
          <p:nvPr/>
        </p:nvCxnSpPr>
        <p:spPr>
          <a:xfrm flipH="1" flipV="1">
            <a:off x="2285640" y="2513880"/>
            <a:ext cx="4191840" cy="2515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07" name="AutoShape 17"/>
          <p:cNvCxnSpPr>
            <a:stCxn id="202" idx="3"/>
            <a:endCxn id="208" idx="6"/>
          </p:cNvCxnSpPr>
          <p:nvPr/>
        </p:nvCxnSpPr>
        <p:spPr>
          <a:xfrm flipH="1" flipV="1">
            <a:off x="2437920" y="6019560"/>
            <a:ext cx="3985200" cy="547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09" name="AutoShape 18"/>
          <p:cNvCxnSpPr>
            <a:stCxn id="200" idx="5"/>
            <a:endCxn id="205" idx="3"/>
          </p:cNvCxnSpPr>
          <p:nvPr/>
        </p:nvCxnSpPr>
        <p:spPr>
          <a:xfrm>
            <a:off x="2416320" y="4854240"/>
            <a:ext cx="40075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0" name="AutoShape 23"/>
          <p:cNvCxnSpPr>
            <a:stCxn id="199" idx="1"/>
            <a:endCxn id="204" idx="5"/>
          </p:cNvCxnSpPr>
          <p:nvPr/>
        </p:nvCxnSpPr>
        <p:spPr>
          <a:xfrm flipH="1" flipV="1">
            <a:off x="2339640" y="2491560"/>
            <a:ext cx="4083840" cy="156924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11" name="AutoShape 25"/>
          <p:cNvCxnSpPr>
            <a:stCxn id="205" idx="1"/>
            <a:endCxn id="197" idx="5"/>
          </p:cNvCxnSpPr>
          <p:nvPr/>
        </p:nvCxnSpPr>
        <p:spPr>
          <a:xfrm flipH="1" flipV="1">
            <a:off x="2339640" y="3787560"/>
            <a:ext cx="4083840" cy="12643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08" name="Oval 26"/>
          <p:cNvSpPr/>
          <p:nvPr/>
        </p:nvSpPr>
        <p:spPr>
          <a:xfrm>
            <a:off x="2286000" y="5943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6328800" y="2492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18741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1874160" y="454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5"/>
          <p:cNvSpPr/>
          <p:nvPr/>
        </p:nvSpPr>
        <p:spPr>
          <a:xfrm>
            <a:off x="1907640" y="5710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3"/>
          <p:cNvSpPr/>
          <p:nvPr/>
        </p:nvSpPr>
        <p:spPr>
          <a:xfrm>
            <a:off x="18313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6400800" y="5943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6328800" y="35766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,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6405120" y="44956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,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2"/>
          <p:cNvSpPr/>
          <p:nvPr/>
        </p:nvSpPr>
        <p:spPr>
          <a:xfrm>
            <a:off x="6481440" y="5481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16"/>
          <p:cNvCxnSpPr>
            <a:stCxn id="202" idx="1"/>
            <a:endCxn id="204" idx="4"/>
          </p:cNvCxnSpPr>
          <p:nvPr/>
        </p:nvCxnSpPr>
        <p:spPr>
          <a:xfrm flipH="1" flipV="1">
            <a:off x="2285640" y="2513880"/>
            <a:ext cx="4137840" cy="345204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198" idx="2"/>
            <a:endCxn id="204" idx="6"/>
          </p:cNvCxnSpPr>
          <p:nvPr/>
        </p:nvCxnSpPr>
        <p:spPr>
          <a:xfrm flipH="1" flipV="1">
            <a:off x="2361960" y="2437920"/>
            <a:ext cx="3962880" cy="61056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23" name="AutoShape 16"/>
          <p:cNvCxnSpPr>
            <a:stCxn id="199" idx="2"/>
            <a:endCxn id="197" idx="6"/>
          </p:cNvCxnSpPr>
          <p:nvPr/>
        </p:nvCxnSpPr>
        <p:spPr>
          <a:xfrm flipH="1" flipV="1">
            <a:off x="2361960" y="3733560"/>
            <a:ext cx="4039200" cy="38160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224" name="AutoShape 16"/>
          <p:cNvCxnSpPr>
            <a:stCxn id="202" idx="3"/>
            <a:endCxn id="197" idx="5"/>
          </p:cNvCxnSpPr>
          <p:nvPr/>
        </p:nvCxnSpPr>
        <p:spPr>
          <a:xfrm flipH="1" flipV="1">
            <a:off x="2339640" y="3787560"/>
            <a:ext cx="4083840" cy="2286720"/>
          </a:xfrm>
          <a:prstGeom prst="straightConnector1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225" name="Text Box 52"/>
          <p:cNvSpPr/>
          <p:nvPr/>
        </p:nvSpPr>
        <p:spPr>
          <a:xfrm>
            <a:off x="3278520" y="219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2"/>
          <p:cNvSpPr/>
          <p:nvPr/>
        </p:nvSpPr>
        <p:spPr>
          <a:xfrm>
            <a:off x="3430800" y="257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3430800" y="287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3354480" y="3181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259272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2"/>
          <p:cNvSpPr/>
          <p:nvPr/>
        </p:nvSpPr>
        <p:spPr>
          <a:xfrm>
            <a:off x="3125880" y="34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2"/>
          <p:cNvSpPr/>
          <p:nvPr/>
        </p:nvSpPr>
        <p:spPr>
          <a:xfrm>
            <a:off x="3202200" y="373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3354840" y="4095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2897640" y="4572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3507480" y="4876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2821320" y="5619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Assignment Probl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and consider the correspondent complete bipartite graph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 the correspondent assignment problem is completely specified by            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ge arra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727600" y="1828800"/>
            <a:ext cx="2273400" cy="2133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eft Bracket 6"/>
          <p:cNvSpPr/>
          <p:nvPr/>
        </p:nvSpPr>
        <p:spPr>
          <a:xfrm>
            <a:off x="1219320" y="1954080"/>
            <a:ext cx="179280" cy="2160720"/>
          </a:xfrm>
          <a:custGeom>
            <a:avLst/>
            <a:gdLst>
              <a:gd name="textAreaLeft" fmla="*/ 52560 w 179280"/>
              <a:gd name="textAreaRight" fmla="*/ 179640 w 179280"/>
              <a:gd name="textAreaTop" fmla="*/ 7200 h 2160720"/>
              <a:gd name="textAreaBottom" fmla="*/ 21535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5"/>
                  <a:pt x="0" y="149"/>
                </a:cubicBezTo>
                <a:lnTo>
                  <a:pt x="0" y="21451"/>
                </a:lnTo>
                <a:cubicBezTo>
                  <a:pt x="0" y="2152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Bracket 7"/>
          <p:cNvSpPr/>
          <p:nvPr/>
        </p:nvSpPr>
        <p:spPr>
          <a:xfrm>
            <a:off x="3859200" y="1954080"/>
            <a:ext cx="179280" cy="2160720"/>
          </a:xfrm>
          <a:custGeom>
            <a:avLst/>
            <a:gdLst>
              <a:gd name="textAreaLeft" fmla="*/ 0 w 179280"/>
              <a:gd name="textAreaRight" fmla="*/ 125640 w 179280"/>
              <a:gd name="textAreaTop" fmla="*/ 7200 h 2160720"/>
              <a:gd name="textAreaBottom" fmla="*/ 21535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75"/>
                  <a:pt x="21600" y="149"/>
                </a:cubicBezTo>
                <a:lnTo>
                  <a:pt x="21600" y="21451"/>
                </a:lnTo>
                <a:cubicBezTo>
                  <a:pt x="21600" y="21526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9"/>
          <p:cNvSpPr/>
          <p:nvPr/>
        </p:nvSpPr>
        <p:spPr>
          <a:xfrm>
            <a:off x="762120" y="25146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12"/>
          <p:cNvSpPr/>
          <p:nvPr/>
        </p:nvSpPr>
        <p:spPr>
          <a:xfrm>
            <a:off x="762120" y="33526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13"/>
          <p:cNvSpPr/>
          <p:nvPr/>
        </p:nvSpPr>
        <p:spPr>
          <a:xfrm flipV="1">
            <a:off x="2209680" y="167652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6"/>
          <p:cNvSpPr/>
          <p:nvPr/>
        </p:nvSpPr>
        <p:spPr>
          <a:xfrm flipV="1">
            <a:off x="3505320" y="167652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2"/>
          <p:cNvSpPr/>
          <p:nvPr/>
        </p:nvSpPr>
        <p:spPr>
          <a:xfrm>
            <a:off x="3527640" y="1990800"/>
            <a:ext cx="45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270160" y="1990800"/>
            <a:ext cx="48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4"/>
          <p:cNvSpPr/>
          <p:nvPr/>
        </p:nvSpPr>
        <p:spPr>
          <a:xfrm>
            <a:off x="2271960" y="2819520"/>
            <a:ext cx="48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3527640" y="2828880"/>
            <a:ext cx="45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6"/>
          <p:cNvSpPr/>
          <p:nvPr/>
        </p:nvSpPr>
        <p:spPr>
          <a:xfrm>
            <a:off x="1062360" y="4902120"/>
            <a:ext cx="3093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Theorem 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685800" y="2590920"/>
                <a:ext cx="7772400" cy="26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ge array of dimension 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urthermore let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all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n optimal solution for the assignment probl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n optimal solution of the assignment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u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s large as pos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finish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, there exists an index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onsider two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Ca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09480" y="1752480"/>
                <a:ext cx="754380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re exists an index </m:t>
                            </m:r>
                            <m:r>
                              <m:t xml:space="preserve">j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with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ields 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l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us, if we set</m:t>
                            </m:r>
                          </m:e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  if     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or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l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if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l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or   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s</m:t>
                                          </m:r>
                                        </m:sub>
                                      </m:s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                 otherwise                        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n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is again an optimal solution of the assignment </m:t>
                    </m:r>
                    <m:r>
                      <m:rPr>
                        <m:lit/>
                        <m:nor/>
                      </m:rPr>
                      <m:t xml:space="preserve">problem, contradicting with maximality of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(Ca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1324080" y="1600200"/>
                <a:ext cx="5734080" cy="47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for all   </m:t>
                            </m:r>
                            <m:r>
                              <m:t xml:space="preserve">ν</m:t>
                            </m:r>
                            <m:r>
                              <m:t xml:space="preserve">≥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re exists an </m:t>
                            </m:r>
                            <m:r>
                              <m:t xml:space="preserve">l</m:t>
                            </m:r>
                            <m:r>
                              <m:t xml:space="preserve">&gt;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with 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rthermore 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us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fined by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    </m:t>
                              </m:r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  </m:t>
                              </m:r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  <m:r>
                                <m:t xml:space="preserve">=</m:t>
                              </m:r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    otherwise  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is again an optimal solution, contradicting</m:t>
                    </m:r>
                    <m:r>
                      <m:rPr>
                        <m:lit/>
                        <m:nor/>
                      </m:rPr>
                      <m:t xml:space="preserve">maximality of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orollary 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5"/>
              <p:cNvSpPr txBox="1"/>
              <p:nvPr/>
            </p:nvSpPr>
            <p:spPr>
              <a:xfrm>
                <a:off x="762120" y="2514600"/>
                <a:ext cx="7924680" cy="30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be a Monge array of dimension </m:t>
                        </m:r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n optimal solution for the assignment probl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45600" y="1441440"/>
            <a:ext cx="368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643040" y="293832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124080" y="2895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600200" y="42670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3124080" y="4038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1566720" y="56386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3124080" y="49528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3124080" y="6019920"/>
            <a:ext cx="10980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1752480" y="2971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52480" y="29718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1676520" y="3048120"/>
            <a:ext cx="144756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 flipV="1">
            <a:off x="1676520" y="3048120"/>
            <a:ext cx="144756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676520" y="4343400"/>
            <a:ext cx="14475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1676520" y="4114440"/>
            <a:ext cx="14475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 flipV="1">
            <a:off x="1676520" y="502884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545040" y="4495680"/>
            <a:ext cx="114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3134520" y="4191120"/>
            <a:ext cx="12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1676520" y="3048120"/>
            <a:ext cx="15238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"/>
          <p:cNvSpPr/>
          <p:nvPr/>
        </p:nvSpPr>
        <p:spPr>
          <a:xfrm flipV="1">
            <a:off x="1676520" y="4114440"/>
            <a:ext cx="1447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1676520" y="4343400"/>
            <a:ext cx="1447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 flipV="1">
            <a:off x="1676520" y="3048120"/>
            <a:ext cx="15238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1676520" y="5715000"/>
            <a:ext cx="1447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2286000" y="27432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1828800" y="40384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1981080" y="53341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5"/>
          <p:cNvSpPr/>
          <p:nvPr/>
        </p:nvSpPr>
        <p:spPr>
          <a:xfrm>
            <a:off x="2209680" y="37339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6"/>
          <p:cNvSpPr/>
          <p:nvPr/>
        </p:nvSpPr>
        <p:spPr>
          <a:xfrm>
            <a:off x="2514600" y="32004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2362320" y="5791320"/>
            <a:ext cx="39348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533520" y="1981080"/>
            <a:ext cx="576000" cy="57636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1201320" y="202248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arc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4509720" y="1523880"/>
            <a:ext cx="43657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one-to-one mapp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4277520" y="2784600"/>
            <a:ext cx="3443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inim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2"/>
              <p:cNvSpPr txBox="1"/>
              <p:nvPr/>
            </p:nvSpPr>
            <p:spPr>
              <a:xfrm>
                <a:off x="4332240" y="3505320"/>
                <a:ext cx="925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ge Arra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57200" y="2603520"/>
                <a:ext cx="80010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be arrays of real number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⋯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⋯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re 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assignment problem given by the array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ith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an optimal solution given b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if    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otherwise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TextBox 1"/>
          <p:cNvSpPr/>
          <p:nvPr/>
        </p:nvSpPr>
        <p:spPr>
          <a:xfrm>
            <a:off x="458640" y="1828800"/>
            <a:ext cx="283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Corollary 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parallel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sum of completion times of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given by a partition of the set of jobs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joints 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      a sequence of the job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and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job to be scheduled in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on mach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ssume that the job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chedul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rting at time zero without idle times. Then the value of the objective function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2895480" y="5105520"/>
                <a:ext cx="48769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onsider the assignment probl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/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σ corresponds with an assignment with the objective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sched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ssigned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ast position on a machine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ssign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181480" y="3276720"/>
                <a:ext cx="28958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i</m:t>
                            </m:r>
                          </m:e>
                        </m:nary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f we assume that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hen we get an optimal assignment if we assig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ssignment corresponds with a schedule in whi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cheduled on machin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Furthermore, on each machine the jobs are scheduled according to nondecreasing processing time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cessing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u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equence these jobs such that the weighted number of late jobs is minimized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Optim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the jobs are enumerated according to nondecreasing due date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Then the exist an optimal schedule given by a sequence of the 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re jobs with ind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..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n-time and jobs with indi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re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81"/>
          <p:cNvSpPr/>
          <p:nvPr/>
        </p:nvSpPr>
        <p:spPr>
          <a:xfrm>
            <a:off x="1523880" y="5634000"/>
            <a:ext cx="63248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3"/>
          <p:cNvSpPr/>
          <p:nvPr/>
        </p:nvSpPr>
        <p:spPr>
          <a:xfrm>
            <a:off x="6594480" y="518148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4"/>
          <p:cNvSpPr/>
          <p:nvPr/>
        </p:nvSpPr>
        <p:spPr>
          <a:xfrm>
            <a:off x="5867280" y="517680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5"/>
          <p:cNvSpPr/>
          <p:nvPr/>
        </p:nvSpPr>
        <p:spPr>
          <a:xfrm>
            <a:off x="1523880" y="517680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6"/>
          <p:cNvSpPr/>
          <p:nvPr/>
        </p:nvSpPr>
        <p:spPr>
          <a:xfrm>
            <a:off x="3700440" y="5176800"/>
            <a:ext cx="719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7"/>
          <p:cNvSpPr/>
          <p:nvPr/>
        </p:nvSpPr>
        <p:spPr>
          <a:xfrm>
            <a:off x="4419720" y="517680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9"/>
          <p:cNvSpPr/>
          <p:nvPr/>
        </p:nvSpPr>
        <p:spPr>
          <a:xfrm>
            <a:off x="2971800" y="517680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1"/>
          <p:cNvSpPr/>
          <p:nvPr/>
        </p:nvSpPr>
        <p:spPr>
          <a:xfrm>
            <a:off x="5148360" y="5176800"/>
            <a:ext cx="718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5"/>
          <p:cNvSpPr/>
          <p:nvPr/>
        </p:nvSpPr>
        <p:spPr>
          <a:xfrm>
            <a:off x="2252520" y="5176800"/>
            <a:ext cx="719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2"/>
          <p:cNvSpPr/>
          <p:nvPr/>
        </p:nvSpPr>
        <p:spPr>
          <a:xfrm>
            <a:off x="1340640" y="562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olve the problem, we calculate recursively for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nimum criterion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the fir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s, subject to the constraint that the total processing time of the on-time jobs i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f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-time in a schedule which correspond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Otherwi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cause all job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ishing later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...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160640" y="1828800"/>
                <a:ext cx="7051320" cy="358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us, for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we have the recursion</m:t>
                        </m:r>
                      </m:e>
                      <m:e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</m:d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for  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≤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                           for   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&lt;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T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ith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 for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ice that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optimal solution to the probl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1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∞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                                                be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45600" y="1441440"/>
            <a:ext cx="368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1643040" y="293832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3124080" y="2895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1600200" y="42670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3124080" y="40384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1566720" y="56386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3124080" y="49528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3124080" y="6019920"/>
            <a:ext cx="10980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1752480" y="29718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1752480" y="29718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1676520" y="3048120"/>
            <a:ext cx="1447560" cy="1904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1676520" y="3048120"/>
            <a:ext cx="1447560" cy="1218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1676520" y="4343400"/>
            <a:ext cx="14475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V="1">
            <a:off x="1676520" y="4114440"/>
            <a:ext cx="14475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V="1">
            <a:off x="1676520" y="5028840"/>
            <a:ext cx="144756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545040" y="4495680"/>
            <a:ext cx="114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3134520" y="4191120"/>
            <a:ext cx="12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|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1676520" y="3048120"/>
            <a:ext cx="15238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 flipV="1">
            <a:off x="1676520" y="4114440"/>
            <a:ext cx="1447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1676520" y="4343400"/>
            <a:ext cx="1447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 flipV="1">
            <a:off x="1676520" y="3048120"/>
            <a:ext cx="15238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1676520" y="5715000"/>
            <a:ext cx="144756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2"/>
          <p:cNvSpPr/>
          <p:nvPr/>
        </p:nvSpPr>
        <p:spPr>
          <a:xfrm>
            <a:off x="2286000" y="27432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3"/>
          <p:cNvSpPr/>
          <p:nvPr/>
        </p:nvSpPr>
        <p:spPr>
          <a:xfrm>
            <a:off x="1828800" y="40384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4"/>
          <p:cNvSpPr/>
          <p:nvPr/>
        </p:nvSpPr>
        <p:spPr>
          <a:xfrm>
            <a:off x="1981080" y="53341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5"/>
          <p:cNvSpPr/>
          <p:nvPr/>
        </p:nvSpPr>
        <p:spPr>
          <a:xfrm>
            <a:off x="2209680" y="37339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6"/>
          <p:cNvSpPr/>
          <p:nvPr/>
        </p:nvSpPr>
        <p:spPr>
          <a:xfrm>
            <a:off x="2514600" y="32004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7"/>
          <p:cNvSpPr/>
          <p:nvPr/>
        </p:nvSpPr>
        <p:spPr>
          <a:xfrm>
            <a:off x="2362320" y="5791320"/>
            <a:ext cx="39348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8"/>
          <p:cNvSpPr/>
          <p:nvPr/>
        </p:nvSpPr>
        <p:spPr>
          <a:xfrm>
            <a:off x="533520" y="1981080"/>
            <a:ext cx="576000" cy="57636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1201320" y="202248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arc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4509720" y="1523880"/>
            <a:ext cx="43657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one-to-one mapp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4277520" y="2784600"/>
            <a:ext cx="3443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ment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inim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2"/>
              <p:cNvSpPr txBox="1"/>
              <p:nvPr/>
            </p:nvSpPr>
            <p:spPr>
              <a:xfrm>
                <a:off x="4332240" y="3505320"/>
                <a:ext cx="9255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8" name="Text Box 44"/>
          <p:cNvSpPr/>
          <p:nvPr/>
        </p:nvSpPr>
        <p:spPr>
          <a:xfrm>
            <a:off x="4861800" y="4765680"/>
            <a:ext cx="13208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5"/>
          <p:cNvSpPr/>
          <p:nvPr/>
        </p:nvSpPr>
        <p:spPr>
          <a:xfrm>
            <a:off x="4877640" y="5638680"/>
            <a:ext cx="13208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ost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Backward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n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  <a:ea typeface="MS Mincho"/>
              </a:rPr>
              <a:t>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el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o be proces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cal parallel machines. 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processing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eigh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equence these jobs such that the sum of the weighted completion times is minimized.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are assumed to b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olution of 1|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ptimal solution of this one machine problem is obtained if we sequence the jobs according nondecreasing rati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hange Arg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 job which is scheduled immediately before jo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interchan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objective function chang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nonpositive if and only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hus, the objective function does not increase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terch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e of Optimal Schedule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equence of this result is that in an optimal solution of probl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obs to be processed on the same machine must be processed in order of nondecreasing ratios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we assume that all jobs are indexed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609480" y="1523880"/>
                <a:ext cx="7848720" cy="458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be an upper bound on the completion time of any job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an optimal schedu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to be the minimu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t of a schedule without idle time for job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subject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onstraint that the last job on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completed at time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nitial conditions are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if  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for  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∞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otherwise                       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Corollary 3.2 and Corollary 3.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trictly increasing, positive function. That i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0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0 and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nev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that SPT (short processing time first) gives an optimal schedule for the problem 1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2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90920" y="2895480"/>
          <a:ext cx="4038480" cy="3154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2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 1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43000" y="3352680"/>
          <a:ext cx="6400800" cy="2239920"/>
        </p:xfrm>
        <a:graphic>
          <a:graphicData uri="http://schemas.openxmlformats.org/drawingml/2006/table">
            <a:tbl>
              <a:tblPr/>
              <a:tblGrid>
                <a:gridCol w="915840"/>
                <a:gridCol w="912960"/>
                <a:gridCol w="914400"/>
                <a:gridCol w="914400"/>
                <a:gridCol w="914400"/>
                <a:gridCol w="912960"/>
                <a:gridCol w="91584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 2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 optimal schedule for the following instance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||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990720" y="3429000"/>
          <a:ext cx="6858000" cy="1219320"/>
        </p:xfrm>
        <a:graphic>
          <a:graphicData uri="http://schemas.openxmlformats.org/drawingml/2006/table">
            <a:tbl>
              <a:tblPr/>
              <a:tblGrid>
                <a:gridCol w="623880"/>
                <a:gridCol w="622080"/>
                <a:gridCol w="623880"/>
                <a:gridCol w="623880"/>
                <a:gridCol w="622440"/>
                <a:gridCol w="625320"/>
                <a:gridCol w="623880"/>
                <a:gridCol w="622440"/>
                <a:gridCol w="623880"/>
                <a:gridCol w="622440"/>
                <a:gridCol w="6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P formulati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ssignment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373040" y="1649520"/>
                <a:ext cx="5938920" cy="467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that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minimize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duction the Assignment Prob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the Transshipment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2286000" y="24382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3809880" y="24382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286000" y="3809880"/>
            <a:ext cx="10944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809880" y="35812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286000" y="5257800"/>
            <a:ext cx="10944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3809880" y="4495680"/>
            <a:ext cx="109800" cy="109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3809880" y="5562720"/>
            <a:ext cx="10980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243828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2438280" y="25146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2362320" y="2514600"/>
            <a:ext cx="144756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V="1">
            <a:off x="2362320" y="2590920"/>
            <a:ext cx="144756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2362320" y="3886200"/>
            <a:ext cx="14475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2362320" y="3657240"/>
            <a:ext cx="14475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 flipV="1">
            <a:off x="2438280" y="457164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1523880" y="4114800"/>
            <a:ext cx="111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18520" y="3733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2362320" y="2590920"/>
            <a:ext cx="144756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2362320" y="3657240"/>
            <a:ext cx="1447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362320" y="3886200"/>
            <a:ext cx="14475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2362320" y="2590920"/>
            <a:ext cx="15238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>
            <a:off x="2438280" y="5334120"/>
            <a:ext cx="1371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2971800" y="22860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6"/>
          <p:cNvSpPr/>
          <p:nvPr/>
        </p:nvSpPr>
        <p:spPr>
          <a:xfrm>
            <a:off x="2514600" y="35812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2666880" y="48769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2895480" y="3276720"/>
            <a:ext cx="39384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9"/>
          <p:cNvSpPr/>
          <p:nvPr/>
        </p:nvSpPr>
        <p:spPr>
          <a:xfrm>
            <a:off x="3200400" y="27432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3048120" y="5334120"/>
            <a:ext cx="393480" cy="3934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1"/>
          <p:cNvSpPr/>
          <p:nvPr/>
        </p:nvSpPr>
        <p:spPr>
          <a:xfrm>
            <a:off x="1219320" y="3962520"/>
            <a:ext cx="10944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5029200" y="3886200"/>
            <a:ext cx="109440" cy="1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916200" y="3886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82560" y="3733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7"/>
          <p:cNvSpPr/>
          <p:nvPr/>
        </p:nvSpPr>
        <p:spPr>
          <a:xfrm flipV="1">
            <a:off x="1295280" y="2514600"/>
            <a:ext cx="990720" cy="144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8"/>
          <p:cNvSpPr/>
          <p:nvPr/>
        </p:nvSpPr>
        <p:spPr>
          <a:xfrm flipV="1">
            <a:off x="1371600" y="3885840"/>
            <a:ext cx="914400" cy="152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9"/>
          <p:cNvSpPr/>
          <p:nvPr/>
        </p:nvSpPr>
        <p:spPr>
          <a:xfrm>
            <a:off x="1295280" y="4114800"/>
            <a:ext cx="990720" cy="1143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0"/>
          <p:cNvSpPr/>
          <p:nvPr/>
        </p:nvSpPr>
        <p:spPr>
          <a:xfrm>
            <a:off x="3962520" y="2514600"/>
            <a:ext cx="106668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1"/>
          <p:cNvSpPr/>
          <p:nvPr/>
        </p:nvSpPr>
        <p:spPr>
          <a:xfrm>
            <a:off x="3962520" y="3657600"/>
            <a:ext cx="99036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 flipV="1">
            <a:off x="3962520" y="3962160"/>
            <a:ext cx="99036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4"/>
          <p:cNvSpPr/>
          <p:nvPr/>
        </p:nvSpPr>
        <p:spPr>
          <a:xfrm flipV="1">
            <a:off x="3886200" y="4038480"/>
            <a:ext cx="1143000" cy="1524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5"/>
          <p:cNvSpPr/>
          <p:nvPr/>
        </p:nvSpPr>
        <p:spPr>
          <a:xfrm>
            <a:off x="1600200" y="312408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>
            <a:off x="4267080" y="2971800"/>
            <a:ext cx="393840" cy="39384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685800" y="3505320"/>
            <a:ext cx="547560" cy="547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8"/>
          <p:cNvSpPr/>
          <p:nvPr/>
        </p:nvSpPr>
        <p:spPr>
          <a:xfrm>
            <a:off x="4952880" y="3276720"/>
            <a:ext cx="547920" cy="547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9"/>
          <p:cNvSpPr/>
          <p:nvPr/>
        </p:nvSpPr>
        <p:spPr>
          <a:xfrm>
            <a:off x="5794560" y="2124000"/>
            <a:ext cx="198684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5801760" y="4648320"/>
            <a:ext cx="20124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b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unit processing times to be processed on a single machine, release da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onotone (nondecreasing) func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finish tim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s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ask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schedule that minimizes the total sum of cost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bs and Time S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function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onotone nondecreasing, the jobs should be scheduled as early as possible.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iest time slo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chedu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bs may be calculated using the following algorithm, in which we assume that the jobs are enumerated in such a way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orithm Time S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 2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= max {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 Time S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81"/>
          <p:cNvSpPr/>
          <p:nvPr/>
        </p:nvSpPr>
        <p:spPr>
          <a:xfrm>
            <a:off x="642960" y="3962520"/>
            <a:ext cx="63244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3"/>
          <p:cNvSpPr/>
          <p:nvPr/>
        </p:nvSpPr>
        <p:spPr>
          <a:xfrm>
            <a:off x="2090880" y="350532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4"/>
          <p:cNvSpPr/>
          <p:nvPr/>
        </p:nvSpPr>
        <p:spPr>
          <a:xfrm>
            <a:off x="4986360" y="3505320"/>
            <a:ext cx="72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5"/>
          <p:cNvSpPr/>
          <p:nvPr/>
        </p:nvSpPr>
        <p:spPr>
          <a:xfrm>
            <a:off x="642960" y="350532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6"/>
          <p:cNvSpPr/>
          <p:nvPr/>
        </p:nvSpPr>
        <p:spPr>
          <a:xfrm>
            <a:off x="2819520" y="3505320"/>
            <a:ext cx="7189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7"/>
          <p:cNvSpPr/>
          <p:nvPr/>
        </p:nvSpPr>
        <p:spPr>
          <a:xfrm>
            <a:off x="3538440" y="350532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9"/>
          <p:cNvSpPr/>
          <p:nvPr/>
        </p:nvSpPr>
        <p:spPr>
          <a:xfrm>
            <a:off x="5672160" y="3505320"/>
            <a:ext cx="7207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4267080" y="3505320"/>
            <a:ext cx="719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5"/>
          <p:cNvSpPr/>
          <p:nvPr/>
        </p:nvSpPr>
        <p:spPr>
          <a:xfrm>
            <a:off x="1371600" y="3505320"/>
            <a:ext cx="7192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5"/>
          <p:cNvSpPr/>
          <p:nvPr/>
        </p:nvSpPr>
        <p:spPr>
          <a:xfrm>
            <a:off x="459720" y="395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6"/>
          <p:cNvSpPr/>
          <p:nvPr/>
        </p:nvSpPr>
        <p:spPr>
          <a:xfrm>
            <a:off x="1179720" y="395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190764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8"/>
          <p:cNvSpPr/>
          <p:nvPr/>
        </p:nvSpPr>
        <p:spPr>
          <a:xfrm>
            <a:off x="26694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9"/>
          <p:cNvSpPr/>
          <p:nvPr/>
        </p:nvSpPr>
        <p:spPr>
          <a:xfrm>
            <a:off x="3355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0"/>
          <p:cNvSpPr/>
          <p:nvPr/>
        </p:nvSpPr>
        <p:spPr>
          <a:xfrm>
            <a:off x="4075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48373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556524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3"/>
          <p:cNvSpPr/>
          <p:nvPr/>
        </p:nvSpPr>
        <p:spPr>
          <a:xfrm>
            <a:off x="625104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s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Lemma 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an optimal schedule which occupies all of the time slo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7:25:17Z</dcterms:created>
  <dc:creator>Kononov</dc:creator>
  <dc:description/>
  <dc:language>en-US</dc:language>
  <cp:lastModifiedBy>Alexander Kononov</cp:lastModifiedBy>
  <cp:lastPrinted>2016-02-23T15:13:46Z</cp:lastPrinted>
  <dcterms:modified xsi:type="dcterms:W3CDTF">2016-02-24T08:06:58Z</dcterms:modified>
  <cp:revision>133</cp:revision>
  <dc:subject/>
  <dc:title>Problems in Combinatorial Optimization</dc:title>
</cp:coreProperties>
</file>