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5D29-F698-4B3A-B064-08D71D77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it is possible job r-1 immediately before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C246-53C9-454F-BB5A-8D346E8D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step in solving these problem is to modify the release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…. then job j cannot start befor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we may replace rj by rj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3D51-9758-49D3-8CD0-24111973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ease times can be modified in a systematic way using the following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4B8-4D97-4FC3-B446-FFE671005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36B-4762-40A2-B32A-FCB14C43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turn to the preemptive sche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BE8-4996-48AB-8A02-0B51DEE8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his process, after a finite number of steps we get a schedule with the desired proper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F9E-76F2-431B-8C98-EA02EA4A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466-7031-4643-9201-6D75BD90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F51-0AFC-49FF-BF5E-DFB5600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11A-0FBF-44CA-A0FF-141B03E0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F05-E9D1-4230-9B82-9E1AE208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6BB-6718-4FE6-92CC-EF75146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F90-B4B2-4CAA-9873-B236BFFE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2BA-7997-479D-8EC9-45EB570C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F80-80D7-407B-8A50-3E6BD71F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792-77A7-4D1C-BEE9-A1895BF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827-A3C5-487D-9448-29B6BFF0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7B4-7F9F-4DFA-9E65-29990B2B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13D-7A7E-40A5-9FC6-9765A96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8881-C6B5-41AB-BE8B-6385E754B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chedule in which some job i is preem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i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and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ither scheduled i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nor immediately bef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reschedule so that the par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ing i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is scheduled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o that anything scheduled betwee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oved back un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ime, we eliminate this preemp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increasing the objective function. Continuing this process, we obtain an optimal solution for the preemptive problem where no preemption is necessa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ecedence constraints to be processed on a single machine and monotone (nondecreasing)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finish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x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le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609480" y="1447920"/>
                <a:ext cx="7467840" cy="46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olve problem 1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rec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t is sufficient to construc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 optimal sequence π: 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not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job in position 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the set of al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obs and denote by </m:t>
                        </m:r>
                        <m:r>
                          <m:t xml:space="preserve">S</m:t>
                        </m:r>
                        <m:r>
                          <m:t xml:space="preserve">⊆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the set of unscheduled job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rthermore, define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n the scheduling rule  may be formulated as follow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hedule a job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, which has no successor in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and ha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minimal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alue, as the last job in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le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4.1 [Lawler 1973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quence constructed by the Lawl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rule is opt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6"/>
              <p:cNvSpPr txBox="1"/>
              <p:nvPr/>
            </p:nvSpPr>
            <p:spPr>
              <a:xfrm>
                <a:off x="1676520" y="5029200"/>
                <a:ext cx="26668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Text Box 4"/>
          <p:cNvSpPr/>
          <p:nvPr/>
        </p:nvSpPr>
        <p:spPr>
          <a:xfrm>
            <a:off x="740880" y="148896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quence constructed by Lawler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71160" y="1981080"/>
            <a:ext cx="797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,...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n optimal sequence with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,...,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i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724280" y="32004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257800" y="3200400"/>
            <a:ext cx="382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638680" y="32004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4680" y="3200400"/>
            <a:ext cx="533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3352680" y="3200400"/>
            <a:ext cx="1373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2819520" y="32004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7400" y="3200400"/>
            <a:ext cx="763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80880" y="31240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129492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H="1">
            <a:off x="12949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2"/>
          <p:cNvSpPr/>
          <p:nvPr/>
        </p:nvSpPr>
        <p:spPr>
          <a:xfrm>
            <a:off x="2438280" y="3581280"/>
            <a:ext cx="281952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3"/>
          <p:cNvSpPr/>
          <p:nvPr/>
        </p:nvSpPr>
        <p:spPr>
          <a:xfrm>
            <a:off x="3657600" y="3886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86880" y="4343400"/>
            <a:ext cx="73713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 successor in the set {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5037120" y="3505320"/>
            <a:ext cx="36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 rot="5400000">
            <a:off x="990360" y="5105160"/>
            <a:ext cx="609480" cy="457200"/>
          </a:xfrm>
          <a:custGeom>
            <a:avLst/>
            <a:gdLst>
              <a:gd name="textAreaLeft" fmla="*/ 0 w 609480"/>
              <a:gd name="textAreaRight" fmla="*/ 522360 w 609480"/>
              <a:gd name="textAreaTop" fmla="*/ 30492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343400" y="59436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5638680" y="5943600"/>
            <a:ext cx="382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19920" y="59436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8305920" y="594360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2971800" y="594360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2438280" y="59436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4876920" y="5943600"/>
            <a:ext cx="763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762120" y="58672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 flipH="1">
            <a:off x="1676520" y="5943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 flipH="1">
            <a:off x="1676520" y="6324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>
            <a:off x="4572000" y="51814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5486400" y="5181480"/>
            <a:ext cx="2209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is  optima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000440" y="1676520"/>
            <a:ext cx="332964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j 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362320" y="48769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06316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82528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366440" y="5181480"/>
            <a:ext cx="97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143000" y="533412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15508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971800" y="44197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054840" y="1676520"/>
            <a:ext cx="21060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7242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648320" y="48769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067040" y="2743200"/>
            <a:ext cx="1188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876920" y="44197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495400" y="5181480"/>
            <a:ext cx="41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4003920" y="2819520"/>
            <a:ext cx="274608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019920" y="48769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3"/>
          <p:cNvSpPr/>
          <p:nvPr/>
        </p:nvSpPr>
        <p:spPr>
          <a:xfrm>
            <a:off x="22860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29718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5"/>
          <p:cNvSpPr/>
          <p:nvPr/>
        </p:nvSpPr>
        <p:spPr>
          <a:xfrm>
            <a:off x="4624560" y="527364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6"/>
          <p:cNvSpPr/>
          <p:nvPr/>
        </p:nvSpPr>
        <p:spPr>
          <a:xfrm>
            <a:off x="563868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s Modif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 jobs are enumerated topologic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for all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e hav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if we schedule jobs according to nondecreasing release times such that the release times are respected, we always get a feasible schedule. Such a schedule may consists of several blocks.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aximal set of jobs which are processed without any idle time betwee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505320" y="556272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800600" y="5562720"/>
            <a:ext cx="3826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181480" y="55627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467480" y="5562720"/>
            <a:ext cx="5335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133720" y="5562720"/>
            <a:ext cx="1373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09480" y="5562720"/>
            <a:ext cx="916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038480" y="5562720"/>
            <a:ext cx="7635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23880" y="55627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Blocks ({1, 2,...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following algorithm gives a precise description of blocks constructed in this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 assume that all release times are modified and that the jobs are sorted according to these modified release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Both algorithms are valid for preemptive and nonpreemptive schedules with jobs having arbitra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"/>
              <p:cNvSpPr txBox="1"/>
              <p:nvPr/>
            </p:nvSpPr>
            <p:spPr>
              <a:xfrm>
                <a:off x="4756320" y="1752480"/>
                <a:ext cx="4082760" cy="44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WHILE  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D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BEGIN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WHILE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D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BEGIN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END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E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ting and Finishing time of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2432160" y="1828800"/>
                <a:ext cx="42735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block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e define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lim>
                        </m:limLow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the starting ti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the finishing time of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fu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,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wo functions. We say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and sometim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=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if there exi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, 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such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=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g=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say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and of cour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= 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ca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grow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4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an optimal schedule such that the intervals    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nstructed by Algorithms Blocks are completely occupied by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3581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533520" y="3657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H="1">
            <a:off x="5335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4191120" y="36576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791320" y="3657600"/>
            <a:ext cx="3823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6172200" y="3657600"/>
            <a:ext cx="19810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8153280" y="3657600"/>
            <a:ext cx="5335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819520" y="3657600"/>
            <a:ext cx="1373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295280" y="3657600"/>
            <a:ext cx="916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724280" y="36576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2209680" y="36576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304920" y="1523880"/>
            <a:ext cx="3581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ome optimal schedul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1086120" y="3962520"/>
            <a:ext cx="5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2609280" y="3962520"/>
            <a:ext cx="4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044600" y="3962520"/>
            <a:ext cx="3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6025320" y="3962520"/>
            <a:ext cx="3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5181480" y="3657600"/>
            <a:ext cx="60984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5031000" y="3962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5639760" y="3962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304920" y="2133720"/>
            <a:ext cx="82296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 the first idle interval inside some block interval [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533520" y="4572000"/>
            <a:ext cx="312408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116600" y="4572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304920" y="2743200"/>
            <a:ext cx="7848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et of jobs starting later than tim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5105520" y="4572000"/>
            <a:ext cx="312408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in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8"/>
          <p:cNvSpPr/>
          <p:nvPr/>
        </p:nvSpPr>
        <p:spPr>
          <a:xfrm>
            <a:off x="6324480" y="5105520"/>
            <a:ext cx="486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9"/>
          <p:cNvSpPr/>
          <p:nvPr/>
        </p:nvSpPr>
        <p:spPr>
          <a:xfrm>
            <a:off x="1752480" y="5105520"/>
            <a:ext cx="486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569840" y="5486400"/>
            <a:ext cx="4249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must be an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in the schedul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lgorithms Bl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149040" y="5486400"/>
            <a:ext cx="4361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the idle inter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 either 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ed or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shes in 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Lemma 4.2 we may treat each block separately. The optimal solution value for the whole problem is given by the maximum of   the solution values of all bl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Lawle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3520" y="1752480"/>
                <a:ext cx="7772400" cy="401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be such a 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note by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he optimal solution va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jobs in this 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rthermore, let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  <m:e/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the optim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value for the jobs in </m:t>
                        </m:r>
                        <m:r>
                          <m:t xml:space="preserve">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j</m:t>
                            </m:r>
                          </m:e>
                          <m:e/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learly,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  <m:e/>
                            </m:d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scheduled in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and th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/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j</m:t>
                                    </m:r>
                                  </m:e>
                                  <m:e/>
                                </m:d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rthermore,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without successors in 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cause in an optimal schedule one job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without successors in 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ishes at time 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now constructed as follows. We solve the problem for the set of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 optimal solution of this problem again has a corresponding block structure. Similar to the proof of Lemma 4.2  we can show that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cheduled in the idle periods of this block structure yielding a schedule with objective value of at the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optimal valu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743200" y="4572000"/>
                <a:ext cx="4267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l</m:t>
                                </m:r>
                              </m:e>
                              <m:e/>
                            </m:d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088640" y="3244680"/>
            <a:ext cx="2341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0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6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559560" y="4856040"/>
            <a:ext cx="14400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105520" y="4857840"/>
            <a:ext cx="14396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819000" y="485784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657600" y="4857840"/>
            <a:ext cx="1440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2259000" y="485784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 flipV="1">
            <a:off x="811080" y="5238720"/>
            <a:ext cx="773136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8467920" y="5086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3"/>
          <p:cNvSpPr/>
          <p:nvPr/>
        </p:nvSpPr>
        <p:spPr>
          <a:xfrm>
            <a:off x="770040" y="52084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184932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5"/>
          <p:cNvSpPr/>
          <p:nvPr/>
        </p:nvSpPr>
        <p:spPr>
          <a:xfrm>
            <a:off x="293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437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616896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4"/>
          <p:cNvSpPr/>
          <p:nvPr/>
        </p:nvSpPr>
        <p:spPr>
          <a:xfrm>
            <a:off x="725004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4"/>
          <p:cNvSpPr/>
          <p:nvPr/>
        </p:nvSpPr>
        <p:spPr>
          <a:xfrm>
            <a:off x="7993080" y="5222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135072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241740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3841560" y="53150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5670360" y="52196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7798320" y="5219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275760" y="52578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459480" y="3408480"/>
            <a:ext cx="1440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 flipV="1">
            <a:off x="712800" y="3790800"/>
            <a:ext cx="772956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8367840" y="3638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66996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1749600" y="3760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5"/>
          <p:cNvSpPr/>
          <p:nvPr/>
        </p:nvSpPr>
        <p:spPr>
          <a:xfrm>
            <a:off x="2830680" y="3760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6"/>
          <p:cNvSpPr/>
          <p:nvPr/>
        </p:nvSpPr>
        <p:spPr>
          <a:xfrm>
            <a:off x="427032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4"/>
          <p:cNvSpPr/>
          <p:nvPr/>
        </p:nvSpPr>
        <p:spPr>
          <a:xfrm>
            <a:off x="606888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714996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4"/>
          <p:cNvSpPr/>
          <p:nvPr/>
        </p:nvSpPr>
        <p:spPr>
          <a:xfrm>
            <a:off x="7893000" y="37749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7698240" y="3772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458640" y="38098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6103800" y="3352680"/>
            <a:ext cx="1440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666720" y="3352680"/>
            <a:ext cx="1440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4267080" y="3352680"/>
            <a:ext cx="1440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106720" y="3352680"/>
            <a:ext cx="14414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658800" y="3733560"/>
            <a:ext cx="7731000" cy="298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8315280" y="3581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3"/>
          <p:cNvSpPr/>
          <p:nvPr/>
        </p:nvSpPr>
        <p:spPr>
          <a:xfrm>
            <a:off x="61740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4"/>
          <p:cNvSpPr/>
          <p:nvPr/>
        </p:nvSpPr>
        <p:spPr>
          <a:xfrm>
            <a:off x="169704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5"/>
          <p:cNvSpPr/>
          <p:nvPr/>
        </p:nvSpPr>
        <p:spPr>
          <a:xfrm>
            <a:off x="277812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6"/>
          <p:cNvSpPr/>
          <p:nvPr/>
        </p:nvSpPr>
        <p:spPr>
          <a:xfrm>
            <a:off x="4218120" y="37036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601668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4"/>
          <p:cNvSpPr/>
          <p:nvPr/>
        </p:nvSpPr>
        <p:spPr>
          <a:xfrm>
            <a:off x="7840800" y="371808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131400" y="37339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1198080" y="37339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2265120" y="37339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8"/>
          <p:cNvSpPr/>
          <p:nvPr/>
        </p:nvSpPr>
        <p:spPr>
          <a:xfrm>
            <a:off x="3689280" y="3809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5518080" y="37148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7646040" y="3714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184800" y="485784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819000" y="485784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4419720" y="4857840"/>
            <a:ext cx="14396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2259000" y="485784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811080" y="5238720"/>
            <a:ext cx="773136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8467920" y="5086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3"/>
          <p:cNvSpPr/>
          <p:nvPr/>
        </p:nvSpPr>
        <p:spPr>
          <a:xfrm>
            <a:off x="770040" y="52084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4"/>
          <p:cNvSpPr/>
          <p:nvPr/>
        </p:nvSpPr>
        <p:spPr>
          <a:xfrm>
            <a:off x="184932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5"/>
          <p:cNvSpPr/>
          <p:nvPr/>
        </p:nvSpPr>
        <p:spPr>
          <a:xfrm>
            <a:off x="293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6"/>
          <p:cNvSpPr/>
          <p:nvPr/>
        </p:nvSpPr>
        <p:spPr>
          <a:xfrm>
            <a:off x="437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4"/>
          <p:cNvSpPr/>
          <p:nvPr/>
        </p:nvSpPr>
        <p:spPr>
          <a:xfrm>
            <a:off x="616896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7993080" y="5222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28368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135072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241740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3841560" y="53150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5670360" y="52196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7798320" y="5219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5867280" y="4856040"/>
            <a:ext cx="3603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7640640" y="4856040"/>
            <a:ext cx="3603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699000" y="4856040"/>
            <a:ext cx="7207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Decom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n algorithm which accepts inputs from a s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: D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exist a consta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such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s its computation after at mo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steps (including arithmetical operations) for each inpu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say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say that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ning ti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complex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 Decompos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retu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retur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lock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succ.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om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, h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dure Decompose can be easily extended in such a way that the optimal schedule is calculated as well. We have to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idle periods of the schedul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is is done from left to right respec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Due to the fact that all release dates are modified,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spect the precedence re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xity of the algorith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 This can be seen as follows. If we exclude the recursive calls in Step 7, the number of steps for the Procedure Decompos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S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us, for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computational steps we have the recur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job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block and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data are integer, then all starting and finishing times of the blocks are also integer. Thus, if we apply the algorithm to a problem with unit processing times, no preemption is necessary. Therefore, our algorithm also solves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lain why we can not use the proof of Lemma 4.2 in order to get the similar result for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(without preemp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running time of                   Algorith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2819520"/>
          <a:ext cx="73152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4400"/>
                <a:gridCol w="912960"/>
                <a:gridCol w="915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56"/>
          <p:cNvSpPr/>
          <p:nvPr/>
        </p:nvSpPr>
        <p:spPr>
          <a:xfrm>
            <a:off x="1172880" y="5248440"/>
            <a:ext cx="671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nce constrai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 Corollary 3.3 and Corollary 3.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rictly increasing, positive function. That 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0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ne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SPT (short processing time first) gives an optimal schedule for the problem 1||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990720" y="4495680"/>
                <a:ext cx="60800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: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σ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380880" y="1981080"/>
                <a:ext cx="80010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be arrays of real number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⋯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⋯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assignment problem given by the array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an optimal solution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if  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TextBox 1"/>
          <p:cNvSpPr/>
          <p:nvPr/>
        </p:nvSpPr>
        <p:spPr>
          <a:xfrm>
            <a:off x="371160" y="137160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Corollary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04920" y="5181480"/>
                <a:ext cx="2171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304920" y="5722920"/>
                <a:ext cx="77943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∧</m:t>
                            </m:r>
                            <m:r>
                              <m:t xml:space="preserve">k</m:t>
                            </m:r>
                            <m:r>
                              <m:t xml:space="preserve">&lt;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 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n instance with rational  data is the total number of bits needed for     the binar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-tim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gorithm with rational input is said to ru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nomial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n integ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it run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 is the input size, and all numbers in intermediate computations can be sorted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gorithm with arbitrary input is said to ru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rongly polynomial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n integ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it run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for any input consisting of n numbers and it runs in polynomial time for rational input. In the c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linear-tim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Reductions Between Scheduling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38080" y="51814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38080" y="4114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30481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8"/>
          <p:cNvCxnSpPr>
            <a:stCxn id="59" idx="0"/>
            <a:endCxn id="60" idx="2"/>
          </p:cNvCxnSpPr>
          <p:nvPr/>
        </p:nvCxnSpPr>
        <p:spPr>
          <a:xfrm flipV="1">
            <a:off x="1066320" y="458100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9"/>
          <p:cNvCxnSpPr>
            <a:stCxn id="60" idx="0"/>
            <a:endCxn id="61" idx="2"/>
          </p:cNvCxnSpPr>
          <p:nvPr/>
        </p:nvCxnSpPr>
        <p:spPr>
          <a:xfrm flipV="1">
            <a:off x="1066320" y="35143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Rectangle 10"/>
          <p:cNvSpPr/>
          <p:nvPr/>
        </p:nvSpPr>
        <p:spPr>
          <a:xfrm>
            <a:off x="2971800" y="5257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2971800" y="41911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3"/>
          <p:cNvCxnSpPr>
            <a:stCxn id="64" idx="0"/>
            <a:endCxn id="65" idx="2"/>
          </p:cNvCxnSpPr>
          <p:nvPr/>
        </p:nvCxnSpPr>
        <p:spPr>
          <a:xfrm flipV="1">
            <a:off x="3200040" y="46573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4"/>
          <p:cNvCxnSpPr>
            <a:stCxn id="65" idx="0"/>
            <a:endCxn id="66" idx="2"/>
          </p:cNvCxnSpPr>
          <p:nvPr/>
        </p:nvCxnSpPr>
        <p:spPr>
          <a:xfrm flipV="1">
            <a:off x="3200040" y="359064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Rectangle 15"/>
          <p:cNvSpPr/>
          <p:nvPr/>
        </p:nvSpPr>
        <p:spPr>
          <a:xfrm>
            <a:off x="3886200" y="5257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133720" y="5257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7"/>
          <p:cNvCxnSpPr>
            <a:stCxn id="70" idx="0"/>
            <a:endCxn id="65" idx="2"/>
          </p:cNvCxnSpPr>
          <p:nvPr/>
        </p:nvCxnSpPr>
        <p:spPr>
          <a:xfrm flipV="1">
            <a:off x="2362320" y="4657320"/>
            <a:ext cx="83880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8"/>
          <p:cNvCxnSpPr>
            <a:stCxn id="69" idx="0"/>
            <a:endCxn id="65" idx="2"/>
          </p:cNvCxnSpPr>
          <p:nvPr/>
        </p:nvCxnSpPr>
        <p:spPr>
          <a:xfrm flipH="1" flipV="1">
            <a:off x="3200040" y="4657320"/>
            <a:ext cx="91512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19"/>
          <p:cNvSpPr/>
          <p:nvPr/>
        </p:nvSpPr>
        <p:spPr>
          <a:xfrm>
            <a:off x="7162920" y="55627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6248520" y="34290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248520" y="23623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23"/>
          <p:cNvCxnSpPr>
            <a:stCxn id="74" idx="0"/>
            <a:endCxn id="75" idx="2"/>
          </p:cNvCxnSpPr>
          <p:nvPr/>
        </p:nvCxnSpPr>
        <p:spPr>
          <a:xfrm flipV="1">
            <a:off x="6476760" y="28285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Rectangle 24"/>
          <p:cNvSpPr/>
          <p:nvPr/>
        </p:nvSpPr>
        <p:spPr>
          <a:xfrm>
            <a:off x="7162920" y="44956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26"/>
          <p:cNvCxnSpPr>
            <a:stCxn id="78" idx="0"/>
            <a:endCxn id="74" idx="2"/>
          </p:cNvCxnSpPr>
          <p:nvPr/>
        </p:nvCxnSpPr>
        <p:spPr>
          <a:xfrm flipV="1">
            <a:off x="5638320" y="3895200"/>
            <a:ext cx="8391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7"/>
          <p:cNvCxnSpPr>
            <a:stCxn id="77" idx="0"/>
            <a:endCxn id="74" idx="2"/>
          </p:cNvCxnSpPr>
          <p:nvPr/>
        </p:nvCxnSpPr>
        <p:spPr>
          <a:xfrm flipH="1" flipV="1">
            <a:off x="6476760" y="3895200"/>
            <a:ext cx="91512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28"/>
          <p:cNvCxnSpPr>
            <a:stCxn id="73" idx="0"/>
            <a:endCxn id="77" idx="2"/>
          </p:cNvCxnSpPr>
          <p:nvPr/>
        </p:nvCxnSpPr>
        <p:spPr>
          <a:xfrm flipV="1">
            <a:off x="7391160" y="4962240"/>
            <a:ext cx="1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Reductions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al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86200" y="6019920"/>
            <a:ext cx="12193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6200" y="49528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76520" y="4952880"/>
            <a:ext cx="12189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676520" y="3809880"/>
            <a:ext cx="12189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886200" y="38098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943600" y="38098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886200" y="24382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943600" y="24382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12"/>
          <p:cNvCxnSpPr>
            <a:stCxn id="83" idx="0"/>
            <a:endCxn id="84" idx="2"/>
          </p:cNvCxnSpPr>
          <p:nvPr/>
        </p:nvCxnSpPr>
        <p:spPr>
          <a:xfrm flipV="1">
            <a:off x="4495320" y="5495040"/>
            <a:ext cx="1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>
            <a:stCxn id="84" idx="0"/>
            <a:endCxn id="87" idx="2"/>
          </p:cNvCxnSpPr>
          <p:nvPr/>
        </p:nvCxnSpPr>
        <p:spPr>
          <a:xfrm flipV="1">
            <a:off x="4495320" y="4352400"/>
            <a:ext cx="1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5"/>
          <p:cNvCxnSpPr>
            <a:stCxn id="87" idx="0"/>
            <a:endCxn id="89" idx="2"/>
          </p:cNvCxnSpPr>
          <p:nvPr/>
        </p:nvCxnSpPr>
        <p:spPr>
          <a:xfrm flipV="1">
            <a:off x="4495320" y="2980800"/>
            <a:ext cx="1080" cy="82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16"/>
          <p:cNvCxnSpPr>
            <a:stCxn id="85" idx="0"/>
            <a:endCxn id="86" idx="2"/>
          </p:cNvCxnSpPr>
          <p:nvPr/>
        </p:nvCxnSpPr>
        <p:spPr>
          <a:xfrm flipV="1">
            <a:off x="2285640" y="4352400"/>
            <a:ext cx="1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7"/>
          <p:cNvCxnSpPr>
            <a:stCxn id="88" idx="0"/>
            <a:endCxn id="90" idx="2"/>
          </p:cNvCxnSpPr>
          <p:nvPr/>
        </p:nvCxnSpPr>
        <p:spPr>
          <a:xfrm flipV="1">
            <a:off x="6552720" y="2980800"/>
            <a:ext cx="1080" cy="82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8"/>
          <p:cNvCxnSpPr>
            <a:stCxn id="84" idx="3"/>
            <a:endCxn id="88" idx="2"/>
          </p:cNvCxnSpPr>
          <p:nvPr/>
        </p:nvCxnSpPr>
        <p:spPr>
          <a:xfrm flipV="1">
            <a:off x="5114520" y="4352400"/>
            <a:ext cx="1438920" cy="867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9"/>
          <p:cNvCxnSpPr>
            <a:stCxn id="85" idx="3"/>
            <a:endCxn id="87" idx="2"/>
          </p:cNvCxnSpPr>
          <p:nvPr/>
        </p:nvCxnSpPr>
        <p:spPr>
          <a:xfrm flipV="1">
            <a:off x="2905200" y="4352400"/>
            <a:ext cx="1591200" cy="867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20"/>
          <p:cNvCxnSpPr>
            <a:stCxn id="86" idx="3"/>
            <a:endCxn id="89" idx="2"/>
          </p:cNvCxnSpPr>
          <p:nvPr/>
        </p:nvCxnSpPr>
        <p:spPr>
          <a:xfrm flipV="1">
            <a:off x="2905200" y="2980440"/>
            <a:ext cx="1591200" cy="109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Machine Schedul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 and if the objective function is a regular function of the finishing times of the jobs, then only schedules without preemption and without idle time need to be conside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ollows from the fact that the opt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value does not improve if pree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ow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3:03:26Z</dcterms:created>
  <dc:creator>Kononov</dc:creator>
  <dc:description/>
  <dc:language>en-US</dc:language>
  <cp:lastModifiedBy>Alexander Kononov</cp:lastModifiedBy>
  <dcterms:modified xsi:type="dcterms:W3CDTF">2016-03-14T04:07:51Z</dcterms:modified>
  <cp:revision>68</cp:revision>
  <dc:subject/>
  <dc:title>Computational Complexity</dc:title>
</cp:coreProperties>
</file>