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2B03-1BB3-4864-882B-FA2788558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know that it is possible job r-1 immediately before 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F896-082E-4564-BCC0-187A3F669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step in solving these problem is to modify the release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…. then job j cannot start befor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 we may replace rj by rj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E757-1241-4481-AA56-92215D532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ease times can be modified in a systematic way using the following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BB5D-0F12-412E-B23B-2EE1B233B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3C44-1201-4200-8BBB-207A3382B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turn to the preemptive sched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4A98-B0A0-4FDB-BF8A-E9AFEC594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this process, after a finite number of steps we get a schedule with the desired proper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D6A1-7B95-4510-8647-604C9D13F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714-E893-4F4F-A272-FAC054C7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284-544D-4CE1-A23F-BBF315D4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0F3-35EF-4B2E-91C1-0F7ABF40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748-85D5-40F8-9A5E-CE0B833A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4DC-C118-460B-AE20-06E0083F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30D-D4A6-40EC-833E-4B31780A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04E-5ABB-4D82-9DA9-79409308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BD3-D2B1-4937-AB3D-2C090CD6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56F-26B4-4E21-8DF1-8005ABDB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424-1737-4C50-94CF-50DB6A8E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71C-1AEF-4219-A9C9-71BF7696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302-8547-4117-9439-2825E6BF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D163-6355-4C16-A24F-2C00ED591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emma 4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Proo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schedule in which some job i is preemp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d in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and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either scheduled in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nor immediately befo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reschedule so that the par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ing in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 is scheduled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so that anything scheduled between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moved back uni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ime, we eliminate this preemp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out increasing the objective function. Continuing this process, we obtain an optimal solution for the preemptive problem where no preemption is necessa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ecedence constraints to be processed on a single machine and monotone (nondecreasing) functio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finish tim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ask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chedule that minimiz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ax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= 1,...,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le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609480" y="1447920"/>
                <a:ext cx="7467840" cy="46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solve problem 1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prec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it is sufficient to construc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 optimal sequence π: 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enot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job in position 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the set of all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obs and denote by </m:t>
                        </m:r>
                        <m:r>
                          <m:t xml:space="preserve">S</m:t>
                        </m:r>
                        <m:r>
                          <m:t xml:space="preserve">⊆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the set of unscheduled job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urthermore, define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hen the scheduling rule  may be formulated as follows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hedule a job 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, which has no successor in 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 and ha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minimal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alue, as the last job in 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le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Theorem 4.1 [Lawler 1973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quence constructed by the Lawl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 rule is opt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Theorem 4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26"/>
              <p:cNvSpPr txBox="1"/>
              <p:nvPr/>
            </p:nvSpPr>
            <p:spPr>
              <a:xfrm>
                <a:off x="1676520" y="5029200"/>
                <a:ext cx="26668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Text Box 4"/>
          <p:cNvSpPr/>
          <p:nvPr/>
        </p:nvSpPr>
        <p:spPr>
          <a:xfrm>
            <a:off x="740880" y="1488960"/>
            <a:ext cx="66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 2,..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quence constructed by Lawler r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71160" y="1981080"/>
            <a:ext cx="797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,...,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n optimal sequence with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,...,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i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724280" y="3200400"/>
            <a:ext cx="5349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5257800" y="3200400"/>
            <a:ext cx="3826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5638680" y="3200400"/>
            <a:ext cx="2286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7924680" y="3200400"/>
            <a:ext cx="53352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3352680" y="3200400"/>
            <a:ext cx="1373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2819520" y="3200400"/>
            <a:ext cx="5349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057400" y="3200400"/>
            <a:ext cx="763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380880" y="31240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8"/>
          <p:cNvSpPr/>
          <p:nvPr/>
        </p:nvSpPr>
        <p:spPr>
          <a:xfrm flipH="1">
            <a:off x="129492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9"/>
          <p:cNvSpPr/>
          <p:nvPr/>
        </p:nvSpPr>
        <p:spPr>
          <a:xfrm flipH="1">
            <a:off x="129492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2"/>
          <p:cNvSpPr/>
          <p:nvPr/>
        </p:nvSpPr>
        <p:spPr>
          <a:xfrm>
            <a:off x="2438280" y="3581280"/>
            <a:ext cx="2819520" cy="228600"/>
          </a:xfrm>
          <a:custGeom>
            <a:avLst/>
            <a:gdLst/>
            <a:ahLst/>
            <a:rect l="l" t="t" r="r" b="b"/>
            <a:pathLst>
              <a:path w="1776" h="144">
                <a:moveTo>
                  <a:pt x="0" y="0"/>
                </a:moveTo>
                <a:cubicBezTo>
                  <a:pt x="308" y="72"/>
                  <a:pt x="616" y="144"/>
                  <a:pt x="912" y="144"/>
                </a:cubicBezTo>
                <a:cubicBezTo>
                  <a:pt x="1208" y="144"/>
                  <a:pt x="1632" y="24"/>
                  <a:pt x="1776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3"/>
          <p:cNvSpPr/>
          <p:nvPr/>
        </p:nvSpPr>
        <p:spPr>
          <a:xfrm>
            <a:off x="3657600" y="3886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686880" y="4343400"/>
            <a:ext cx="737136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no successor in the set {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5037120" y="3505320"/>
            <a:ext cx="36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2"/>
          <p:cNvSpPr/>
          <p:nvPr/>
        </p:nvSpPr>
        <p:spPr>
          <a:xfrm rot="5400000">
            <a:off x="990360" y="5105160"/>
            <a:ext cx="609480" cy="457200"/>
          </a:xfrm>
          <a:custGeom>
            <a:avLst/>
            <a:gdLst>
              <a:gd name="textAreaLeft" fmla="*/ 0 w 609480"/>
              <a:gd name="textAreaRight" fmla="*/ 522360 w 609480"/>
              <a:gd name="textAreaTop" fmla="*/ 30492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3"/>
          <p:cNvSpPr/>
          <p:nvPr/>
        </p:nvSpPr>
        <p:spPr>
          <a:xfrm>
            <a:off x="4343400" y="5943600"/>
            <a:ext cx="5349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5638680" y="5943600"/>
            <a:ext cx="3826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6019920" y="5943600"/>
            <a:ext cx="2286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8305920" y="5943600"/>
            <a:ext cx="5331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2971800" y="5943600"/>
            <a:ext cx="13730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8"/>
          <p:cNvSpPr/>
          <p:nvPr/>
        </p:nvSpPr>
        <p:spPr>
          <a:xfrm>
            <a:off x="2438280" y="5943600"/>
            <a:ext cx="5349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9"/>
          <p:cNvSpPr/>
          <p:nvPr/>
        </p:nvSpPr>
        <p:spPr>
          <a:xfrm>
            <a:off x="4876920" y="5943600"/>
            <a:ext cx="763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0"/>
          <p:cNvSpPr/>
          <p:nvPr/>
        </p:nvSpPr>
        <p:spPr>
          <a:xfrm>
            <a:off x="762120" y="58672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 flipH="1">
            <a:off x="1676520" y="5943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2"/>
          <p:cNvSpPr/>
          <p:nvPr/>
        </p:nvSpPr>
        <p:spPr>
          <a:xfrm flipH="1">
            <a:off x="1676520" y="6324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6"/>
          <p:cNvSpPr/>
          <p:nvPr/>
        </p:nvSpPr>
        <p:spPr>
          <a:xfrm>
            <a:off x="4572000" y="5181480"/>
            <a:ext cx="685800" cy="486000"/>
          </a:xfrm>
          <a:prstGeom prst="rightArrow">
            <a:avLst>
              <a:gd name="adj1" fmla="val 50000"/>
              <a:gd name="adj2" fmla="val 352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5486400" y="5181480"/>
            <a:ext cx="22096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is  optima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000440" y="1676520"/>
            <a:ext cx="332964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j  &amp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362320" y="4876920"/>
            <a:ext cx="2286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063160" y="5181480"/>
            <a:ext cx="37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2825280" y="5181480"/>
            <a:ext cx="37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366440" y="5181480"/>
            <a:ext cx="97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143000" y="5334120"/>
            <a:ext cx="70102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8155080" y="53341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2971800" y="4419720"/>
            <a:ext cx="13730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6054840" y="1676520"/>
            <a:ext cx="21060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4724280" y="1752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4648320" y="4876920"/>
            <a:ext cx="13730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1067040" y="2743200"/>
            <a:ext cx="1188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4876920" y="4419720"/>
            <a:ext cx="53496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5495400" y="5181480"/>
            <a:ext cx="41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0"/>
          <p:cNvSpPr/>
          <p:nvPr/>
        </p:nvSpPr>
        <p:spPr>
          <a:xfrm>
            <a:off x="266688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4003920" y="2819520"/>
            <a:ext cx="274608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6019920" y="4876920"/>
            <a:ext cx="53496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3"/>
          <p:cNvSpPr/>
          <p:nvPr/>
        </p:nvSpPr>
        <p:spPr>
          <a:xfrm>
            <a:off x="2286000" y="52736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4"/>
          <p:cNvSpPr/>
          <p:nvPr/>
        </p:nvSpPr>
        <p:spPr>
          <a:xfrm>
            <a:off x="2971800" y="52736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5"/>
          <p:cNvSpPr/>
          <p:nvPr/>
        </p:nvSpPr>
        <p:spPr>
          <a:xfrm>
            <a:off x="4624560" y="527364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6"/>
          <p:cNvSpPr/>
          <p:nvPr/>
        </p:nvSpPr>
        <p:spPr>
          <a:xfrm>
            <a:off x="5638680" y="527364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s Modif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the jobs are enumerated topologica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.e. for all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we have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if we schedule jobs according to nondecreasing release times such that the release times are respected, we always get a feasible schedule. Such a schedule may consists of several blocks.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maximal set of jobs which are processed without any idle time betwee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505320" y="5562720"/>
            <a:ext cx="5349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4800600" y="5562720"/>
            <a:ext cx="3826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5181480" y="5562720"/>
            <a:ext cx="2286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467480" y="5562720"/>
            <a:ext cx="5335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133720" y="5562720"/>
            <a:ext cx="13730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609480" y="5562720"/>
            <a:ext cx="916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4038480" y="5562720"/>
            <a:ext cx="7635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523880" y="556272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orithm Blocks ({1, 2,...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following algorithm gives a precise description of blocks constructed in this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We assume that all release times are modified and that the jobs are sorted according to these modified release ti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Both algorithms are valid for preemptive and nonpreemptive schedules with jobs having arbitrary processing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"/>
              <p:cNvSpPr txBox="1"/>
              <p:nvPr/>
            </p:nvSpPr>
            <p:spPr>
              <a:xfrm>
                <a:off x="4756320" y="1752480"/>
                <a:ext cx="4082760" cy="44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j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WHILE  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D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BEGIN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t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∅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WHILE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D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BEGIN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∪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t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END</m:t>
                        </m:r>
                      </m:e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j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EN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rting and Finishing time of B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2432160" y="1828800"/>
                <a:ext cx="42735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 block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e define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lim>
                        </m:limLow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the starting ti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the finishing time of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fu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,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wo functions. We say tha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(and sometim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=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if there exi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, 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 such tha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= 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g= 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lso say tha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and of cour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= 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ca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he sa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of grow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Lemma 4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roblem 1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exists an optimal schedule such that the intervals    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nstructed by Algorithms Blocks are completely occupied by jo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emma 4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3581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H="1">
            <a:off x="533520" y="3657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 flipH="1">
            <a:off x="5335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4191120" y="3657600"/>
            <a:ext cx="5349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791320" y="3657600"/>
            <a:ext cx="3823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6172200" y="3657600"/>
            <a:ext cx="19810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8153280" y="3657600"/>
            <a:ext cx="5335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2819520" y="3657600"/>
            <a:ext cx="13730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1295280" y="3657600"/>
            <a:ext cx="916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4724280" y="3657600"/>
            <a:ext cx="4572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2"/>
          <p:cNvSpPr/>
          <p:nvPr/>
        </p:nvSpPr>
        <p:spPr>
          <a:xfrm>
            <a:off x="2209680" y="365760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304920" y="1523880"/>
            <a:ext cx="3581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some optimal schedul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1086120" y="3962520"/>
            <a:ext cx="52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2609280" y="3962520"/>
            <a:ext cx="49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044600" y="3962520"/>
            <a:ext cx="34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6025320" y="3962520"/>
            <a:ext cx="31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5181480" y="3657600"/>
            <a:ext cx="60984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1"/>
          <p:cNvSpPr/>
          <p:nvPr/>
        </p:nvSpPr>
        <p:spPr>
          <a:xfrm>
            <a:off x="5031000" y="39625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2"/>
          <p:cNvSpPr/>
          <p:nvPr/>
        </p:nvSpPr>
        <p:spPr>
          <a:xfrm>
            <a:off x="5639760" y="3962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304920" y="2133720"/>
            <a:ext cx="82296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:  the first idle interval inside some block interval [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4"/>
          <p:cNvSpPr/>
          <p:nvPr/>
        </p:nvSpPr>
        <p:spPr>
          <a:xfrm>
            <a:off x="533520" y="4572000"/>
            <a:ext cx="3124080" cy="5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g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5"/>
          <p:cNvSpPr/>
          <p:nvPr/>
        </p:nvSpPr>
        <p:spPr>
          <a:xfrm>
            <a:off x="4116600" y="4572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6"/>
          <p:cNvSpPr/>
          <p:nvPr/>
        </p:nvSpPr>
        <p:spPr>
          <a:xfrm>
            <a:off x="304920" y="2743200"/>
            <a:ext cx="7848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set of jobs starting later than tim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7"/>
          <p:cNvSpPr/>
          <p:nvPr/>
        </p:nvSpPr>
        <p:spPr>
          <a:xfrm>
            <a:off x="5105520" y="4572000"/>
            <a:ext cx="3124080" cy="5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in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 &g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8"/>
          <p:cNvSpPr/>
          <p:nvPr/>
        </p:nvSpPr>
        <p:spPr>
          <a:xfrm>
            <a:off x="6324480" y="5105520"/>
            <a:ext cx="4860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9"/>
          <p:cNvSpPr/>
          <p:nvPr/>
        </p:nvSpPr>
        <p:spPr>
          <a:xfrm>
            <a:off x="1752480" y="5105520"/>
            <a:ext cx="4860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0"/>
          <p:cNvSpPr/>
          <p:nvPr/>
        </p:nvSpPr>
        <p:spPr>
          <a:xfrm>
            <a:off x="4569840" y="5486400"/>
            <a:ext cx="4249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v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must be an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 in the schedule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lgorithms Bloc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1"/>
          <p:cNvSpPr/>
          <p:nvPr/>
        </p:nvSpPr>
        <p:spPr>
          <a:xfrm>
            <a:off x="149040" y="5486400"/>
            <a:ext cx="43610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jo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o the idle inter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that either 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is 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ed or jo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shes in 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Lemma 4.2 we may treat each block separately. The optimal solution value for the whole problem is given by the maximum of   the solution values of all bloc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ed Lawle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33520" y="1752480"/>
                <a:ext cx="7772400" cy="401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be such a bloc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note by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the optimal solution valu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jobs in this bloc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urthermore, let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  <m:e/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the optim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lution value for the jobs in </m:t>
                        </m:r>
                        <m:r>
                          <m:t xml:space="preserve">B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j</m:t>
                            </m:r>
                          </m:e>
                          <m:e/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learly,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  <m:e/>
                            </m:d>
                          </m:e>
                        </m:d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ll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scheduled in 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and thu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≥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</m:lim>
                        </m:limLow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  <m:sup/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j</m:t>
                                    </m:r>
                                  </m:e>
                                  <m:e/>
                                </m:d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urthermore,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|</m:t>
                            </m:r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without successors in 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cause in an optimal schedule one job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without successors in 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ishes at time </m:t>
                        </m:r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is now constructed as follows. We solve the problem for the set of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 optimal solution of this problem again has a corresponding block structure. Similar to the proof of Lemma 4.2  we can show that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scheduled in the idle periods of this block structure yielding a schedule with objective value of at the m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the optimal valu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2743200" y="4572000"/>
                <a:ext cx="42670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  <m:sup/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l</m:t>
                                </m:r>
                              </m:e>
                              <m:e/>
                            </m:d>
                          </m:e>
                        </m:d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54492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644040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658800" y="1809720"/>
            <a:ext cx="14400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499428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209880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 flipV="1">
            <a:off x="650880" y="2190600"/>
            <a:ext cx="7731000" cy="30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8307360" y="20383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3"/>
          <p:cNvSpPr/>
          <p:nvPr/>
        </p:nvSpPr>
        <p:spPr>
          <a:xfrm>
            <a:off x="60948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4"/>
          <p:cNvSpPr/>
          <p:nvPr/>
        </p:nvSpPr>
        <p:spPr>
          <a:xfrm>
            <a:off x="168912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25"/>
          <p:cNvSpPr/>
          <p:nvPr/>
        </p:nvSpPr>
        <p:spPr>
          <a:xfrm>
            <a:off x="277020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6"/>
          <p:cNvSpPr/>
          <p:nvPr/>
        </p:nvSpPr>
        <p:spPr>
          <a:xfrm>
            <a:off x="4210200" y="21607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600876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4"/>
          <p:cNvSpPr/>
          <p:nvPr/>
        </p:nvSpPr>
        <p:spPr>
          <a:xfrm>
            <a:off x="7832880" y="21747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12348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119016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225684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8"/>
          <p:cNvSpPr/>
          <p:nvPr/>
        </p:nvSpPr>
        <p:spPr>
          <a:xfrm>
            <a:off x="3681360" y="226692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5510160" y="217188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7638120" y="2171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544920" y="1809720"/>
            <a:ext cx="14414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644040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658800" y="1809720"/>
            <a:ext cx="14400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499428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209880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V="1">
            <a:off x="650880" y="2190600"/>
            <a:ext cx="7731000" cy="30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8307360" y="20383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3"/>
          <p:cNvSpPr/>
          <p:nvPr/>
        </p:nvSpPr>
        <p:spPr>
          <a:xfrm>
            <a:off x="60948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4"/>
          <p:cNvSpPr/>
          <p:nvPr/>
        </p:nvSpPr>
        <p:spPr>
          <a:xfrm>
            <a:off x="168912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5"/>
          <p:cNvSpPr/>
          <p:nvPr/>
        </p:nvSpPr>
        <p:spPr>
          <a:xfrm>
            <a:off x="277020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6"/>
          <p:cNvSpPr/>
          <p:nvPr/>
        </p:nvSpPr>
        <p:spPr>
          <a:xfrm>
            <a:off x="4210200" y="21607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4"/>
          <p:cNvSpPr/>
          <p:nvPr/>
        </p:nvSpPr>
        <p:spPr>
          <a:xfrm>
            <a:off x="600876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4"/>
          <p:cNvSpPr/>
          <p:nvPr/>
        </p:nvSpPr>
        <p:spPr>
          <a:xfrm>
            <a:off x="7832880" y="21747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12348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119016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8"/>
          <p:cNvSpPr/>
          <p:nvPr/>
        </p:nvSpPr>
        <p:spPr>
          <a:xfrm>
            <a:off x="225684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3681360" y="226692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8"/>
          <p:cNvSpPr/>
          <p:nvPr/>
        </p:nvSpPr>
        <p:spPr>
          <a:xfrm>
            <a:off x="5510160" y="217188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8"/>
          <p:cNvSpPr/>
          <p:nvPr/>
        </p:nvSpPr>
        <p:spPr>
          <a:xfrm>
            <a:off x="7638120" y="2171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1088640" y="3244680"/>
            <a:ext cx="23418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0) = 40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0) = 60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0) = 40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0) = 45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0) = 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544920" y="1809720"/>
            <a:ext cx="14414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44040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658800" y="1809720"/>
            <a:ext cx="14400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499428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209880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 flipV="1">
            <a:off x="650880" y="2190600"/>
            <a:ext cx="7731000" cy="30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8307360" y="20383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3"/>
          <p:cNvSpPr/>
          <p:nvPr/>
        </p:nvSpPr>
        <p:spPr>
          <a:xfrm>
            <a:off x="60948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4"/>
          <p:cNvSpPr/>
          <p:nvPr/>
        </p:nvSpPr>
        <p:spPr>
          <a:xfrm>
            <a:off x="168912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5"/>
          <p:cNvSpPr/>
          <p:nvPr/>
        </p:nvSpPr>
        <p:spPr>
          <a:xfrm>
            <a:off x="277020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6"/>
          <p:cNvSpPr/>
          <p:nvPr/>
        </p:nvSpPr>
        <p:spPr>
          <a:xfrm>
            <a:off x="4210200" y="21607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4"/>
          <p:cNvSpPr/>
          <p:nvPr/>
        </p:nvSpPr>
        <p:spPr>
          <a:xfrm>
            <a:off x="600876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4"/>
          <p:cNvSpPr/>
          <p:nvPr/>
        </p:nvSpPr>
        <p:spPr>
          <a:xfrm>
            <a:off x="7832880" y="21747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8"/>
          <p:cNvSpPr/>
          <p:nvPr/>
        </p:nvSpPr>
        <p:spPr>
          <a:xfrm>
            <a:off x="12348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119016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8"/>
          <p:cNvSpPr/>
          <p:nvPr/>
        </p:nvSpPr>
        <p:spPr>
          <a:xfrm>
            <a:off x="225684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3681360" y="226692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>
            <a:off x="5510160" y="217188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7638120" y="2171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6559560" y="4856040"/>
            <a:ext cx="14400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5105520" y="4857840"/>
            <a:ext cx="14396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819000" y="4857840"/>
            <a:ext cx="14400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657600" y="4857840"/>
            <a:ext cx="14400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2259000" y="485784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"/>
          <p:cNvSpPr/>
          <p:nvPr/>
        </p:nvSpPr>
        <p:spPr>
          <a:xfrm flipV="1">
            <a:off x="811080" y="5238720"/>
            <a:ext cx="7731360" cy="30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8467920" y="50864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3"/>
          <p:cNvSpPr/>
          <p:nvPr/>
        </p:nvSpPr>
        <p:spPr>
          <a:xfrm>
            <a:off x="770040" y="52084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4"/>
          <p:cNvSpPr/>
          <p:nvPr/>
        </p:nvSpPr>
        <p:spPr>
          <a:xfrm>
            <a:off x="184932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5"/>
          <p:cNvSpPr/>
          <p:nvPr/>
        </p:nvSpPr>
        <p:spPr>
          <a:xfrm>
            <a:off x="293040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6"/>
          <p:cNvSpPr/>
          <p:nvPr/>
        </p:nvSpPr>
        <p:spPr>
          <a:xfrm>
            <a:off x="437040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616896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4"/>
          <p:cNvSpPr/>
          <p:nvPr/>
        </p:nvSpPr>
        <p:spPr>
          <a:xfrm>
            <a:off x="725004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4"/>
          <p:cNvSpPr/>
          <p:nvPr/>
        </p:nvSpPr>
        <p:spPr>
          <a:xfrm>
            <a:off x="7993080" y="52228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8"/>
          <p:cNvSpPr/>
          <p:nvPr/>
        </p:nvSpPr>
        <p:spPr>
          <a:xfrm>
            <a:off x="1350720" y="523872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8"/>
          <p:cNvSpPr/>
          <p:nvPr/>
        </p:nvSpPr>
        <p:spPr>
          <a:xfrm>
            <a:off x="2417400" y="523872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3841560" y="531504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8"/>
          <p:cNvSpPr/>
          <p:nvPr/>
        </p:nvSpPr>
        <p:spPr>
          <a:xfrm>
            <a:off x="5670360" y="521964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7798320" y="5219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8"/>
          <p:cNvSpPr/>
          <p:nvPr/>
        </p:nvSpPr>
        <p:spPr>
          <a:xfrm>
            <a:off x="275760" y="52578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6459480" y="3408480"/>
            <a:ext cx="14400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 flipV="1">
            <a:off x="712800" y="3790800"/>
            <a:ext cx="7729560" cy="30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8367840" y="36385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3"/>
          <p:cNvSpPr/>
          <p:nvPr/>
        </p:nvSpPr>
        <p:spPr>
          <a:xfrm>
            <a:off x="669960" y="3760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4"/>
          <p:cNvSpPr/>
          <p:nvPr/>
        </p:nvSpPr>
        <p:spPr>
          <a:xfrm>
            <a:off x="1749600" y="37609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5"/>
          <p:cNvSpPr/>
          <p:nvPr/>
        </p:nvSpPr>
        <p:spPr>
          <a:xfrm>
            <a:off x="2830680" y="37609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6"/>
          <p:cNvSpPr/>
          <p:nvPr/>
        </p:nvSpPr>
        <p:spPr>
          <a:xfrm>
            <a:off x="4270320" y="3760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4"/>
          <p:cNvSpPr/>
          <p:nvPr/>
        </p:nvSpPr>
        <p:spPr>
          <a:xfrm>
            <a:off x="6068880" y="3760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24"/>
          <p:cNvSpPr/>
          <p:nvPr/>
        </p:nvSpPr>
        <p:spPr>
          <a:xfrm>
            <a:off x="7149960" y="37609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24"/>
          <p:cNvSpPr/>
          <p:nvPr/>
        </p:nvSpPr>
        <p:spPr>
          <a:xfrm>
            <a:off x="7893000" y="377496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8"/>
          <p:cNvSpPr/>
          <p:nvPr/>
        </p:nvSpPr>
        <p:spPr>
          <a:xfrm>
            <a:off x="7698240" y="3772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8"/>
          <p:cNvSpPr/>
          <p:nvPr/>
        </p:nvSpPr>
        <p:spPr>
          <a:xfrm>
            <a:off x="458640" y="38098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3544920" y="1809720"/>
            <a:ext cx="14414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644040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658800" y="1809720"/>
            <a:ext cx="14400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499428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2098800" y="180972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1"/>
          <p:cNvSpPr/>
          <p:nvPr/>
        </p:nvSpPr>
        <p:spPr>
          <a:xfrm flipV="1">
            <a:off x="650880" y="2190600"/>
            <a:ext cx="7731000" cy="30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8307360" y="20383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3"/>
          <p:cNvSpPr/>
          <p:nvPr/>
        </p:nvSpPr>
        <p:spPr>
          <a:xfrm>
            <a:off x="60948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4"/>
          <p:cNvSpPr/>
          <p:nvPr/>
        </p:nvSpPr>
        <p:spPr>
          <a:xfrm>
            <a:off x="168912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25"/>
          <p:cNvSpPr/>
          <p:nvPr/>
        </p:nvSpPr>
        <p:spPr>
          <a:xfrm>
            <a:off x="277020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6"/>
          <p:cNvSpPr/>
          <p:nvPr/>
        </p:nvSpPr>
        <p:spPr>
          <a:xfrm>
            <a:off x="4210200" y="216072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24"/>
          <p:cNvSpPr/>
          <p:nvPr/>
        </p:nvSpPr>
        <p:spPr>
          <a:xfrm>
            <a:off x="6008760" y="2160720"/>
            <a:ext cx="9216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24"/>
          <p:cNvSpPr/>
          <p:nvPr/>
        </p:nvSpPr>
        <p:spPr>
          <a:xfrm>
            <a:off x="7832880" y="217476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12348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119016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8"/>
          <p:cNvSpPr/>
          <p:nvPr/>
        </p:nvSpPr>
        <p:spPr>
          <a:xfrm>
            <a:off x="2256840" y="219060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8"/>
          <p:cNvSpPr/>
          <p:nvPr/>
        </p:nvSpPr>
        <p:spPr>
          <a:xfrm>
            <a:off x="3681360" y="226692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8"/>
          <p:cNvSpPr/>
          <p:nvPr/>
        </p:nvSpPr>
        <p:spPr>
          <a:xfrm>
            <a:off x="5510160" y="217188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8"/>
          <p:cNvSpPr/>
          <p:nvPr/>
        </p:nvSpPr>
        <p:spPr>
          <a:xfrm>
            <a:off x="7638120" y="2171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6103800" y="3352680"/>
            <a:ext cx="14400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666720" y="3352680"/>
            <a:ext cx="14400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4267080" y="3352680"/>
            <a:ext cx="14400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2106720" y="3352680"/>
            <a:ext cx="14414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 flipV="1">
            <a:off x="658800" y="3733560"/>
            <a:ext cx="7731000" cy="2988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8315280" y="3581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3"/>
          <p:cNvSpPr/>
          <p:nvPr/>
        </p:nvSpPr>
        <p:spPr>
          <a:xfrm>
            <a:off x="617400" y="37036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4"/>
          <p:cNvSpPr/>
          <p:nvPr/>
        </p:nvSpPr>
        <p:spPr>
          <a:xfrm>
            <a:off x="1697040" y="37036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5"/>
          <p:cNvSpPr/>
          <p:nvPr/>
        </p:nvSpPr>
        <p:spPr>
          <a:xfrm>
            <a:off x="2778120" y="37036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6"/>
          <p:cNvSpPr/>
          <p:nvPr/>
        </p:nvSpPr>
        <p:spPr>
          <a:xfrm>
            <a:off x="4218120" y="37036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4"/>
          <p:cNvSpPr/>
          <p:nvPr/>
        </p:nvSpPr>
        <p:spPr>
          <a:xfrm>
            <a:off x="6016680" y="37036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4"/>
          <p:cNvSpPr/>
          <p:nvPr/>
        </p:nvSpPr>
        <p:spPr>
          <a:xfrm>
            <a:off x="7840800" y="3718080"/>
            <a:ext cx="91800" cy="91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131400" y="373392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1198080" y="373392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2265120" y="373392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8"/>
          <p:cNvSpPr/>
          <p:nvPr/>
        </p:nvSpPr>
        <p:spPr>
          <a:xfrm>
            <a:off x="3689280" y="380988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8"/>
          <p:cNvSpPr/>
          <p:nvPr/>
        </p:nvSpPr>
        <p:spPr>
          <a:xfrm>
            <a:off x="5518080" y="371484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7646040" y="3714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6184800" y="4857840"/>
            <a:ext cx="14400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819000" y="4857840"/>
            <a:ext cx="14400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4419720" y="4857840"/>
            <a:ext cx="14396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2259000" y="4857840"/>
            <a:ext cx="14414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1"/>
          <p:cNvSpPr/>
          <p:nvPr/>
        </p:nvSpPr>
        <p:spPr>
          <a:xfrm flipV="1">
            <a:off x="811080" y="5238720"/>
            <a:ext cx="7731360" cy="30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8467920" y="50864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3"/>
          <p:cNvSpPr/>
          <p:nvPr/>
        </p:nvSpPr>
        <p:spPr>
          <a:xfrm>
            <a:off x="770040" y="5208480"/>
            <a:ext cx="9180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4"/>
          <p:cNvSpPr/>
          <p:nvPr/>
        </p:nvSpPr>
        <p:spPr>
          <a:xfrm>
            <a:off x="184932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5"/>
          <p:cNvSpPr/>
          <p:nvPr/>
        </p:nvSpPr>
        <p:spPr>
          <a:xfrm>
            <a:off x="293040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6"/>
          <p:cNvSpPr/>
          <p:nvPr/>
        </p:nvSpPr>
        <p:spPr>
          <a:xfrm>
            <a:off x="437040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4"/>
          <p:cNvSpPr/>
          <p:nvPr/>
        </p:nvSpPr>
        <p:spPr>
          <a:xfrm>
            <a:off x="6168960" y="52084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4"/>
          <p:cNvSpPr/>
          <p:nvPr/>
        </p:nvSpPr>
        <p:spPr>
          <a:xfrm>
            <a:off x="7993080" y="5222880"/>
            <a:ext cx="92160" cy="92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8"/>
          <p:cNvSpPr/>
          <p:nvPr/>
        </p:nvSpPr>
        <p:spPr>
          <a:xfrm>
            <a:off x="283680" y="523872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8"/>
          <p:cNvSpPr/>
          <p:nvPr/>
        </p:nvSpPr>
        <p:spPr>
          <a:xfrm>
            <a:off x="1350720" y="523872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8"/>
          <p:cNvSpPr/>
          <p:nvPr/>
        </p:nvSpPr>
        <p:spPr>
          <a:xfrm>
            <a:off x="2417400" y="5238720"/>
            <a:ext cx="69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3841560" y="531504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8"/>
          <p:cNvSpPr/>
          <p:nvPr/>
        </p:nvSpPr>
        <p:spPr>
          <a:xfrm>
            <a:off x="5670360" y="5219640"/>
            <a:ext cx="81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8"/>
          <p:cNvSpPr/>
          <p:nvPr/>
        </p:nvSpPr>
        <p:spPr>
          <a:xfrm>
            <a:off x="7798320" y="5219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5867280" y="4856040"/>
            <a:ext cx="3603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7640640" y="4856040"/>
            <a:ext cx="3603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3699000" y="4856040"/>
            <a:ext cx="7207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 2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*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Decomp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n algorithm which accepts inputs from a s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X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: D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exist a consta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 such tha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s its computation after at mo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steps (including arithmetical operations) for each inpu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e say tha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n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lso say that th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nning ti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th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complex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e Decompose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n retur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retur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Block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= min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out succ.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comp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, h,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}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dure Decompose can be easily extended in such a way that the optimal schedule is calculated as well. We have to schedule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idle periods of the schedul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\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 This is done from left to right respec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Due to the fact that all release dates are modified,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respect the precedence re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xity of the algorithm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  This can be seen as follows. If we exclude the recursive calls in Step 7, the number of steps for the Procedure Decompos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S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Thus, for the numb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f computational steps we have the recurs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here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jobs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block and   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ll data are integer, then all starting and finishing times of the blocks are also integer. Thus, if we apply the algorithm to a problem with unit processing times, no preemption is necessary. Therefore, our algorithm also solves problem 1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lain why we can not use the proof of Lemma 4.2 in order to get the similar result for 1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(without preemptio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the running time of                   Algorithm 1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 4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n optimal schedule for the following instance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14400" y="2819520"/>
          <a:ext cx="7315200" cy="2239920"/>
        </p:xfrm>
        <a:graphic>
          <a:graphicData uri="http://schemas.openxmlformats.org/drawingml/2006/table">
            <a:tbl>
              <a:tblPr/>
              <a:tblGrid>
                <a:gridCol w="915840"/>
                <a:gridCol w="912960"/>
                <a:gridCol w="914400"/>
                <a:gridCol w="914400"/>
                <a:gridCol w="914400"/>
                <a:gridCol w="914400"/>
                <a:gridCol w="912960"/>
                <a:gridCol w="91584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 Box 56"/>
          <p:cNvSpPr/>
          <p:nvPr/>
        </p:nvSpPr>
        <p:spPr>
          <a:xfrm>
            <a:off x="1172880" y="5248440"/>
            <a:ext cx="671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edence constraint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 Corollary 3.3 and Corollary 3.4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trictly increasing, positive function. That i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gt; 0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ne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that SPT (short processing time first) gives an optimal schedule for the problem 1||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3"/>
              <p:cNvSpPr txBox="1"/>
              <p:nvPr/>
            </p:nvSpPr>
            <p:spPr>
              <a:xfrm>
                <a:off x="990720" y="4495680"/>
                <a:ext cx="608004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: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σ</m:t>
                                    </m:r>
                                  </m:e>
                                </m:d>
                              </m:e>
                            </m:d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σ</m:t>
                                    </m:r>
                                    <m:r>
                                      <m:t xml:space="preserve">'</m:t>
                                    </m:r>
                                  </m:e>
                                </m:d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ge Arra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4"/>
              <p:cNvSpPr txBox="1"/>
              <p:nvPr/>
            </p:nvSpPr>
            <p:spPr>
              <a:xfrm>
                <a:off x="380880" y="1981080"/>
                <a:ext cx="8001000" cy="31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be arrays of real numbers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⋯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⋯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where 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 assignment problem given by the array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ith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an optimal solution given b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if    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otherwise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2" name="TextBox 1"/>
          <p:cNvSpPr/>
          <p:nvPr/>
        </p:nvSpPr>
        <p:spPr>
          <a:xfrm>
            <a:off x="371160" y="137160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Corollary 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304920" y="5181480"/>
                <a:ext cx="2171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5"/>
              <p:cNvSpPr txBox="1"/>
              <p:nvPr/>
            </p:nvSpPr>
            <p:spPr>
              <a:xfrm>
                <a:off x="304920" y="5722920"/>
                <a:ext cx="779436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&lt;</m:t>
                            </m:r>
                            <m:r>
                              <m:t xml:space="preserve">j</m:t>
                            </m:r>
                            <m:r>
                              <m:t xml:space="preserve">∧</m:t>
                            </m:r>
                            <m:r>
                              <m:t xml:space="preserve">k</m:t>
                            </m:r>
                            <m:r>
                              <m:t xml:space="preserve">&lt;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put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 si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an instance with rational  data is the total number of bits needed for     the binary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-tim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lgorithm with rational input is said to run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ynomial ti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an integ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it runs 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 is the input size, and all numbers in intermediate computations can be sorted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lgorithm with arbitrary input is said to run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trongly polynomial ti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an integ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it runs 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for any input consisting of n numbers and it runs in polynomial time for rational input. In the c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linear-time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e Reductions Between Scheduling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838080" y="518148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838080" y="41148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838080" y="304812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8"/>
          <p:cNvCxnSpPr>
            <a:stCxn id="59" idx="0"/>
            <a:endCxn id="60" idx="2"/>
          </p:cNvCxnSpPr>
          <p:nvPr/>
        </p:nvCxnSpPr>
        <p:spPr>
          <a:xfrm flipV="1">
            <a:off x="1066320" y="4581000"/>
            <a:ext cx="1080" cy="591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9"/>
          <p:cNvCxnSpPr>
            <a:stCxn id="60" idx="0"/>
            <a:endCxn id="61" idx="2"/>
          </p:cNvCxnSpPr>
          <p:nvPr/>
        </p:nvCxnSpPr>
        <p:spPr>
          <a:xfrm flipV="1">
            <a:off x="1066320" y="3514320"/>
            <a:ext cx="1080" cy="591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Rectangle 10"/>
          <p:cNvSpPr/>
          <p:nvPr/>
        </p:nvSpPr>
        <p:spPr>
          <a:xfrm>
            <a:off x="2971800" y="52578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2971800" y="419112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13"/>
          <p:cNvCxnSpPr>
            <a:stCxn id="64" idx="0"/>
            <a:endCxn id="65" idx="2"/>
          </p:cNvCxnSpPr>
          <p:nvPr/>
        </p:nvCxnSpPr>
        <p:spPr>
          <a:xfrm flipV="1">
            <a:off x="3200040" y="4657320"/>
            <a:ext cx="1080" cy="591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AutoShape 14"/>
          <p:cNvCxnSpPr>
            <a:stCxn id="65" idx="0"/>
            <a:endCxn id="66" idx="2"/>
          </p:cNvCxnSpPr>
          <p:nvPr/>
        </p:nvCxnSpPr>
        <p:spPr>
          <a:xfrm flipV="1">
            <a:off x="3200040" y="3590640"/>
            <a:ext cx="1080" cy="591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Rectangle 15"/>
          <p:cNvSpPr/>
          <p:nvPr/>
        </p:nvSpPr>
        <p:spPr>
          <a:xfrm>
            <a:off x="3886200" y="52578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2133720" y="52578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17"/>
          <p:cNvCxnSpPr>
            <a:stCxn id="70" idx="0"/>
            <a:endCxn id="65" idx="2"/>
          </p:cNvCxnSpPr>
          <p:nvPr/>
        </p:nvCxnSpPr>
        <p:spPr>
          <a:xfrm flipV="1">
            <a:off x="2362320" y="4657320"/>
            <a:ext cx="83880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8"/>
          <p:cNvCxnSpPr>
            <a:stCxn id="69" idx="0"/>
            <a:endCxn id="65" idx="2"/>
          </p:cNvCxnSpPr>
          <p:nvPr/>
        </p:nvCxnSpPr>
        <p:spPr>
          <a:xfrm flipH="1" flipV="1">
            <a:off x="3200040" y="4657320"/>
            <a:ext cx="91512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19"/>
          <p:cNvSpPr/>
          <p:nvPr/>
        </p:nvSpPr>
        <p:spPr>
          <a:xfrm>
            <a:off x="7162920" y="556272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6248520" y="34290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6248520" y="236232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23"/>
          <p:cNvCxnSpPr>
            <a:stCxn id="74" idx="0"/>
            <a:endCxn id="75" idx="2"/>
          </p:cNvCxnSpPr>
          <p:nvPr/>
        </p:nvCxnSpPr>
        <p:spPr>
          <a:xfrm flipV="1">
            <a:off x="6476760" y="2828520"/>
            <a:ext cx="1080" cy="591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Rectangle 24"/>
          <p:cNvSpPr/>
          <p:nvPr/>
        </p:nvSpPr>
        <p:spPr>
          <a:xfrm>
            <a:off x="7162920" y="449568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26"/>
          <p:cNvCxnSpPr>
            <a:stCxn id="78" idx="0"/>
            <a:endCxn id="74" idx="2"/>
          </p:cNvCxnSpPr>
          <p:nvPr/>
        </p:nvCxnSpPr>
        <p:spPr>
          <a:xfrm flipV="1">
            <a:off x="5638320" y="3895200"/>
            <a:ext cx="83916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27"/>
          <p:cNvCxnSpPr>
            <a:stCxn id="77" idx="0"/>
            <a:endCxn id="74" idx="2"/>
          </p:cNvCxnSpPr>
          <p:nvPr/>
        </p:nvCxnSpPr>
        <p:spPr>
          <a:xfrm flipH="1" flipV="1">
            <a:off x="6476760" y="3895200"/>
            <a:ext cx="91512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28"/>
          <p:cNvCxnSpPr>
            <a:stCxn id="73" idx="0"/>
            <a:endCxn id="77" idx="2"/>
          </p:cNvCxnSpPr>
          <p:nvPr/>
        </p:nvCxnSpPr>
        <p:spPr>
          <a:xfrm flipV="1">
            <a:off x="7391160" y="4962240"/>
            <a:ext cx="108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e Reductions Betwee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al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886200" y="6019920"/>
            <a:ext cx="121932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886200" y="4952880"/>
            <a:ext cx="12193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676520" y="4952880"/>
            <a:ext cx="121896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676520" y="3809880"/>
            <a:ext cx="121896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3886200" y="3809880"/>
            <a:ext cx="12193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5943600" y="3809880"/>
            <a:ext cx="12193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886200" y="2438280"/>
            <a:ext cx="12193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5943600" y="2438280"/>
            <a:ext cx="12193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12"/>
          <p:cNvCxnSpPr>
            <a:stCxn id="83" idx="0"/>
            <a:endCxn id="84" idx="2"/>
          </p:cNvCxnSpPr>
          <p:nvPr/>
        </p:nvCxnSpPr>
        <p:spPr>
          <a:xfrm flipV="1">
            <a:off x="4495320" y="5495040"/>
            <a:ext cx="1080" cy="515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14"/>
          <p:cNvCxnSpPr>
            <a:stCxn id="84" idx="0"/>
            <a:endCxn id="87" idx="2"/>
          </p:cNvCxnSpPr>
          <p:nvPr/>
        </p:nvCxnSpPr>
        <p:spPr>
          <a:xfrm flipV="1">
            <a:off x="4495320" y="4352400"/>
            <a:ext cx="108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15"/>
          <p:cNvCxnSpPr>
            <a:stCxn id="87" idx="0"/>
            <a:endCxn id="89" idx="2"/>
          </p:cNvCxnSpPr>
          <p:nvPr/>
        </p:nvCxnSpPr>
        <p:spPr>
          <a:xfrm flipV="1">
            <a:off x="4495320" y="2980800"/>
            <a:ext cx="1080" cy="82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16"/>
          <p:cNvCxnSpPr>
            <a:stCxn id="85" idx="0"/>
            <a:endCxn id="86" idx="2"/>
          </p:cNvCxnSpPr>
          <p:nvPr/>
        </p:nvCxnSpPr>
        <p:spPr>
          <a:xfrm flipV="1">
            <a:off x="2285640" y="4352400"/>
            <a:ext cx="1080" cy="59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17"/>
          <p:cNvCxnSpPr>
            <a:stCxn id="88" idx="0"/>
            <a:endCxn id="90" idx="2"/>
          </p:cNvCxnSpPr>
          <p:nvPr/>
        </p:nvCxnSpPr>
        <p:spPr>
          <a:xfrm flipV="1">
            <a:off x="6552720" y="2980800"/>
            <a:ext cx="1080" cy="82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18"/>
          <p:cNvCxnSpPr>
            <a:stCxn id="84" idx="3"/>
            <a:endCxn id="88" idx="2"/>
          </p:cNvCxnSpPr>
          <p:nvPr/>
        </p:nvCxnSpPr>
        <p:spPr>
          <a:xfrm flipV="1">
            <a:off x="5114520" y="4352400"/>
            <a:ext cx="1438920" cy="867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19"/>
          <p:cNvCxnSpPr>
            <a:stCxn id="85" idx="3"/>
            <a:endCxn id="87" idx="2"/>
          </p:cNvCxnSpPr>
          <p:nvPr/>
        </p:nvCxnSpPr>
        <p:spPr>
          <a:xfrm flipV="1">
            <a:off x="2905200" y="4352400"/>
            <a:ext cx="1591200" cy="867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20"/>
          <p:cNvCxnSpPr>
            <a:stCxn id="86" idx="3"/>
            <a:endCxn id="89" idx="2"/>
          </p:cNvCxnSpPr>
          <p:nvPr/>
        </p:nvCxnSpPr>
        <p:spPr>
          <a:xfrm flipV="1">
            <a:off x="2905200" y="2980440"/>
            <a:ext cx="1591200" cy="109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Machine Schedul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Lemma 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 and if the objective function is a regular function of the finishing times of the jobs, then only schedules without preemption and without idle time need to be conside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ollows from the fact that the opt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value does not improve if pree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low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13:03:26Z</dcterms:created>
  <dc:creator>Kononov</dc:creator>
  <dc:description/>
  <dc:language>en-US</dc:language>
  <cp:lastModifiedBy>Alexander Kononov</cp:lastModifiedBy>
  <dcterms:modified xsi:type="dcterms:W3CDTF">2016-03-14T04:07:51Z</dcterms:modified>
  <cp:revision>68</cp:revision>
  <dc:subject/>
  <dc:title>Computational Complexity</dc:title>
</cp:coreProperties>
</file>