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34F-58AF-48C4-A338-B29558D4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5B3-3181-4C9E-8596-80F5C103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5CD-6994-4E39-A6FE-02BD2E56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8C6-376A-4FBC-AC0A-ECC5430A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F229-EA72-40D0-83DD-87D49FF2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F105-E443-4477-83BB-D1A57FE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005-D3C2-41BF-9855-27357384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11C5-1648-473F-9FCC-718B85CA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D94C-2559-4E86-9AE6-3F412AC6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B5BC-8F62-45E2-8BA3-256645DC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FBBE-83CD-4B38-8613-0FCBFAD6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6D8-9F1C-4B9F-A727-E4C60D12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99F4-9BE3-45C2-9499-A7134BAA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3D0C-ECE4-4768-AC68-3BFE828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07A4-4FEE-4514-AF4F-489FDD13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21AB-E09E-4FEC-AE46-58503CF6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787A-6864-4549-B16C-BF424509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86D-09E1-4E79-A13C-F45BF3B9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FB0-0FA3-4632-99D3-D55E477B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9A9-C0A5-4396-BECC-A1F8E615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C9C-7205-4856-8D74-A749C59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8D3-D16E-40F3-A1C3-AD951B45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07C-580E-4351-9B5C-62BF4185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8CF-46E5-4E28-AA9B-31644C45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E7AB-B9DD-4617-A81D-86ACC1A04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EDEC-00AC-4F81-A396-A0C4881C2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Machine Schedul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362320" y="3429000"/>
            <a:ext cx="38088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48320" y="3429000"/>
            <a:ext cx="144756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77120" y="3429000"/>
            <a:ext cx="99036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505320" y="3429000"/>
            <a:ext cx="76176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066680" y="342900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28600" y="342900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7848720" y="3429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78688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743200" y="34290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124080" y="34290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267080" y="34290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6095880" y="34290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467480" y="3429000"/>
            <a:ext cx="38412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362320" y="2666880"/>
            <a:ext cx="38088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1066680" y="266688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228600" y="2666880"/>
            <a:ext cx="685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H="1">
            <a:off x="2743200" y="2666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 flipH="1">
            <a:off x="2743200" y="31240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211480" y="380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-13320" y="1523880"/>
            <a:ext cx="9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first time at which a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 different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7200" y="2057400"/>
            <a:ext cx="41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successors of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565200" y="4479840"/>
            <a:ext cx="127188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5"/>
          <p:cNvSpPr/>
          <p:nvPr/>
        </p:nvSpPr>
        <p:spPr>
          <a:xfrm>
            <a:off x="6324480" y="3962520"/>
            <a:ext cx="129564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6"/>
          <p:cNvSpPr/>
          <p:nvPr/>
        </p:nvSpPr>
        <p:spPr>
          <a:xfrm>
            <a:off x="3200400" y="3962520"/>
            <a:ext cx="129528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7"/>
          <p:cNvSpPr/>
          <p:nvPr/>
        </p:nvSpPr>
        <p:spPr>
          <a:xfrm>
            <a:off x="297180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8"/>
          <p:cNvSpPr/>
          <p:nvPr/>
        </p:nvSpPr>
        <p:spPr>
          <a:xfrm>
            <a:off x="266688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9"/>
          <p:cNvSpPr/>
          <p:nvPr/>
        </p:nvSpPr>
        <p:spPr>
          <a:xfrm>
            <a:off x="457200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0"/>
          <p:cNvSpPr/>
          <p:nvPr/>
        </p:nvSpPr>
        <p:spPr>
          <a:xfrm>
            <a:off x="594360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1"/>
          <p:cNvSpPr/>
          <p:nvPr/>
        </p:nvSpPr>
        <p:spPr>
          <a:xfrm flipH="1" flipV="1">
            <a:off x="2514600" y="3199680"/>
            <a:ext cx="5029200" cy="15228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2"/>
          <p:cNvSpPr/>
          <p:nvPr/>
        </p:nvSpPr>
        <p:spPr>
          <a:xfrm>
            <a:off x="2459880" y="4495680"/>
            <a:ext cx="1771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1906920" y="4495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4"/>
          <p:cNvSpPr/>
          <p:nvPr/>
        </p:nvSpPr>
        <p:spPr>
          <a:xfrm>
            <a:off x="472428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6035760" y="4495680"/>
            <a:ext cx="1861920" cy="66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6"/>
          <p:cNvSpPr/>
          <p:nvPr/>
        </p:nvSpPr>
        <p:spPr>
          <a:xfrm>
            <a:off x="2438280" y="5257800"/>
            <a:ext cx="38124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4724280" y="5257800"/>
            <a:ext cx="14479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8"/>
          <p:cNvSpPr/>
          <p:nvPr/>
        </p:nvSpPr>
        <p:spPr>
          <a:xfrm>
            <a:off x="6553080" y="5257800"/>
            <a:ext cx="9907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3581280" y="5257800"/>
            <a:ext cx="7621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0"/>
          <p:cNvSpPr/>
          <p:nvPr/>
        </p:nvSpPr>
        <p:spPr>
          <a:xfrm>
            <a:off x="1143000" y="5257800"/>
            <a:ext cx="129528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304920" y="5257800"/>
            <a:ext cx="761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2"/>
          <p:cNvSpPr/>
          <p:nvPr/>
        </p:nvSpPr>
        <p:spPr>
          <a:xfrm flipH="1">
            <a:off x="792432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 flipH="1">
            <a:off x="794556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2819520" y="5257800"/>
            <a:ext cx="38412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320040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6"/>
          <p:cNvSpPr/>
          <p:nvPr/>
        </p:nvSpPr>
        <p:spPr>
          <a:xfrm>
            <a:off x="434340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617220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754380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9"/>
          <p:cNvSpPr/>
          <p:nvPr/>
        </p:nvSpPr>
        <p:spPr>
          <a:xfrm>
            <a:off x="1676520" y="5943600"/>
            <a:ext cx="1752480" cy="115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0"/>
          <p:cNvSpPr/>
          <p:nvPr/>
        </p:nvSpPr>
        <p:spPr>
          <a:xfrm>
            <a:off x="3657600" y="601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4876920" y="5943600"/>
            <a:ext cx="236196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 opti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st Due Date Rule (EDD-rul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the jobs starting at the smalle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 At each decision poi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by a release time or a finishing time of some job, schedule a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following propertie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its predecessors are scheduled, and it has  the smallest modified due date.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000640" y="327672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4.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 constructed by EDD rule is optimal for proble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362320" y="3429000"/>
            <a:ext cx="60948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343400" y="3429000"/>
            <a:ext cx="175248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477120" y="3429000"/>
            <a:ext cx="99036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066680" y="342900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28600" y="342900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7848720" y="3429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78688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2971800" y="3429000"/>
            <a:ext cx="4572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429000" y="3429000"/>
            <a:ext cx="83808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172200" y="3429000"/>
            <a:ext cx="29196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7467480" y="3429000"/>
            <a:ext cx="98748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2362320" y="2666880"/>
            <a:ext cx="99036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1066680" y="266688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228600" y="2666880"/>
            <a:ext cx="685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 flipH="1">
            <a:off x="2743200" y="2666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3352320" y="31240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2211480" y="380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524520" y="1447920"/>
            <a:ext cx="60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both schedule coincide until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17040" y="2057400"/>
            <a:ext cx="41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successors of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565200" y="4479840"/>
            <a:ext cx="127188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5"/>
          <p:cNvSpPr/>
          <p:nvPr/>
        </p:nvSpPr>
        <p:spPr>
          <a:xfrm>
            <a:off x="6324480" y="3962520"/>
            <a:ext cx="129564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7"/>
          <p:cNvSpPr/>
          <p:nvPr/>
        </p:nvSpPr>
        <p:spPr>
          <a:xfrm>
            <a:off x="3276720" y="3962520"/>
            <a:ext cx="4572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8"/>
          <p:cNvSpPr/>
          <p:nvPr/>
        </p:nvSpPr>
        <p:spPr>
          <a:xfrm>
            <a:off x="2666880" y="3962520"/>
            <a:ext cx="4572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9"/>
          <p:cNvSpPr/>
          <p:nvPr/>
        </p:nvSpPr>
        <p:spPr>
          <a:xfrm>
            <a:off x="4038480" y="3962520"/>
            <a:ext cx="4572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0"/>
          <p:cNvSpPr/>
          <p:nvPr/>
        </p:nvSpPr>
        <p:spPr>
          <a:xfrm>
            <a:off x="594360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1"/>
          <p:cNvSpPr/>
          <p:nvPr/>
        </p:nvSpPr>
        <p:spPr>
          <a:xfrm flipH="1" flipV="1">
            <a:off x="2514600" y="3199680"/>
            <a:ext cx="5029200" cy="15228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2441520" y="4495680"/>
            <a:ext cx="1550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D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1906920" y="4495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4"/>
          <p:cNvSpPr/>
          <p:nvPr/>
        </p:nvSpPr>
        <p:spPr>
          <a:xfrm>
            <a:off x="472428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5"/>
          <p:cNvSpPr/>
          <p:nvPr/>
        </p:nvSpPr>
        <p:spPr>
          <a:xfrm>
            <a:off x="6035760" y="4495680"/>
            <a:ext cx="1861920" cy="66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2438280" y="5257800"/>
            <a:ext cx="61272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5181480" y="5257800"/>
            <a:ext cx="19051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143000" y="5257800"/>
            <a:ext cx="129528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1"/>
          <p:cNvSpPr/>
          <p:nvPr/>
        </p:nvSpPr>
        <p:spPr>
          <a:xfrm>
            <a:off x="304920" y="5257800"/>
            <a:ext cx="761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2"/>
          <p:cNvSpPr/>
          <p:nvPr/>
        </p:nvSpPr>
        <p:spPr>
          <a:xfrm flipH="1">
            <a:off x="845784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3"/>
          <p:cNvSpPr/>
          <p:nvPr/>
        </p:nvSpPr>
        <p:spPr>
          <a:xfrm flipH="1">
            <a:off x="8458200" y="571500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4"/>
          <p:cNvSpPr/>
          <p:nvPr/>
        </p:nvSpPr>
        <p:spPr>
          <a:xfrm>
            <a:off x="3048120" y="5257800"/>
            <a:ext cx="61272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5"/>
          <p:cNvSpPr/>
          <p:nvPr/>
        </p:nvSpPr>
        <p:spPr>
          <a:xfrm>
            <a:off x="3657600" y="5257800"/>
            <a:ext cx="4572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6"/>
          <p:cNvSpPr/>
          <p:nvPr/>
        </p:nvSpPr>
        <p:spPr>
          <a:xfrm>
            <a:off x="4114800" y="5257800"/>
            <a:ext cx="2286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7"/>
          <p:cNvSpPr/>
          <p:nvPr/>
        </p:nvSpPr>
        <p:spPr>
          <a:xfrm>
            <a:off x="739152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8"/>
          <p:cNvSpPr/>
          <p:nvPr/>
        </p:nvSpPr>
        <p:spPr>
          <a:xfrm>
            <a:off x="7772400" y="5257800"/>
            <a:ext cx="29196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1676520" y="5943600"/>
            <a:ext cx="1752480" cy="115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0"/>
          <p:cNvSpPr/>
          <p:nvPr/>
        </p:nvSpPr>
        <p:spPr>
          <a:xfrm>
            <a:off x="3657600" y="601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1"/>
          <p:cNvSpPr/>
          <p:nvPr/>
        </p:nvSpPr>
        <p:spPr>
          <a:xfrm>
            <a:off x="4876920" y="5943600"/>
            <a:ext cx="236196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 opti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2"/>
          <p:cNvSpPr/>
          <p:nvPr/>
        </p:nvSpPr>
        <p:spPr>
          <a:xfrm>
            <a:off x="8077320" y="5257800"/>
            <a:ext cx="3744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3"/>
          <p:cNvSpPr/>
          <p:nvPr/>
        </p:nvSpPr>
        <p:spPr>
          <a:xfrm>
            <a:off x="4572000" y="5257800"/>
            <a:ext cx="6127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4"/>
          <p:cNvSpPr/>
          <p:nvPr/>
        </p:nvSpPr>
        <p:spPr>
          <a:xfrm>
            <a:off x="8001000" y="3429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-Tai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609480" y="2000160"/>
                <a:ext cx="7620120" cy="37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values  are  nonpositive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can  be  written  in  the form  </m:t>
                        </m:r>
                      </m:e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where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for all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called the  </m:t>
                        </m:r>
                        <m:r>
                          <m:rPr>
                            <m:lit/>
                            <m:nor/>
                          </m:rPr>
                          <m:t xml:space="preserve">tail  </m:t>
                        </m:r>
                        <m:r>
                          <m:rPr>
                            <m:lit/>
                            <m:nor/>
                          </m:rPr>
                          <m:t xml:space="preserve">of job 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is the finishing time, including post processing time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all jobs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called the  </m:t>
                        </m:r>
                        <m:r>
                          <m:rPr>
                            <m:lit/>
                            <m:nor/>
                          </m:rPr>
                          <m:t xml:space="preserve">head  </m:t>
                        </m:r>
                        <m:r>
                          <m:rPr>
                            <m:lit/>
                            <m:nor/>
                          </m:rPr>
                          <m:t xml:space="preserve">of job 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</m:t>
                        </m:r>
                        <m:r>
                          <m:rPr>
                            <m:lit/>
                            <m:nor/>
                          </m:rPr>
                          <m:t xml:space="preserve">head-tail  problem  </m:t>
                        </m:r>
                        <m:r>
                          <m:rPr>
                            <m:lit/>
                            <m:nor/>
                          </m:rPr>
                          <m:t xml:space="preserve">involves finding a schedule which is feasib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respect to the heads and minimizes 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Tail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Corollary 4.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emptive schedule for the one machine head-tail problem with precedence constraints can be construc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using the following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time given by a hea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a finishing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ome job, schedule a precedence feasible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has a largest 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tep is to modify the due dates in such a way that they are compatible with the precedence rela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ly, we assume that all modified due dates are nonnegative. So 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modified du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 optimal schedule can be calculat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ide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obs are processed in [0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This implies that no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ate, even if it is processed as the last job. Beca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se jobs have no influence o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rt the jobs we may use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cket s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i.e. we construct th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828800" y="4902120"/>
                <a:ext cx="563868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if 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k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≥</m:t>
                                  </m:r>
                                  <m:r>
                                    <m:t xml:space="preserve">n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if  </m:t>
                              </m:r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o schedule jobs with arbitrary processing times on a single machine so that a weighted sum of completion times is minimized. The processing time are assumed to be positive. Precedence constraints are given by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rst assume that the tree is an outtree (i.e. each node in the tree has at most one predecess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presenting an algorithm for outtrees, we will prove some basic properties of optimal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1143000" y="3124080"/>
                <a:ext cx="6629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/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7"/>
          <p:cNvSpPr/>
          <p:nvPr/>
        </p:nvSpPr>
        <p:spPr>
          <a:xfrm>
            <a:off x="228600" y="1390680"/>
            <a:ext cx="86868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set of (not necessarily immediate) successor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 a set of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61160" y="4038480"/>
            <a:ext cx="836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ubse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uccesso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e versa. The parallel sets must be disj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ase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we simply wri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ximum Lateness and Related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of Optimal Schedul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Lemma 4.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n optimal sequence 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wo blocks (sets of jobs to be processed consequently) of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cheduled bef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e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sequence  we get from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wapp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he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lso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4.6 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483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276720" y="2743200"/>
            <a:ext cx="13716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25909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9051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6858000" y="2743200"/>
            <a:ext cx="83808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6172200" y="2743200"/>
            <a:ext cx="68580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334120" y="2743200"/>
            <a:ext cx="83808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219320" y="2743200"/>
            <a:ext cx="6858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7696080" y="2743200"/>
            <a:ext cx="6858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229680" y="26668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70102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5638680" y="3962520"/>
            <a:ext cx="13716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3"/>
          <p:cNvSpPr/>
          <p:nvPr/>
        </p:nvSpPr>
        <p:spPr>
          <a:xfrm>
            <a:off x="49528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4"/>
          <p:cNvSpPr/>
          <p:nvPr/>
        </p:nvSpPr>
        <p:spPr>
          <a:xfrm>
            <a:off x="42670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5"/>
          <p:cNvSpPr/>
          <p:nvPr/>
        </p:nvSpPr>
        <p:spPr>
          <a:xfrm>
            <a:off x="3429000" y="3962520"/>
            <a:ext cx="83808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2743200" y="3962520"/>
            <a:ext cx="68580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1905120" y="3962520"/>
            <a:ext cx="83808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1219320" y="3962520"/>
            <a:ext cx="68580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7696080" y="3962520"/>
            <a:ext cx="68580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>
            <a:off x="229320" y="388620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839520" y="1295280"/>
            <a:ext cx="13255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3"/>
          <p:cNvSpPr/>
          <p:nvPr/>
        </p:nvSpPr>
        <p:spPr>
          <a:xfrm>
            <a:off x="839520" y="1905120"/>
            <a:ext cx="1363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4"/>
          <p:cNvSpPr/>
          <p:nvPr/>
        </p:nvSpPr>
        <p:spPr>
          <a:xfrm flipV="1">
            <a:off x="5334120" y="3200040"/>
            <a:ext cx="0" cy="15228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5"/>
          <p:cNvSpPr/>
          <p:nvPr/>
        </p:nvSpPr>
        <p:spPr>
          <a:xfrm>
            <a:off x="1905120" y="3352680"/>
            <a:ext cx="342900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7"/>
          <p:cNvSpPr/>
          <p:nvPr/>
        </p:nvSpPr>
        <p:spPr>
          <a:xfrm flipV="1">
            <a:off x="1905120" y="3200040"/>
            <a:ext cx="0" cy="15228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8"/>
          <p:cNvSpPr/>
          <p:nvPr/>
        </p:nvSpPr>
        <p:spPr>
          <a:xfrm>
            <a:off x="3201120" y="32767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9"/>
          <p:cNvSpPr/>
          <p:nvPr/>
        </p:nvSpPr>
        <p:spPr>
          <a:xfrm flipV="1">
            <a:off x="5334120" y="2590560"/>
            <a:ext cx="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0"/>
          <p:cNvSpPr/>
          <p:nvPr/>
        </p:nvSpPr>
        <p:spPr>
          <a:xfrm flipV="1">
            <a:off x="7696080" y="2590560"/>
            <a:ext cx="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1"/>
          <p:cNvSpPr/>
          <p:nvPr/>
        </p:nvSpPr>
        <p:spPr>
          <a:xfrm>
            <a:off x="5334120" y="2590920"/>
            <a:ext cx="23619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2"/>
          <p:cNvSpPr/>
          <p:nvPr/>
        </p:nvSpPr>
        <p:spPr>
          <a:xfrm>
            <a:off x="6172920" y="2133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4"/>
          <p:cNvSpPr/>
          <p:nvPr/>
        </p:nvSpPr>
        <p:spPr>
          <a:xfrm>
            <a:off x="4648320" y="3657600"/>
            <a:ext cx="23619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5"/>
          <p:cNvSpPr/>
          <p:nvPr/>
        </p:nvSpPr>
        <p:spPr>
          <a:xfrm>
            <a:off x="4648320" y="3200400"/>
            <a:ext cx="0" cy="4572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6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5639400" y="32004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4276800" y="1447920"/>
            <a:ext cx="187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9"/>
          <p:cNvSpPr/>
          <p:nvPr/>
        </p:nvSpPr>
        <p:spPr>
          <a:xfrm>
            <a:off x="456120" y="4648320"/>
            <a:ext cx="21070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0"/>
          <p:cNvSpPr/>
          <p:nvPr/>
        </p:nvSpPr>
        <p:spPr>
          <a:xfrm>
            <a:off x="2743200" y="4800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1"/>
          <p:cNvSpPr/>
          <p:nvPr/>
        </p:nvSpPr>
        <p:spPr>
          <a:xfrm>
            <a:off x="3581280" y="4716360"/>
            <a:ext cx="198144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π’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2"/>
          <p:cNvSpPr/>
          <p:nvPr/>
        </p:nvSpPr>
        <p:spPr>
          <a:xfrm>
            <a:off x="457200" y="5486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3"/>
          <p:cNvSpPr/>
          <p:nvPr/>
        </p:nvSpPr>
        <p:spPr>
          <a:xfrm>
            <a:off x="457200" y="6172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1295280" y="5334120"/>
            <a:ext cx="6248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5"/>
          <p:cNvSpPr/>
          <p:nvPr/>
        </p:nvSpPr>
        <p:spPr>
          <a:xfrm>
            <a:off x="1523880" y="6019920"/>
            <a:ext cx="57913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7"/>
          <p:cNvSpPr/>
          <p:nvPr/>
        </p:nvSpPr>
        <p:spPr>
          <a:xfrm>
            <a:off x="2667240" y="1523880"/>
            <a:ext cx="9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4.6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6483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3276720" y="2743200"/>
            <a:ext cx="13716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25909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9051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858000" y="2743200"/>
            <a:ext cx="83808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6172200" y="2743200"/>
            <a:ext cx="68580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5334120" y="2743200"/>
            <a:ext cx="83808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1219320" y="2743200"/>
            <a:ext cx="6858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7696080" y="2743200"/>
            <a:ext cx="6858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0"/>
          <p:cNvSpPr/>
          <p:nvPr/>
        </p:nvSpPr>
        <p:spPr>
          <a:xfrm>
            <a:off x="229680" y="26668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1"/>
          <p:cNvSpPr/>
          <p:nvPr/>
        </p:nvSpPr>
        <p:spPr>
          <a:xfrm>
            <a:off x="70102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5638680" y="3962520"/>
            <a:ext cx="13716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3"/>
          <p:cNvSpPr/>
          <p:nvPr/>
        </p:nvSpPr>
        <p:spPr>
          <a:xfrm>
            <a:off x="49528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4"/>
          <p:cNvSpPr/>
          <p:nvPr/>
        </p:nvSpPr>
        <p:spPr>
          <a:xfrm>
            <a:off x="42670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3429000" y="3962520"/>
            <a:ext cx="83808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7"/>
          <p:cNvSpPr/>
          <p:nvPr/>
        </p:nvSpPr>
        <p:spPr>
          <a:xfrm>
            <a:off x="2743200" y="3962520"/>
            <a:ext cx="68580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1905120" y="3962520"/>
            <a:ext cx="83808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9"/>
          <p:cNvSpPr/>
          <p:nvPr/>
        </p:nvSpPr>
        <p:spPr>
          <a:xfrm>
            <a:off x="1219320" y="3962520"/>
            <a:ext cx="68580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0"/>
          <p:cNvSpPr/>
          <p:nvPr/>
        </p:nvSpPr>
        <p:spPr>
          <a:xfrm>
            <a:off x="7696080" y="3962520"/>
            <a:ext cx="68580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29320" y="388620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2"/>
          <p:cNvSpPr/>
          <p:nvPr/>
        </p:nvSpPr>
        <p:spPr>
          <a:xfrm>
            <a:off x="839520" y="1295280"/>
            <a:ext cx="13255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3"/>
          <p:cNvSpPr/>
          <p:nvPr/>
        </p:nvSpPr>
        <p:spPr>
          <a:xfrm>
            <a:off x="839520" y="1905120"/>
            <a:ext cx="1363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4"/>
          <p:cNvSpPr/>
          <p:nvPr/>
        </p:nvSpPr>
        <p:spPr>
          <a:xfrm flipV="1">
            <a:off x="5334120" y="3200040"/>
            <a:ext cx="0" cy="15228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5"/>
          <p:cNvSpPr/>
          <p:nvPr/>
        </p:nvSpPr>
        <p:spPr>
          <a:xfrm>
            <a:off x="1905120" y="3352680"/>
            <a:ext cx="342900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7"/>
          <p:cNvSpPr/>
          <p:nvPr/>
        </p:nvSpPr>
        <p:spPr>
          <a:xfrm flipV="1">
            <a:off x="1905120" y="3200040"/>
            <a:ext cx="0" cy="15228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3201120" y="32767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V="1">
            <a:off x="5334120" y="2590560"/>
            <a:ext cx="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 flipV="1">
            <a:off x="7696080" y="2590560"/>
            <a:ext cx="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1"/>
          <p:cNvSpPr/>
          <p:nvPr/>
        </p:nvSpPr>
        <p:spPr>
          <a:xfrm>
            <a:off x="5334120" y="2590920"/>
            <a:ext cx="23619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6172920" y="2133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4"/>
          <p:cNvSpPr/>
          <p:nvPr/>
        </p:nvSpPr>
        <p:spPr>
          <a:xfrm>
            <a:off x="4648320" y="3657600"/>
            <a:ext cx="23619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5"/>
          <p:cNvSpPr/>
          <p:nvPr/>
        </p:nvSpPr>
        <p:spPr>
          <a:xfrm>
            <a:off x="4648320" y="3200400"/>
            <a:ext cx="0" cy="4572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6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7"/>
          <p:cNvSpPr/>
          <p:nvPr/>
        </p:nvSpPr>
        <p:spPr>
          <a:xfrm>
            <a:off x="5639400" y="32004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8"/>
          <p:cNvSpPr/>
          <p:nvPr/>
        </p:nvSpPr>
        <p:spPr>
          <a:xfrm>
            <a:off x="4276800" y="1447920"/>
            <a:ext cx="187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2"/>
          <p:cNvSpPr/>
          <p:nvPr/>
        </p:nvSpPr>
        <p:spPr>
          <a:xfrm>
            <a:off x="4038480" y="4876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3"/>
          <p:cNvSpPr/>
          <p:nvPr/>
        </p:nvSpPr>
        <p:spPr>
          <a:xfrm>
            <a:off x="5105520" y="5486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1295280" y="5334120"/>
            <a:ext cx="35053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1447920" y="4648320"/>
            <a:ext cx="2133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7"/>
          <p:cNvSpPr/>
          <p:nvPr/>
        </p:nvSpPr>
        <p:spPr>
          <a:xfrm>
            <a:off x="2667240" y="1523880"/>
            <a:ext cx="9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4"/>
          <p:cNvSpPr/>
          <p:nvPr/>
        </p:nvSpPr>
        <p:spPr>
          <a:xfrm>
            <a:off x="6019920" y="5334120"/>
            <a:ext cx="2133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of Optimal Schedul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Theorem 4.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be jobs with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max{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. Then there exists an optimal schedule in which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processed immediately befo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chedule can be represented by a sequence. Le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n optimal sequence with the property that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jobs scheduled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inimal.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we have the following si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495680" y="51814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029200" y="5181480"/>
            <a:ext cx="382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3124080" y="5181480"/>
            <a:ext cx="1373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2362320" y="51814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9"/>
          <p:cNvSpPr/>
          <p:nvPr/>
        </p:nvSpPr>
        <p:spPr>
          <a:xfrm flipH="1">
            <a:off x="159984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0"/>
          <p:cNvSpPr/>
          <p:nvPr/>
        </p:nvSpPr>
        <p:spPr>
          <a:xfrm flipH="1">
            <a:off x="159984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1"/>
          <p:cNvSpPr/>
          <p:nvPr/>
        </p:nvSpPr>
        <p:spPr>
          <a:xfrm flipH="1">
            <a:off x="540972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"/>
          <p:cNvSpPr/>
          <p:nvPr/>
        </p:nvSpPr>
        <p:spPr>
          <a:xfrm flipH="1">
            <a:off x="540972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936000" y="5840280"/>
            <a:ext cx="6400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max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}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7086600" y="190512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7620120" y="1905120"/>
            <a:ext cx="3823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5715000" y="1905120"/>
            <a:ext cx="1373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4952880" y="1905120"/>
            <a:ext cx="763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 flipH="1">
            <a:off x="41911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 flipH="1">
            <a:off x="4191120" y="2286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0"/>
          <p:cNvSpPr/>
          <p:nvPr/>
        </p:nvSpPr>
        <p:spPr>
          <a:xfrm flipH="1">
            <a:off x="800064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 flipH="1">
            <a:off x="800064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685800" y="4724280"/>
            <a:ext cx="1219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533520" y="5410080"/>
            <a:ext cx="1447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"/>
          <p:cNvSpPr/>
          <p:nvPr/>
        </p:nvSpPr>
        <p:spPr>
          <a:xfrm>
            <a:off x="25146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3734280" y="5029200"/>
            <a:ext cx="89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380880" y="3657600"/>
            <a:ext cx="2133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 4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9"/>
          <p:cNvSpPr/>
          <p:nvPr/>
        </p:nvSpPr>
        <p:spPr>
          <a:xfrm>
            <a:off x="2666880" y="365760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0"/>
          <p:cNvSpPr/>
          <p:nvPr/>
        </p:nvSpPr>
        <p:spPr>
          <a:xfrm>
            <a:off x="4724280" y="1295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1"/>
          <p:cNvSpPr/>
          <p:nvPr/>
        </p:nvSpPr>
        <p:spPr>
          <a:xfrm>
            <a:off x="3530520" y="3581280"/>
            <a:ext cx="1953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4"/>
          <p:cNvSpPr/>
          <p:nvPr/>
        </p:nvSpPr>
        <p:spPr>
          <a:xfrm>
            <a:off x="469800" y="2666880"/>
            <a:ext cx="3790800" cy="6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5892840" y="2666880"/>
            <a:ext cx="1953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6"/>
          <p:cNvSpPr/>
          <p:nvPr/>
        </p:nvSpPr>
        <p:spPr>
          <a:xfrm>
            <a:off x="4648320" y="2743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7"/>
          <p:cNvSpPr/>
          <p:nvPr/>
        </p:nvSpPr>
        <p:spPr>
          <a:xfrm>
            <a:off x="3962520" y="4267080"/>
            <a:ext cx="485640" cy="609840"/>
          </a:xfrm>
          <a:prstGeom prst="upArrow">
            <a:avLst>
              <a:gd name="adj1" fmla="val 50000"/>
              <a:gd name="adj2" fmla="val 31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8"/>
          <p:cNvSpPr/>
          <p:nvPr/>
        </p:nvSpPr>
        <p:spPr>
          <a:xfrm>
            <a:off x="5562720" y="36576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9"/>
          <p:cNvSpPr/>
          <p:nvPr/>
        </p:nvSpPr>
        <p:spPr>
          <a:xfrm>
            <a:off x="6705720" y="335268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6094800" y="3665520"/>
            <a:ext cx="1861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7543800" y="58672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7162920" y="5867280"/>
            <a:ext cx="3823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791320" y="5867280"/>
            <a:ext cx="13730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029200" y="58672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5"/>
          <p:cNvSpPr/>
          <p:nvPr/>
        </p:nvSpPr>
        <p:spPr>
          <a:xfrm flipH="1">
            <a:off x="426672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6"/>
          <p:cNvSpPr/>
          <p:nvPr/>
        </p:nvSpPr>
        <p:spPr>
          <a:xfrm flipH="1">
            <a:off x="4266720" y="6248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7"/>
          <p:cNvSpPr/>
          <p:nvPr/>
        </p:nvSpPr>
        <p:spPr>
          <a:xfrm flipH="1">
            <a:off x="80773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8"/>
          <p:cNvSpPr/>
          <p:nvPr/>
        </p:nvSpPr>
        <p:spPr>
          <a:xfrm flipH="1">
            <a:off x="8077320" y="6248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9"/>
          <p:cNvSpPr/>
          <p:nvPr/>
        </p:nvSpPr>
        <p:spPr>
          <a:xfrm>
            <a:off x="510552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40"/>
          <p:cNvSpPr/>
          <p:nvPr/>
        </p:nvSpPr>
        <p:spPr>
          <a:xfrm>
            <a:off x="6781680" y="441972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41"/>
          <p:cNvSpPr/>
          <p:nvPr/>
        </p:nvSpPr>
        <p:spPr>
          <a:xfrm>
            <a:off x="2514600" y="4038480"/>
            <a:ext cx="3048120" cy="1143000"/>
          </a:xfrm>
          <a:prstGeom prst="line">
            <a:avLst/>
          </a:prstGeom>
          <a:ln w="47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5029200" y="19810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5562720" y="1981080"/>
            <a:ext cx="3823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1905120" y="19810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1143000" y="19810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7"/>
          <p:cNvSpPr/>
          <p:nvPr/>
        </p:nvSpPr>
        <p:spPr>
          <a:xfrm flipH="1">
            <a:off x="380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 flipH="1">
            <a:off x="38052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 flipH="1">
            <a:off x="594324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0"/>
          <p:cNvSpPr/>
          <p:nvPr/>
        </p:nvSpPr>
        <p:spPr>
          <a:xfrm flipH="1">
            <a:off x="594324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914400" y="1371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2819520" y="1981080"/>
            <a:ext cx="5349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3352680" y="1981080"/>
            <a:ext cx="16765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4457880" y="1295280"/>
            <a:ext cx="4425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686520" y="2584440"/>
            <a:ext cx="62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atest job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| h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380880" y="3200400"/>
            <a:ext cx="1219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304920" y="3886200"/>
            <a:ext cx="1447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1828800" y="3581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3048120" y="3429000"/>
            <a:ext cx="4038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2819520" y="4267080"/>
            <a:ext cx="4495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7391520" y="3657600"/>
            <a:ext cx="733320" cy="985680"/>
          </a:xfrm>
          <a:custGeom>
            <a:avLst/>
            <a:gdLst>
              <a:gd name="textAreaLeft" fmla="*/ 98280 w 733320"/>
              <a:gd name="textAreaRight" fmla="*/ 635040 w 73332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4495680" y="49528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3683160" y="5715000"/>
            <a:ext cx="2043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5029200" y="19810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5562720" y="1981080"/>
            <a:ext cx="3823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1905120" y="19810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1143000" y="19810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380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 flipH="1">
            <a:off x="38052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0"/>
          <p:cNvSpPr/>
          <p:nvPr/>
        </p:nvSpPr>
        <p:spPr>
          <a:xfrm flipH="1">
            <a:off x="594324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 flipH="1">
            <a:off x="594324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914400" y="1371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2819520" y="1981080"/>
            <a:ext cx="5349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3352680" y="1981080"/>
            <a:ext cx="16765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457880" y="1295280"/>
            <a:ext cx="4425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7"/>
          <p:cNvSpPr/>
          <p:nvPr/>
        </p:nvSpPr>
        <p:spPr>
          <a:xfrm>
            <a:off x="686520" y="2584440"/>
            <a:ext cx="62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atest job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| h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>
            <a:off x="152280" y="3200400"/>
            <a:ext cx="15242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>
            <a:off x="152280" y="3886200"/>
            <a:ext cx="14479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0"/>
          <p:cNvSpPr/>
          <p:nvPr/>
        </p:nvSpPr>
        <p:spPr>
          <a:xfrm>
            <a:off x="1676520" y="3581280"/>
            <a:ext cx="45720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5"/>
          <p:cNvSpPr/>
          <p:nvPr/>
        </p:nvSpPr>
        <p:spPr>
          <a:xfrm>
            <a:off x="5841360" y="3429000"/>
            <a:ext cx="3249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6"/>
          <p:cNvSpPr/>
          <p:nvPr/>
        </p:nvSpPr>
        <p:spPr>
          <a:xfrm>
            <a:off x="2209680" y="3429000"/>
            <a:ext cx="3048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7"/>
          <p:cNvSpPr/>
          <p:nvPr/>
        </p:nvSpPr>
        <p:spPr>
          <a:xfrm>
            <a:off x="5410080" y="35053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8"/>
          <p:cNvSpPr/>
          <p:nvPr/>
        </p:nvSpPr>
        <p:spPr>
          <a:xfrm>
            <a:off x="165600" y="4572000"/>
            <a:ext cx="3586320" cy="6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9"/>
          <p:cNvSpPr/>
          <p:nvPr/>
        </p:nvSpPr>
        <p:spPr>
          <a:xfrm>
            <a:off x="4368600" y="4572000"/>
            <a:ext cx="1975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0"/>
          <p:cNvSpPr/>
          <p:nvPr/>
        </p:nvSpPr>
        <p:spPr>
          <a:xfrm>
            <a:off x="3886200" y="46483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1"/>
          <p:cNvSpPr/>
          <p:nvPr/>
        </p:nvSpPr>
        <p:spPr>
          <a:xfrm>
            <a:off x="533520" y="5334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2"/>
          <p:cNvSpPr/>
          <p:nvPr/>
        </p:nvSpPr>
        <p:spPr>
          <a:xfrm>
            <a:off x="5410080" y="60958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3"/>
          <p:cNvSpPr/>
          <p:nvPr/>
        </p:nvSpPr>
        <p:spPr>
          <a:xfrm>
            <a:off x="3352680" y="6095880"/>
            <a:ext cx="382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4"/>
          <p:cNvSpPr/>
          <p:nvPr/>
        </p:nvSpPr>
        <p:spPr>
          <a:xfrm>
            <a:off x="1905120" y="60958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5"/>
          <p:cNvSpPr/>
          <p:nvPr/>
        </p:nvSpPr>
        <p:spPr>
          <a:xfrm>
            <a:off x="1143000" y="60958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6"/>
          <p:cNvSpPr/>
          <p:nvPr/>
        </p:nvSpPr>
        <p:spPr>
          <a:xfrm flipH="1">
            <a:off x="3805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7"/>
          <p:cNvSpPr/>
          <p:nvPr/>
        </p:nvSpPr>
        <p:spPr>
          <a:xfrm flipH="1">
            <a:off x="38052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8"/>
          <p:cNvSpPr/>
          <p:nvPr/>
        </p:nvSpPr>
        <p:spPr>
          <a:xfrm flipH="1">
            <a:off x="594324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9"/>
          <p:cNvSpPr/>
          <p:nvPr/>
        </p:nvSpPr>
        <p:spPr>
          <a:xfrm flipH="1">
            <a:off x="594324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0"/>
          <p:cNvSpPr/>
          <p:nvPr/>
        </p:nvSpPr>
        <p:spPr>
          <a:xfrm>
            <a:off x="2819520" y="6095880"/>
            <a:ext cx="5349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1"/>
          <p:cNvSpPr/>
          <p:nvPr/>
        </p:nvSpPr>
        <p:spPr>
          <a:xfrm>
            <a:off x="3733920" y="6095880"/>
            <a:ext cx="16761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2"/>
          <p:cNvSpPr/>
          <p:nvPr/>
        </p:nvSpPr>
        <p:spPr>
          <a:xfrm>
            <a:off x="6856920" y="4572000"/>
            <a:ext cx="19515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3"/>
          <p:cNvSpPr/>
          <p:nvPr/>
        </p:nvSpPr>
        <p:spPr>
          <a:xfrm>
            <a:off x="6324480" y="46483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4"/>
          <p:cNvSpPr/>
          <p:nvPr/>
        </p:nvSpPr>
        <p:spPr>
          <a:xfrm>
            <a:off x="7543800" y="411480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7"/>
          <p:cNvSpPr/>
          <p:nvPr/>
        </p:nvSpPr>
        <p:spPr>
          <a:xfrm flipH="1">
            <a:off x="4038480" y="5181480"/>
            <a:ext cx="3810240" cy="5335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8"/>
          <p:cNvSpPr/>
          <p:nvPr/>
        </p:nvSpPr>
        <p:spPr>
          <a:xfrm>
            <a:off x="5776200" y="5375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+ Lemma 4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of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ditions of Theorem 4.7 are satisfied if we choose a job different from the root with maximal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alue, along with its unique fa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ince the exist an optimal schedule in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cessed immediately b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merge nod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ake all so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itional so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new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represents the subsequenc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ll have the lab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Note that for a s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s new far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presented by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identified by looking for the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onta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rging process will be apply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general step, each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s a set of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rresponding sequenc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first job in this sequence. We select a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fferent from the root with maxim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value.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unique fath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original outtree. Then we have to find a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current 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We mer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l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  <a:ea typeface="MS Mincho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ncatenation of the sequence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 solvable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jobs in order of nondecreasing due 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jobs in order of nondecreasing release 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ny time schedule an available job with the smallest due d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prove the correctness of all these rules by using interchange arg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4.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rging Procedure can be implemented in polynomial time and calculate an optimal sequence of the 1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oof optimality by induction on the number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ly the procedure is correct if we have only one job. 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problem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.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first jobs merged by the algorithm. 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resulting problem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jobs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plac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8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et of sequence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...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),...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et of sequence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...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),...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by Theorem 4.7 s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n optimal schedule. For the corresponding objective function valu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=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nclude tha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ptim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pt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tre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a 1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redu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success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uccess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sequenc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easi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nd only 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1 is feasi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tre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762120" y="1911240"/>
                <a:ext cx="7467480" cy="379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'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does  not  depend  on  the  sequence 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  a  sequence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 for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is  optimal  if  and  only  if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 reverse  sequence  </m:t>
                        </m:r>
                        <m:r>
                          <m:t xml:space="preserve">π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is  optimal  for  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 ratio ru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t the jobs in order of nondecr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applies 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Home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To prove that Smith</a:t>
            </a:r>
            <a:r>
              <a:rPr b="0" lang="ja-JP" sz="3200" spc="-1" strike="noStrike">
                <a:solidFill>
                  <a:srgbClr val="cc0099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s ratio rule leads to optimal sequence by using interchange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 rule (SPT-rule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t the jobs in order of nondecr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ing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ified Smith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 ru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each release time or finishing time of a job, schedule an unfinished job which is available and has the smallest remaining processing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4.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constructed by modified Smit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le is optimal for proble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2362320" y="2057400"/>
            <a:ext cx="60948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6629400" y="2057400"/>
            <a:ext cx="9907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1066680" y="205740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228600" y="205740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4267080" y="2057400"/>
            <a:ext cx="4572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2971800" y="2057400"/>
            <a:ext cx="83808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2"/>
          <p:cNvSpPr/>
          <p:nvPr/>
        </p:nvSpPr>
        <p:spPr>
          <a:xfrm>
            <a:off x="5257800" y="2057400"/>
            <a:ext cx="762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3"/>
          <p:cNvSpPr/>
          <p:nvPr/>
        </p:nvSpPr>
        <p:spPr>
          <a:xfrm>
            <a:off x="7620120" y="2057400"/>
            <a:ext cx="53028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4"/>
          <p:cNvSpPr/>
          <p:nvPr/>
        </p:nvSpPr>
        <p:spPr>
          <a:xfrm>
            <a:off x="2362320" y="2819520"/>
            <a:ext cx="99036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066680" y="2819520"/>
            <a:ext cx="129564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228600" y="2819520"/>
            <a:ext cx="685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7"/>
          <p:cNvSpPr/>
          <p:nvPr/>
        </p:nvSpPr>
        <p:spPr>
          <a:xfrm flipH="1">
            <a:off x="2743200" y="2819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8"/>
          <p:cNvSpPr/>
          <p:nvPr/>
        </p:nvSpPr>
        <p:spPr>
          <a:xfrm flipH="1">
            <a:off x="3352320" y="32767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9"/>
          <p:cNvSpPr/>
          <p:nvPr/>
        </p:nvSpPr>
        <p:spPr>
          <a:xfrm>
            <a:off x="2211480" y="3200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0"/>
          <p:cNvSpPr/>
          <p:nvPr/>
        </p:nvSpPr>
        <p:spPr>
          <a:xfrm>
            <a:off x="524520" y="1447920"/>
            <a:ext cx="60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both schedule coincide until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6"/>
          <p:cNvSpPr/>
          <p:nvPr/>
        </p:nvSpPr>
        <p:spPr>
          <a:xfrm>
            <a:off x="152280" y="464832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3148200" y="320040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3809880" y="2057400"/>
            <a:ext cx="4572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4724280" y="2057400"/>
            <a:ext cx="53352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6019920" y="2057400"/>
            <a:ext cx="60948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5"/>
          <p:cNvSpPr/>
          <p:nvPr/>
        </p:nvSpPr>
        <p:spPr>
          <a:xfrm>
            <a:off x="6629400" y="3809880"/>
            <a:ext cx="9907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6"/>
          <p:cNvSpPr/>
          <p:nvPr/>
        </p:nvSpPr>
        <p:spPr>
          <a:xfrm>
            <a:off x="1066680" y="380988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7"/>
          <p:cNvSpPr/>
          <p:nvPr/>
        </p:nvSpPr>
        <p:spPr>
          <a:xfrm>
            <a:off x="4267080" y="3809880"/>
            <a:ext cx="4572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8"/>
          <p:cNvSpPr/>
          <p:nvPr/>
        </p:nvSpPr>
        <p:spPr>
          <a:xfrm>
            <a:off x="2971800" y="3809880"/>
            <a:ext cx="83808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9"/>
          <p:cNvSpPr/>
          <p:nvPr/>
        </p:nvSpPr>
        <p:spPr>
          <a:xfrm>
            <a:off x="5257800" y="3809880"/>
            <a:ext cx="74916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4"/>
          <p:cNvSpPr/>
          <p:nvPr/>
        </p:nvSpPr>
        <p:spPr>
          <a:xfrm>
            <a:off x="7620120" y="4648320"/>
            <a:ext cx="533160" cy="47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5"/>
          <p:cNvSpPr/>
          <p:nvPr/>
        </p:nvSpPr>
        <p:spPr>
          <a:xfrm>
            <a:off x="6629400" y="4648320"/>
            <a:ext cx="990720" cy="47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6"/>
          <p:cNvSpPr/>
          <p:nvPr/>
        </p:nvSpPr>
        <p:spPr>
          <a:xfrm>
            <a:off x="1066680" y="4648320"/>
            <a:ext cx="129564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7"/>
          <p:cNvSpPr/>
          <p:nvPr/>
        </p:nvSpPr>
        <p:spPr>
          <a:xfrm>
            <a:off x="4267080" y="4648320"/>
            <a:ext cx="457200" cy="47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8"/>
          <p:cNvSpPr/>
          <p:nvPr/>
        </p:nvSpPr>
        <p:spPr>
          <a:xfrm>
            <a:off x="2971800" y="4648320"/>
            <a:ext cx="838080" cy="47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9"/>
          <p:cNvSpPr/>
          <p:nvPr/>
        </p:nvSpPr>
        <p:spPr>
          <a:xfrm>
            <a:off x="5257800" y="4648320"/>
            <a:ext cx="838080" cy="47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0"/>
          <p:cNvSpPr/>
          <p:nvPr/>
        </p:nvSpPr>
        <p:spPr>
          <a:xfrm>
            <a:off x="3809880" y="4648320"/>
            <a:ext cx="3780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1"/>
          <p:cNvSpPr/>
          <p:nvPr/>
        </p:nvSpPr>
        <p:spPr>
          <a:xfrm>
            <a:off x="2362320" y="4648320"/>
            <a:ext cx="60948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2"/>
          <p:cNvSpPr/>
          <p:nvPr/>
        </p:nvSpPr>
        <p:spPr>
          <a:xfrm>
            <a:off x="4724280" y="4648320"/>
            <a:ext cx="533520" cy="47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3"/>
          <p:cNvSpPr/>
          <p:nvPr/>
        </p:nvSpPr>
        <p:spPr>
          <a:xfrm>
            <a:off x="6019920" y="4648320"/>
            <a:ext cx="609480" cy="47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4"/>
          <p:cNvSpPr/>
          <p:nvPr/>
        </p:nvSpPr>
        <p:spPr>
          <a:xfrm>
            <a:off x="4191120" y="4648320"/>
            <a:ext cx="75960" cy="47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5"/>
          <p:cNvSpPr/>
          <p:nvPr/>
        </p:nvSpPr>
        <p:spPr>
          <a:xfrm>
            <a:off x="609480" y="545472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u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remaining processing tim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maller than the remaining processing tim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pt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denc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results may be extended to the corresponding problems with precedence relations between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o modify the release dates before applying the corresponding ru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ases require a similar modification to the due 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itive integer numb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there a sub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proble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at the problem 1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rd by reducing the partition problem to it.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n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ven an instance of the partition problem, construct an instance of jobs with release dates such that if there is a partition no job is late, if there is no partition, at least one job is lat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5791320" y="2590920"/>
                <a:ext cx="1692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5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914400" y="2819520"/>
          <a:ext cx="7315200" cy="2239920"/>
        </p:xfrm>
        <a:graphic>
          <a:graphicData uri="http://schemas.openxmlformats.org/drawingml/2006/table">
            <a:tbl>
              <a:tblPr/>
              <a:tblGrid>
                <a:gridCol w="915840"/>
                <a:gridCol w="912960"/>
                <a:gridCol w="914400"/>
                <a:gridCol w="914400"/>
                <a:gridCol w="914400"/>
                <a:gridCol w="914400"/>
                <a:gridCol w="912960"/>
                <a:gridCol w="915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5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914400" y="2819520"/>
          <a:ext cx="7315200" cy="2239920"/>
        </p:xfrm>
        <a:graphic>
          <a:graphicData uri="http://schemas.openxmlformats.org/drawingml/2006/table">
            <a:tbl>
              <a:tblPr/>
              <a:tblGrid>
                <a:gridCol w="915840"/>
                <a:gridCol w="912960"/>
                <a:gridCol w="914400"/>
                <a:gridCol w="914400"/>
                <a:gridCol w="914400"/>
                <a:gridCol w="914400"/>
                <a:gridCol w="912960"/>
                <a:gridCol w="915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Oval 42"/>
          <p:cNvSpPr/>
          <p:nvPr/>
        </p:nvSpPr>
        <p:spPr>
          <a:xfrm>
            <a:off x="5029200" y="64008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43"/>
          <p:cNvSpPr/>
          <p:nvPr/>
        </p:nvSpPr>
        <p:spPr>
          <a:xfrm>
            <a:off x="3581280" y="5791320"/>
            <a:ext cx="320760" cy="320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44"/>
          <p:cNvSpPr/>
          <p:nvPr/>
        </p:nvSpPr>
        <p:spPr>
          <a:xfrm>
            <a:off x="4572000" y="52578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45"/>
          <p:cNvSpPr/>
          <p:nvPr/>
        </p:nvSpPr>
        <p:spPr>
          <a:xfrm>
            <a:off x="5486400" y="57150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6"/>
          <p:cNvSpPr/>
          <p:nvPr/>
        </p:nvSpPr>
        <p:spPr>
          <a:xfrm>
            <a:off x="2895480" y="64008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47"/>
          <p:cNvSpPr/>
          <p:nvPr/>
        </p:nvSpPr>
        <p:spPr>
          <a:xfrm>
            <a:off x="4191120" y="6400800"/>
            <a:ext cx="32040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6172200" y="64008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49"/>
          <p:cNvCxnSpPr>
            <a:stCxn id="538" idx="5"/>
            <a:endCxn id="539" idx="2"/>
          </p:cNvCxnSpPr>
          <p:nvPr/>
        </p:nvCxnSpPr>
        <p:spPr>
          <a:xfrm>
            <a:off x="4844880" y="5530320"/>
            <a:ext cx="642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AutoShape 50"/>
          <p:cNvCxnSpPr>
            <a:stCxn id="538" idx="3"/>
            <a:endCxn id="537" idx="6"/>
          </p:cNvCxnSpPr>
          <p:nvPr/>
        </p:nvCxnSpPr>
        <p:spPr>
          <a:xfrm flipH="1">
            <a:off x="3901680" y="5530320"/>
            <a:ext cx="71784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AutoShape 51"/>
          <p:cNvCxnSpPr>
            <a:stCxn id="537" idx="3"/>
            <a:endCxn id="540" idx="7"/>
          </p:cNvCxnSpPr>
          <p:nvPr/>
        </p:nvCxnSpPr>
        <p:spPr>
          <a:xfrm flipH="1">
            <a:off x="3168000" y="6063840"/>
            <a:ext cx="46116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AutoShape 52"/>
          <p:cNvCxnSpPr>
            <a:stCxn id="537" idx="5"/>
            <a:endCxn id="541" idx="1"/>
          </p:cNvCxnSpPr>
          <p:nvPr/>
        </p:nvCxnSpPr>
        <p:spPr>
          <a:xfrm>
            <a:off x="3854160" y="6063840"/>
            <a:ext cx="38484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AutoShape 53"/>
          <p:cNvCxnSpPr>
            <a:stCxn id="539" idx="5"/>
            <a:endCxn id="542" idx="1"/>
          </p:cNvCxnSpPr>
          <p:nvPr/>
        </p:nvCxnSpPr>
        <p:spPr>
          <a:xfrm>
            <a:off x="5758920" y="5987520"/>
            <a:ext cx="4611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AutoShape 54"/>
          <p:cNvCxnSpPr>
            <a:stCxn id="539" idx="3"/>
            <a:endCxn id="536" idx="7"/>
          </p:cNvCxnSpPr>
          <p:nvPr/>
        </p:nvCxnSpPr>
        <p:spPr>
          <a:xfrm flipH="1">
            <a:off x="5301720" y="5987520"/>
            <a:ext cx="2325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xity of the algorithm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  This can be seen as follows. If we exclude the recursive calls in Step 7, the number of steps for the Procedure Decompos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S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Thus, for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computational steps we have the recurs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re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jobs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block and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 of Release 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440" y="1676520"/>
            <a:ext cx="332964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j  &amp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362320" y="487692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063160" y="5181480"/>
            <a:ext cx="3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825280" y="5181480"/>
            <a:ext cx="3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366440" y="5181480"/>
            <a:ext cx="97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143000" y="5334120"/>
            <a:ext cx="7010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155080" y="5334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971800" y="441972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054840" y="1676520"/>
            <a:ext cx="21060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4724280" y="1752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648320" y="487692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067040" y="2743200"/>
            <a:ext cx="1188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4876920" y="4419720"/>
            <a:ext cx="5349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495400" y="5181480"/>
            <a:ext cx="41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003920" y="2819520"/>
            <a:ext cx="274608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019920" y="4876920"/>
            <a:ext cx="5349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228600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297180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4624560" y="527364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563868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 of Due 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00440" y="1676520"/>
            <a:ext cx="33966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j  &amp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320040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797080" y="358128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365720" y="3581280"/>
            <a:ext cx="98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143000" y="3657600"/>
            <a:ext cx="7010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8155080" y="3657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054480" y="1676520"/>
            <a:ext cx="202644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4724280" y="1752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648320" y="3200400"/>
            <a:ext cx="19810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482880" y="358128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6019920" y="359712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4624560" y="359712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629400" y="35812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3809880" y="281952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3200400" y="5638680"/>
            <a:ext cx="2286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44440" y="601992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213440" y="6019920"/>
            <a:ext cx="98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990720" y="6095880"/>
            <a:ext cx="7010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8002800" y="6095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5486400" y="5638680"/>
            <a:ext cx="19810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330240" y="601992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5867280" y="60357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5"/>
          <p:cNvSpPr/>
          <p:nvPr/>
        </p:nvSpPr>
        <p:spPr>
          <a:xfrm>
            <a:off x="4471920" y="60357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6"/>
          <p:cNvSpPr/>
          <p:nvPr/>
        </p:nvSpPr>
        <p:spPr>
          <a:xfrm>
            <a:off x="646272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 flipV="1">
            <a:off x="5486400" y="5486040"/>
            <a:ext cx="0" cy="1522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>
            <a:off x="4495680" y="5486400"/>
            <a:ext cx="9907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4495680" y="5486400"/>
            <a:ext cx="0" cy="6094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 flipV="1">
            <a:off x="7467480" y="5486040"/>
            <a:ext cx="0" cy="1522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6477120" y="5486400"/>
            <a:ext cx="9903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6477120" y="5486400"/>
            <a:ext cx="0" cy="6094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4664880" y="487692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6635880" y="4876920"/>
            <a:ext cx="45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1241280" y="4419720"/>
            <a:ext cx="1208160" cy="57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we can prove by exchange arguments that after modifying release times and due dates the above scheduling rules provide optimal schedules. We will give a proof only for problem 1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her proofs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4.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chedule constructed by the Hor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 rule with modified due dates is opt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ny time schedule an available job with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due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i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is not possible to schedule jobs early without violating the constra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uch an active schedule, each job starts at a release time or at a finishing time of som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ists an optimal schedule which is a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n optimal active schedu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which coincid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long a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schedu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ed by Hor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r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07:22:39Z</dcterms:created>
  <dc:creator>Kononov</dc:creator>
  <dc:description/>
  <dc:language>en-US</dc:language>
  <cp:lastModifiedBy>Alexander Kononov</cp:lastModifiedBy>
  <dcterms:modified xsi:type="dcterms:W3CDTF">2016-03-14T04:08:38Z</dcterms:modified>
  <cp:revision>70</cp:revision>
  <dc:subject/>
  <dc:title>Single Machine Scheduling Problem</dc:title>
</cp:coreProperties>
</file>