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14D-52BD-4D3B-A383-71B3E774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FF3-9888-44B8-868A-83BCDA96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FFF-6E4F-4E1F-A811-17BDE42C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76C-99AD-4C9A-AE60-C9B274E7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336-260D-4AA9-807A-BD51213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90A-8E1D-4762-B4BD-3D2FEBC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606-29C2-473C-BA20-99188C3A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1E2-2D85-4300-A6E7-311D099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828-3983-41F8-AA81-9571F9C3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4DB-FED3-49FE-8647-477075B1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0FA-CE67-4F59-A70A-342C5E1D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554-2224-4404-923B-21F55DE2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12B4-FE9C-42F3-9452-6DEF6597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Machine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|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..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ordered sequence of all different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. Consider the inter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ength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Flow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762120" y="2742840"/>
            <a:ext cx="1218960" cy="1219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 flipV="1">
            <a:off x="990720" y="4114440"/>
            <a:ext cx="99036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6019920" y="4343040"/>
            <a:ext cx="144756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6019920" y="2743200"/>
            <a:ext cx="13716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304920" y="39625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1981080" y="38098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981080" y="2286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1981080" y="54100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5410080" y="2209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5410080" y="53341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7315200" y="37339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5334120" y="38862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590920" y="4191120"/>
            <a:ext cx="2743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838080" y="4572000"/>
            <a:ext cx="121932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6019920" y="4114440"/>
            <a:ext cx="129528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076760" y="28195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1301040" y="365760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1535760" y="472428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3366360" y="3581280"/>
            <a:ext cx="53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6109920" y="35812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564280" y="4343400"/>
            <a:ext cx="260424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6579000" y="5029200"/>
            <a:ext cx="96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259320" y="2514600"/>
            <a:ext cx="7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Flow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"/>
          <p:cNvSpPr/>
          <p:nvPr/>
        </p:nvSpPr>
        <p:spPr>
          <a:xfrm flipV="1">
            <a:off x="1066680" y="1980720"/>
            <a:ext cx="83844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V="1">
            <a:off x="1219320" y="2971800"/>
            <a:ext cx="76176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V="1">
            <a:off x="4572000" y="3124080"/>
            <a:ext cx="11430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572000" y="1981080"/>
            <a:ext cx="106668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762120" y="2819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1981080" y="2819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1828800" y="1600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1981080" y="3962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4191120" y="1600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4191120" y="39625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63868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419112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2438280" y="2971800"/>
            <a:ext cx="17528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1143000" y="3200400"/>
            <a:ext cx="91440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4648320" y="297180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148040" y="20574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451520" y="2590920"/>
            <a:ext cx="34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1682280" y="327672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130920" y="2514600"/>
            <a:ext cx="43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4654440" y="2590920"/>
            <a:ext cx="633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4964760" y="3505320"/>
            <a:ext cx="74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5034240" y="205740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2855520" y="3048120"/>
            <a:ext cx="114840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685800" y="609588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8"/>
          <p:cNvSpPr/>
          <p:nvPr/>
        </p:nvSpPr>
        <p:spPr>
          <a:xfrm>
            <a:off x="5562720" y="6019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26668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0"/>
          <p:cNvSpPr/>
          <p:nvPr/>
        </p:nvSpPr>
        <p:spPr>
          <a:xfrm>
            <a:off x="2372040" y="6019920"/>
            <a:ext cx="38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5586840" y="6019920"/>
            <a:ext cx="5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3048120" y="3505320"/>
            <a:ext cx="228600" cy="182880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3"/>
          <p:cNvSpPr/>
          <p:nvPr/>
        </p:nvSpPr>
        <p:spPr>
          <a:xfrm>
            <a:off x="2819520" y="5486400"/>
            <a:ext cx="17524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4"/>
          <p:cNvSpPr/>
          <p:nvPr/>
        </p:nvSpPr>
        <p:spPr>
          <a:xfrm rot="16200000">
            <a:off x="4038480" y="4876200"/>
            <a:ext cx="228600" cy="2819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5"/>
          <p:cNvSpPr/>
          <p:nvPr/>
        </p:nvSpPr>
        <p:spPr>
          <a:xfrm>
            <a:off x="3820320" y="624852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6"/>
          <p:cNvSpPr/>
          <p:nvPr/>
        </p:nvSpPr>
        <p:spPr>
          <a:xfrm rot="5400000">
            <a:off x="3581280" y="449568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3468240" y="4765680"/>
            <a:ext cx="49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"/>
              <p:cNvSpPr txBox="1"/>
              <p:nvPr/>
            </p:nvSpPr>
            <p:spPr>
              <a:xfrm>
                <a:off x="609480" y="4548240"/>
                <a:ext cx="10051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5402160" y="4419720"/>
                <a:ext cx="1303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|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apply binary search on diffe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.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which imp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yields an algorithm which approximates the value of the solution with absolute err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t the m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log(1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log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)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be proces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allel uniform mach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chines have different spee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requir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units. If we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h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llel identical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, we suppose that 1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|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more, we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only have to consid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st machines. A necessary conditions for processing all jobs in the interval [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be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ower bound on the length of a schedule for the job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ower bound fo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2362320" y="3378240"/>
                <a:ext cx="40384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will construct a schedule which achieves this b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rresponding algorithm is called the level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partial schedule up to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or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rocessed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ev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exists jobs with positive lev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(t);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At time t, the algorithm calls a procedur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Assign(t)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which assign jobs to machin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min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job complete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min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job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};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The machines run with this assignment until some time s &gt; t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(A new assignment is done at time s, and the process is repeated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the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0}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all job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achin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e unassign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unassigned jobs and machin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the s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jobs with the highest level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min{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,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}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job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processed jointly                          o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 machin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stest machine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ore generally,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only nonpreemptive problems with arbitrary processing times known to be polynomially solvable. Problem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ard. For these reason, we essentially discuss problems in which preemption is poss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1523880" y="47131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523880" y="4941720"/>
            <a:ext cx="9144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419720" y="4952880"/>
            <a:ext cx="76176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181480" y="4952880"/>
            <a:ext cx="129564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523880" y="539892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438280" y="4952880"/>
            <a:ext cx="198144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1523880" y="5856120"/>
            <a:ext cx="18288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352680" y="5867280"/>
            <a:ext cx="106704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1523880" y="638964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94080" y="49417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694080" y="53989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694080" y="5856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8307360" y="6237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122076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1523880" y="63133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7848720" y="63133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1447920" y="469116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8307360" y="4255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1523880" y="1066320"/>
            <a:ext cx="0" cy="3646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1447920" y="14922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5"/>
          <p:cNvSpPr/>
          <p:nvPr/>
        </p:nvSpPr>
        <p:spPr>
          <a:xfrm>
            <a:off x="1447920" y="3321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1447920" y="37782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1447920" y="42354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1447920" y="19494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2357280" y="4724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1523880" y="1523880"/>
            <a:ext cx="838440" cy="9144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1523880" y="1981080"/>
            <a:ext cx="838440" cy="4572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3271680" y="4724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>
            <a:off x="1523880" y="3809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1523880" y="3352680"/>
            <a:ext cx="1752840" cy="4572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5"/>
          <p:cNvSpPr/>
          <p:nvPr/>
        </p:nvSpPr>
        <p:spPr>
          <a:xfrm>
            <a:off x="4368960" y="47242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3276720" y="3809880"/>
            <a:ext cx="1066680" cy="22860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2362320" y="2438280"/>
            <a:ext cx="1981080" cy="16002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8"/>
          <p:cNvSpPr/>
          <p:nvPr/>
        </p:nvSpPr>
        <p:spPr>
          <a:xfrm>
            <a:off x="5100480" y="4724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9"/>
          <p:cNvSpPr/>
          <p:nvPr/>
        </p:nvSpPr>
        <p:spPr>
          <a:xfrm>
            <a:off x="1523880" y="42670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0"/>
          <p:cNvSpPr/>
          <p:nvPr/>
        </p:nvSpPr>
        <p:spPr>
          <a:xfrm>
            <a:off x="4343400" y="4038480"/>
            <a:ext cx="762120" cy="22860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1"/>
          <p:cNvSpPr/>
          <p:nvPr/>
        </p:nvSpPr>
        <p:spPr>
          <a:xfrm>
            <a:off x="6407280" y="47242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5105520" y="4267080"/>
            <a:ext cx="1371600" cy="45720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465120" y="12193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465120" y="175248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465120" y="30481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465120" y="35053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465120" y="3962520"/>
            <a:ext cx="8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4514760" y="1752480"/>
            <a:ext cx="33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5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tly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c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jointly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 during some peri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process each job during perio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units on each of the machi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5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95480" y="4267080"/>
          <a:ext cx="4038840" cy="147816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760"/>
                <a:gridCol w="807840"/>
                <a:gridCol w="8082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Line 33"/>
          <p:cNvSpPr/>
          <p:nvPr/>
        </p:nvSpPr>
        <p:spPr>
          <a:xfrm>
            <a:off x="2895480" y="6019920"/>
            <a:ext cx="5715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4"/>
          <p:cNvSpPr/>
          <p:nvPr/>
        </p:nvSpPr>
        <p:spPr>
          <a:xfrm>
            <a:off x="60958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5"/>
          <p:cNvSpPr/>
          <p:nvPr/>
        </p:nvSpPr>
        <p:spPr>
          <a:xfrm>
            <a:off x="28954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6"/>
          <p:cNvSpPr/>
          <p:nvPr/>
        </p:nvSpPr>
        <p:spPr>
          <a:xfrm>
            <a:off x="365760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7"/>
          <p:cNvSpPr/>
          <p:nvPr/>
        </p:nvSpPr>
        <p:spPr>
          <a:xfrm>
            <a:off x="449568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8"/>
          <p:cNvSpPr/>
          <p:nvPr/>
        </p:nvSpPr>
        <p:spPr>
          <a:xfrm>
            <a:off x="525780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9"/>
          <p:cNvSpPr/>
          <p:nvPr/>
        </p:nvSpPr>
        <p:spPr>
          <a:xfrm>
            <a:off x="6934320" y="6019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846000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4"/>
          <p:cNvSpPr/>
          <p:nvPr/>
        </p:nvSpPr>
        <p:spPr>
          <a:xfrm>
            <a:off x="6859440" y="6019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2745000" y="601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3353760" y="6019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7"/>
          <p:cNvSpPr/>
          <p:nvPr/>
        </p:nvSpPr>
        <p:spPr>
          <a:xfrm>
            <a:off x="4192200" y="6019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4953960" y="6019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5792400" y="60199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0"/>
          <p:cNvSpPr/>
          <p:nvPr/>
        </p:nvSpPr>
        <p:spPr>
          <a:xfrm>
            <a:off x="214164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14164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2"/>
          <p:cNvSpPr/>
          <p:nvPr/>
        </p:nvSpPr>
        <p:spPr>
          <a:xfrm>
            <a:off x="2141640" y="52578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5.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ucts an optimal schedule for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|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at the beginning of the level algorithm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. This order does not change during the algorithm, i.e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that the algorithm always assigns jobs to machines in this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185840" y="4119480"/>
                <a:ext cx="67770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Text Box 7"/>
          <p:cNvSpPr/>
          <p:nvPr/>
        </p:nvSpPr>
        <p:spPr>
          <a:xfrm>
            <a:off x="152280" y="1447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chine is idle before all jobs are finished, say at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2286000" y="2895480"/>
                <a:ext cx="4038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AutoShape 10"/>
          <p:cNvSpPr/>
          <p:nvPr/>
        </p:nvSpPr>
        <p:spPr>
          <a:xfrm>
            <a:off x="3962520" y="2209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4038480" y="3581280"/>
            <a:ext cx="486000" cy="609840"/>
          </a:xfrm>
          <a:prstGeom prst="downArrow">
            <a:avLst>
              <a:gd name="adj1" fmla="val 50000"/>
              <a:gd name="adj2" fmla="val 31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chines are idle before the last job  finishes, then for the finishing tim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achin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, the level of the last job proces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some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 is sufficiently small, has a smaller level of the last job on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jobs with the highest level assign to the fastest machines (see procedure Assig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contradiction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t least one strict ine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...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jobs finishing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een started at time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s is not the case, then we hav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start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 and finishe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mplies that at time 0 at lea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bs, say jobs 1,...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started and processed together on all machines. We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, which implies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0 for all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us, until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achine is idle, which is a contradi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the jobs finishing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been started at time 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follow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076480" y="5257800"/>
                <a:ext cx="4660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vel algorithm call the procedure Assign(t) at the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utational effort for assigning jobs to machines after each call is bound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we get a total complex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cessary and Sufficient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seen that jobs 1,2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ocessing ti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scheduled on mach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spee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an interval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the following inequalities h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1981080" y="3962520"/>
                <a:ext cx="5486400" cy="17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T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for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T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if  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cessary and Sufficient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838080" y="1676520"/>
                <a:ext cx="6934320" cy="41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ue to the monotonicity of the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values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n arbitrary subset 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hav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|"/>
                                          <m:endChr m:val="|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if   </m:t>
                                  </m:r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  <m:r>
                                    <m:t xml:space="preserve">≤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 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jobs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with processing requirement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n be scheduled within an interval of length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if and only i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for all   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6"/>
          <p:cNvSpPr/>
          <p:nvPr/>
        </p:nvSpPr>
        <p:spPr>
          <a:xfrm>
            <a:off x="7529040" y="5807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ca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processing time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to be processed 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dentical parallel machine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| 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irst consider the problem of finding a schedule with the property that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rocessed in the time window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defined by release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deadl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such a schedu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sible with respect to the time window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econd step, we apply binary search to solve the general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dentical machines, we solve the feasibility problem by reducing it to a network flow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..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be the ordered sequence of all differ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s and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um Flow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"/>
          <p:cNvSpPr/>
          <p:nvPr/>
        </p:nvSpPr>
        <p:spPr>
          <a:xfrm flipV="1">
            <a:off x="762120" y="1980720"/>
            <a:ext cx="1218960" cy="1219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V="1">
            <a:off x="990720" y="3352680"/>
            <a:ext cx="990360" cy="152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V="1">
            <a:off x="6019920" y="3580920"/>
            <a:ext cx="144756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6019920" y="1981080"/>
            <a:ext cx="13716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304920" y="32004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1981080" y="30481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1981080" y="15238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98108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5410080" y="14479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54100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7315200" y="29718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5334120" y="31240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590920" y="3429000"/>
            <a:ext cx="2743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838080" y="3809880"/>
            <a:ext cx="121932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V="1">
            <a:off x="6019920" y="3352680"/>
            <a:ext cx="1295280" cy="152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1076760" y="20574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1301040" y="28954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1535760" y="396252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366360" y="2819520"/>
            <a:ext cx="53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6109920" y="281952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6579000" y="4267080"/>
            <a:ext cx="96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6259320" y="1752480"/>
            <a:ext cx="7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6"/>
          <p:cNvSpPr/>
          <p:nvPr/>
        </p:nvSpPr>
        <p:spPr>
          <a:xfrm>
            <a:off x="4952880" y="2666880"/>
            <a:ext cx="1143000" cy="1447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7"/>
          <p:cNvSpPr/>
          <p:nvPr/>
        </p:nvSpPr>
        <p:spPr>
          <a:xfrm>
            <a:off x="4572000" y="2971800"/>
            <a:ext cx="76212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8"/>
          <p:cNvSpPr/>
          <p:nvPr/>
        </p:nvSpPr>
        <p:spPr>
          <a:xfrm flipV="1">
            <a:off x="4572000" y="3580920"/>
            <a:ext cx="762120" cy="2286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858960" y="548640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an arbitrary interval node and denote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0000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t of predecessors of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ded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1523880" y="32767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74674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209680" y="36576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762120" y="1371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8"/>
          <p:cNvSpPr/>
          <p:nvPr/>
        </p:nvSpPr>
        <p:spPr>
          <a:xfrm>
            <a:off x="2743200" y="21337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219320" y="1676520"/>
            <a:ext cx="152388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 flipV="1">
            <a:off x="1143000" y="2438280"/>
            <a:ext cx="16002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689760" y="20556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3"/>
          <p:cNvSpPr/>
          <p:nvPr/>
        </p:nvSpPr>
        <p:spPr>
          <a:xfrm>
            <a:off x="1447920" y="58672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1451880" y="47224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4648320" y="59436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464832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4648320" y="3352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4652280" y="41130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4652280" y="53323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2209680" y="62485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2133720" y="3809880"/>
            <a:ext cx="243828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1981080" y="3962520"/>
            <a:ext cx="266724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 flipV="1">
            <a:off x="2209680" y="50288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 flipV="1">
            <a:off x="2133720" y="38858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>
            <a:off x="5410080" y="37339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>
            <a:off x="5410080" y="4952880"/>
            <a:ext cx="19814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5410080" y="51814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2832120" y="32767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29163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1249200" y="42670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2620800" y="61722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1536480" y="52578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2840400" y="56386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5506920" y="45720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6031800" y="36576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6049080" y="57913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8"/>
          <p:cNvSpPr/>
          <p:nvPr/>
        </p:nvSpPr>
        <p:spPr>
          <a:xfrm flipV="1">
            <a:off x="304920" y="3733920"/>
            <a:ext cx="121896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9"/>
          <p:cNvSpPr/>
          <p:nvPr/>
        </p:nvSpPr>
        <p:spPr>
          <a:xfrm>
            <a:off x="304920" y="5562720"/>
            <a:ext cx="106668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822960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1"/>
          <p:cNvSpPr/>
          <p:nvPr/>
        </p:nvSpPr>
        <p:spPr>
          <a:xfrm>
            <a:off x="228600" y="350532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2"/>
          <p:cNvSpPr/>
          <p:nvPr/>
        </p:nvSpPr>
        <p:spPr>
          <a:xfrm>
            <a:off x="380880" y="525780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3"/>
          <p:cNvSpPr/>
          <p:nvPr/>
        </p:nvSpPr>
        <p:spPr>
          <a:xfrm>
            <a:off x="8243280" y="4495680"/>
            <a:ext cx="69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3384000" y="1447920"/>
            <a:ext cx="55616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place the subnet-work defin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xpanded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76920" y="2514600"/>
                <a:ext cx="3028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an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5.8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llowing properties are equivalen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exists a feasible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expanded network there exist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ow from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val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248520" y="4038480"/>
                <a:ext cx="104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b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flow with value         in the expan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. Denote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flow which go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ufficient to show that for each sub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that the process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schedul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3938760" y="2651040"/>
                <a:ext cx="21031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5105520" y="1447920"/>
                <a:ext cx="779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4419720" y="3886200"/>
                <a:ext cx="25905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b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n the expanded network the subnetwork induc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corresponding partial flow. The portion of this flow goes through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bound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{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219320" y="3886200"/>
                <a:ext cx="6553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"/>
              <p:cNvSpPr txBox="1"/>
              <p:nvPr/>
            </p:nvSpPr>
            <p:spPr>
              <a:xfrm>
                <a:off x="2819520" y="5181480"/>
                <a:ext cx="349380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if  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otherwise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ded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"/>
          <p:cNvSpPr/>
          <p:nvPr/>
        </p:nvSpPr>
        <p:spPr>
          <a:xfrm>
            <a:off x="1523880" y="32767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74674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209680" y="36576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762120" y="13716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8"/>
          <p:cNvSpPr/>
          <p:nvPr/>
        </p:nvSpPr>
        <p:spPr>
          <a:xfrm>
            <a:off x="2743200" y="21337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1219320" y="1676520"/>
            <a:ext cx="152388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 flipV="1">
            <a:off x="1143000" y="2438280"/>
            <a:ext cx="16002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9760" y="20556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3"/>
          <p:cNvSpPr/>
          <p:nvPr/>
        </p:nvSpPr>
        <p:spPr>
          <a:xfrm>
            <a:off x="1447920" y="58672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1451880" y="47224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4648320" y="59436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6"/>
          <p:cNvSpPr/>
          <p:nvPr/>
        </p:nvSpPr>
        <p:spPr>
          <a:xfrm>
            <a:off x="464832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7"/>
          <p:cNvSpPr/>
          <p:nvPr/>
        </p:nvSpPr>
        <p:spPr>
          <a:xfrm>
            <a:off x="4648320" y="3352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4652280" y="41130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4652280" y="53323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2209680" y="62485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2133720" y="3809880"/>
            <a:ext cx="243828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2"/>
          <p:cNvSpPr/>
          <p:nvPr/>
        </p:nvSpPr>
        <p:spPr>
          <a:xfrm>
            <a:off x="1981080" y="3962520"/>
            <a:ext cx="266724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"/>
          <p:cNvSpPr/>
          <p:nvPr/>
        </p:nvSpPr>
        <p:spPr>
          <a:xfrm flipV="1">
            <a:off x="2209680" y="50288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4"/>
          <p:cNvSpPr/>
          <p:nvPr/>
        </p:nvSpPr>
        <p:spPr>
          <a:xfrm flipV="1">
            <a:off x="2133720" y="38858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5410080" y="37339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>
            <a:off x="5410080" y="4952880"/>
            <a:ext cx="19814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7"/>
          <p:cNvSpPr/>
          <p:nvPr/>
        </p:nvSpPr>
        <p:spPr>
          <a:xfrm flipV="1">
            <a:off x="5410080" y="51814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832120" y="32767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29163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1249200" y="42670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2620800" y="61722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1536480" y="52578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840400" y="56386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5506920" y="45720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6"/>
          <p:cNvSpPr/>
          <p:nvPr/>
        </p:nvSpPr>
        <p:spPr>
          <a:xfrm>
            <a:off x="6031800" y="36576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7"/>
          <p:cNvSpPr/>
          <p:nvPr/>
        </p:nvSpPr>
        <p:spPr>
          <a:xfrm>
            <a:off x="6049080" y="57913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8"/>
          <p:cNvSpPr/>
          <p:nvPr/>
        </p:nvSpPr>
        <p:spPr>
          <a:xfrm flipV="1">
            <a:off x="304920" y="3733920"/>
            <a:ext cx="121896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9"/>
          <p:cNvSpPr/>
          <p:nvPr/>
        </p:nvSpPr>
        <p:spPr>
          <a:xfrm>
            <a:off x="304920" y="5562720"/>
            <a:ext cx="106668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0"/>
          <p:cNvSpPr/>
          <p:nvPr/>
        </p:nvSpPr>
        <p:spPr>
          <a:xfrm>
            <a:off x="822960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228600" y="350532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80880" y="5257800"/>
            <a:ext cx="495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4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8243280" y="4495680"/>
            <a:ext cx="69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3384000" y="1447920"/>
            <a:ext cx="556164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place the subnet-work defin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expanded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2"/>
              <p:cNvSpPr txBox="1"/>
              <p:nvPr/>
            </p:nvSpPr>
            <p:spPr>
              <a:xfrm>
                <a:off x="4876920" y="2514600"/>
                <a:ext cx="3028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…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b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762120" y="1600200"/>
                <a:ext cx="45352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,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1817640" y="2895480"/>
                <a:ext cx="680256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Text Box 9"/>
          <p:cNvSpPr/>
          <p:nvPr/>
        </p:nvSpPr>
        <p:spPr>
          <a:xfrm>
            <a:off x="4320" y="3048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A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2"/>
              <p:cNvSpPr txBox="1"/>
              <p:nvPr/>
            </p:nvSpPr>
            <p:spPr>
              <a:xfrm>
                <a:off x="1752480" y="4495680"/>
                <a:ext cx="701676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…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Text Box 13"/>
          <p:cNvSpPr/>
          <p:nvPr/>
        </p:nvSpPr>
        <p:spPr>
          <a:xfrm>
            <a:off x="-39240" y="5334120"/>
            <a:ext cx="13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A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a feasible schedule exis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wor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performed on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v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cording to this feasible schedu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bitrar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the inequality                            ho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5138640" y="4495680"/>
                <a:ext cx="25686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 |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wer bound for this problem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meeting this bound can be constructed in linear time: fill the machines successively, scheduling the jobs in any order and splitting jobs into two parts whenever the above time bound is met. Schedule the second part of a preempted job on the next machine at zero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1371600" y="2286000"/>
                <a:ext cx="4038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/</m:t>
                        </m:r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3"/>
          <p:cNvSpPr/>
          <p:nvPr/>
        </p:nvSpPr>
        <p:spPr>
          <a:xfrm>
            <a:off x="1523880" y="32767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7467480" y="45720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2209680" y="36576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2"/>
          <p:cNvSpPr/>
          <p:nvPr/>
        </p:nvSpPr>
        <p:spPr>
          <a:xfrm>
            <a:off x="1447920" y="58672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451880" y="47224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4"/>
          <p:cNvSpPr/>
          <p:nvPr/>
        </p:nvSpPr>
        <p:spPr>
          <a:xfrm>
            <a:off x="4648320" y="59436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5"/>
          <p:cNvSpPr/>
          <p:nvPr/>
        </p:nvSpPr>
        <p:spPr>
          <a:xfrm>
            <a:off x="4648320" y="46483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6"/>
          <p:cNvSpPr/>
          <p:nvPr/>
        </p:nvSpPr>
        <p:spPr>
          <a:xfrm>
            <a:off x="4648320" y="33526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4652280" y="41130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652280" y="53323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2209680" y="62485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0"/>
          <p:cNvSpPr/>
          <p:nvPr/>
        </p:nvSpPr>
        <p:spPr>
          <a:xfrm>
            <a:off x="2133720" y="3809880"/>
            <a:ext cx="243828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1"/>
          <p:cNvSpPr/>
          <p:nvPr/>
        </p:nvSpPr>
        <p:spPr>
          <a:xfrm>
            <a:off x="1981080" y="3962520"/>
            <a:ext cx="266724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2"/>
          <p:cNvSpPr/>
          <p:nvPr/>
        </p:nvSpPr>
        <p:spPr>
          <a:xfrm flipV="1">
            <a:off x="2209680" y="50288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3"/>
          <p:cNvSpPr/>
          <p:nvPr/>
        </p:nvSpPr>
        <p:spPr>
          <a:xfrm flipV="1">
            <a:off x="2133720" y="38858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4"/>
          <p:cNvSpPr/>
          <p:nvPr/>
        </p:nvSpPr>
        <p:spPr>
          <a:xfrm>
            <a:off x="5410080" y="37339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10080" y="4952880"/>
            <a:ext cx="19814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V="1">
            <a:off x="5410080" y="51814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2832120" y="32767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29163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1249200" y="42670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2620800" y="61722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1536480" y="52578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2"/>
          <p:cNvSpPr/>
          <p:nvPr/>
        </p:nvSpPr>
        <p:spPr>
          <a:xfrm>
            <a:off x="2840400" y="56386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5506920" y="45720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4"/>
          <p:cNvSpPr/>
          <p:nvPr/>
        </p:nvSpPr>
        <p:spPr>
          <a:xfrm>
            <a:off x="6031800" y="36576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5"/>
          <p:cNvSpPr/>
          <p:nvPr/>
        </p:nvSpPr>
        <p:spPr>
          <a:xfrm>
            <a:off x="6049080" y="57913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6"/>
          <p:cNvSpPr/>
          <p:nvPr/>
        </p:nvSpPr>
        <p:spPr>
          <a:xfrm flipV="1">
            <a:off x="304920" y="3733920"/>
            <a:ext cx="121896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7"/>
          <p:cNvSpPr/>
          <p:nvPr/>
        </p:nvSpPr>
        <p:spPr>
          <a:xfrm>
            <a:off x="304920" y="5562720"/>
            <a:ext cx="106668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8"/>
          <p:cNvSpPr/>
          <p:nvPr/>
        </p:nvSpPr>
        <p:spPr>
          <a:xfrm>
            <a:off x="8229600" y="4876920"/>
            <a:ext cx="609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228600" y="35053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380880" y="525780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8243280" y="4495680"/>
            <a:ext cx="69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4"/>
              <p:cNvSpPr txBox="1"/>
              <p:nvPr/>
            </p:nvSpPr>
            <p:spPr>
              <a:xfrm>
                <a:off x="4648320" y="1828800"/>
                <a:ext cx="36874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45"/>
              <p:cNvSpPr txBox="1"/>
              <p:nvPr/>
            </p:nvSpPr>
            <p:spPr>
              <a:xfrm>
                <a:off x="609480" y="1676520"/>
                <a:ext cx="1676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6" name="Line 47"/>
          <p:cNvSpPr/>
          <p:nvPr/>
        </p:nvSpPr>
        <p:spPr>
          <a:xfrm flipH="1">
            <a:off x="838080" y="2666880"/>
            <a:ext cx="53352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8"/>
          <p:cNvSpPr/>
          <p:nvPr/>
        </p:nvSpPr>
        <p:spPr>
          <a:xfrm>
            <a:off x="7772400" y="2819520"/>
            <a:ext cx="685800" cy="1600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9"/>
          <p:cNvSpPr/>
          <p:nvPr/>
        </p:nvSpPr>
        <p:spPr>
          <a:xfrm>
            <a:off x="3278880" y="21337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0"/>
          <p:cNvSpPr/>
          <p:nvPr/>
        </p:nvSpPr>
        <p:spPr>
          <a:xfrm>
            <a:off x="236232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fficient condition for the existence 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flow is that for arbitr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           is bound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alue of a minimum cut in the partial network with sour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sin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6"/>
              <p:cNvSpPr txBox="1"/>
              <p:nvPr/>
            </p:nvSpPr>
            <p:spPr>
              <a:xfrm>
                <a:off x="4952880" y="2666880"/>
                <a:ext cx="1086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: (a)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1371600" y="14479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4"/>
          <p:cNvSpPr/>
          <p:nvPr/>
        </p:nvSpPr>
        <p:spPr>
          <a:xfrm>
            <a:off x="7315200" y="27432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2057400" y="182880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1295280" y="40384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299240" y="289368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4495680" y="411480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4495680" y="281952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4495680" y="1523880"/>
            <a:ext cx="639720" cy="63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4499640" y="228420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4499640" y="3503520"/>
            <a:ext cx="7898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2057400" y="4419720"/>
            <a:ext cx="23623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"/>
          <p:cNvSpPr/>
          <p:nvPr/>
        </p:nvSpPr>
        <p:spPr>
          <a:xfrm>
            <a:off x="1981080" y="1981080"/>
            <a:ext cx="243864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"/>
          <p:cNvSpPr/>
          <p:nvPr/>
        </p:nvSpPr>
        <p:spPr>
          <a:xfrm>
            <a:off x="1828800" y="2133720"/>
            <a:ext cx="266688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6"/>
          <p:cNvSpPr/>
          <p:nvPr/>
        </p:nvSpPr>
        <p:spPr>
          <a:xfrm flipV="1">
            <a:off x="2057400" y="3200040"/>
            <a:ext cx="236232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7"/>
          <p:cNvSpPr/>
          <p:nvPr/>
        </p:nvSpPr>
        <p:spPr>
          <a:xfrm flipV="1">
            <a:off x="1981080" y="2057040"/>
            <a:ext cx="2514600" cy="2057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8"/>
          <p:cNvSpPr/>
          <p:nvPr/>
        </p:nvSpPr>
        <p:spPr>
          <a:xfrm>
            <a:off x="5257800" y="1905120"/>
            <a:ext cx="205740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"/>
          <p:cNvSpPr/>
          <p:nvPr/>
        </p:nvSpPr>
        <p:spPr>
          <a:xfrm>
            <a:off x="5257800" y="3124080"/>
            <a:ext cx="19810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5257800" y="3352680"/>
            <a:ext cx="2057400" cy="1067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679480" y="144792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2764080" y="19810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1096560" y="243828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2468160" y="4343400"/>
            <a:ext cx="1356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1384200" y="342900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2687760" y="380988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5354640" y="2743200"/>
            <a:ext cx="127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5879520" y="1828800"/>
            <a:ext cx="120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5896800" y="3962520"/>
            <a:ext cx="155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44"/>
          <p:cNvSpPr/>
          <p:nvPr/>
        </p:nvSpPr>
        <p:spPr>
          <a:xfrm>
            <a:off x="4038480" y="2819520"/>
            <a:ext cx="152640" cy="685800"/>
          </a:xfrm>
          <a:custGeom>
            <a:avLst/>
            <a:gdLst/>
            <a:ahLst/>
            <a:rect l="l" t="t" r="r" b="b"/>
            <a:pathLst>
              <a:path w="96" h="624">
                <a:moveTo>
                  <a:pt x="0" y="0"/>
                </a:moveTo>
                <a:cubicBezTo>
                  <a:pt x="48" y="48"/>
                  <a:pt x="96" y="96"/>
                  <a:pt x="96" y="144"/>
                </a:cubicBezTo>
                <a:cubicBezTo>
                  <a:pt x="96" y="192"/>
                  <a:pt x="0" y="240"/>
                  <a:pt x="0" y="288"/>
                </a:cubicBezTo>
                <a:cubicBezTo>
                  <a:pt x="0" y="336"/>
                  <a:pt x="96" y="376"/>
                  <a:pt x="96" y="432"/>
                </a:cubicBezTo>
                <a:cubicBezTo>
                  <a:pt x="96" y="488"/>
                  <a:pt x="16" y="592"/>
                  <a:pt x="0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45"/>
          <p:cNvSpPr/>
          <p:nvPr/>
        </p:nvSpPr>
        <p:spPr>
          <a:xfrm>
            <a:off x="5562720" y="1752480"/>
            <a:ext cx="152280" cy="685800"/>
          </a:xfrm>
          <a:custGeom>
            <a:avLst/>
            <a:gdLst/>
            <a:ahLst/>
            <a:rect l="l" t="t" r="r" b="b"/>
            <a:pathLst>
              <a:path w="96" h="624">
                <a:moveTo>
                  <a:pt x="0" y="0"/>
                </a:moveTo>
                <a:cubicBezTo>
                  <a:pt x="48" y="48"/>
                  <a:pt x="96" y="96"/>
                  <a:pt x="96" y="144"/>
                </a:cubicBezTo>
                <a:cubicBezTo>
                  <a:pt x="96" y="192"/>
                  <a:pt x="0" y="240"/>
                  <a:pt x="0" y="288"/>
                </a:cubicBezTo>
                <a:cubicBezTo>
                  <a:pt x="0" y="336"/>
                  <a:pt x="96" y="376"/>
                  <a:pt x="96" y="432"/>
                </a:cubicBezTo>
                <a:cubicBezTo>
                  <a:pt x="96" y="488"/>
                  <a:pt x="16" y="592"/>
                  <a:pt x="0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46"/>
          <p:cNvSpPr/>
          <p:nvPr/>
        </p:nvSpPr>
        <p:spPr>
          <a:xfrm>
            <a:off x="5486400" y="3886200"/>
            <a:ext cx="152280" cy="685800"/>
          </a:xfrm>
          <a:custGeom>
            <a:avLst/>
            <a:gdLst/>
            <a:ahLst/>
            <a:rect l="l" t="t" r="r" b="b"/>
            <a:pathLst>
              <a:path w="96" h="624">
                <a:moveTo>
                  <a:pt x="0" y="0"/>
                </a:moveTo>
                <a:cubicBezTo>
                  <a:pt x="48" y="48"/>
                  <a:pt x="96" y="96"/>
                  <a:pt x="96" y="144"/>
                </a:cubicBezTo>
                <a:cubicBezTo>
                  <a:pt x="96" y="192"/>
                  <a:pt x="0" y="240"/>
                  <a:pt x="0" y="288"/>
                </a:cubicBezTo>
                <a:cubicBezTo>
                  <a:pt x="0" y="336"/>
                  <a:pt x="96" y="376"/>
                  <a:pt x="96" y="432"/>
                </a:cubicBezTo>
                <a:cubicBezTo>
                  <a:pt x="96" y="488"/>
                  <a:pt x="16" y="592"/>
                  <a:pt x="0" y="62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7"/>
              <p:cNvSpPr txBox="1"/>
              <p:nvPr/>
            </p:nvSpPr>
            <p:spPr>
              <a:xfrm>
                <a:off x="4876920" y="5181480"/>
                <a:ext cx="3429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AutoShape 49"/>
          <p:cNvSpPr/>
          <p:nvPr/>
        </p:nvSpPr>
        <p:spPr>
          <a:xfrm>
            <a:off x="762120" y="152388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137880" y="268596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53"/>
              <p:cNvSpPr txBox="1"/>
              <p:nvPr/>
            </p:nvSpPr>
            <p:spPr>
              <a:xfrm>
                <a:off x="1828800" y="5334120"/>
                <a:ext cx="25686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Text Box 54"/>
          <p:cNvSpPr/>
          <p:nvPr/>
        </p:nvSpPr>
        <p:spPr>
          <a:xfrm>
            <a:off x="4421520" y="5334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57"/>
              <p:cNvSpPr txBox="1"/>
              <p:nvPr/>
            </p:nvSpPr>
            <p:spPr>
              <a:xfrm>
                <a:off x="7696080" y="533520"/>
                <a:ext cx="1086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a maximal flow in the expanded network can be calcula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teps, a feasibility check can be done with the same complex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o binary 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yields an ε-approximation algorithm with complexity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log(1/ε)+log(ma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bec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ertainly bound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mulate the optimal policy and prove its optima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5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3880" y="4343400"/>
            <a:ext cx="3656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181480" y="4343400"/>
            <a:ext cx="27417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086520" y="4800600"/>
            <a:ext cx="1828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23880" y="480060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352680" y="4800600"/>
            <a:ext cx="27417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523880" y="5257800"/>
            <a:ext cx="27417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267080" y="5257800"/>
            <a:ext cx="365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523880" y="57913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9408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9408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694080" y="52578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8307360" y="5638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220760" y="574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8120" y="2057400"/>
          <a:ext cx="4800600" cy="12952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799920"/>
                <a:gridCol w="800280"/>
                <a:gridCol w="799920"/>
                <a:gridCol w="800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5"/>
          <p:cNvSpPr/>
          <p:nvPr/>
        </p:nvSpPr>
        <p:spPr>
          <a:xfrm>
            <a:off x="745920" y="2228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7088040" y="5867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7"/>
          <p:cNvSpPr/>
          <p:nvPr/>
        </p:nvSpPr>
        <p:spPr>
          <a:xfrm>
            <a:off x="1523880" y="5715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8"/>
          <p:cNvSpPr/>
          <p:nvPr/>
        </p:nvSpPr>
        <p:spPr>
          <a:xfrm>
            <a:off x="7848720" y="5715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5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143000" y="4343400"/>
            <a:ext cx="2879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019400" y="4343400"/>
            <a:ext cx="360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180120" y="4800600"/>
            <a:ext cx="1440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143000" y="4800600"/>
            <a:ext cx="2879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011480" y="4800600"/>
            <a:ext cx="216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143000" y="5257800"/>
            <a:ext cx="21607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292560" y="5257800"/>
            <a:ext cx="2879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1143000" y="5791320"/>
            <a:ext cx="7238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16056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6056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160560" y="52578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8307360" y="56386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54040" y="574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8120" y="2057400"/>
          <a:ext cx="4800600" cy="12952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  <a:gridCol w="799920"/>
                <a:gridCol w="800280"/>
                <a:gridCol w="799920"/>
                <a:gridCol w="800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45"/>
          <p:cNvSpPr/>
          <p:nvPr/>
        </p:nvSpPr>
        <p:spPr>
          <a:xfrm>
            <a:off x="745920" y="222876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7142760" y="5867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1079640" y="5715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7559640" y="5715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| 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80880" y="1447920"/>
            <a:ext cx="815364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release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due d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e have to find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emptive schedule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cal machines su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the maximum lateness is minim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57200" y="36576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rst consider the decision version of this problem: Given some threshold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the exist a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2514600" y="4648320"/>
                <a:ext cx="4191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9"/>
          <p:cNvSpPr/>
          <p:nvPr/>
        </p:nvSpPr>
        <p:spPr>
          <a:xfrm>
            <a:off x="668520" y="562932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we want to find such a schedule if it ex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1371600" y="1676520"/>
                <a:ext cx="6095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all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6"/>
          <p:cNvSpPr/>
          <p:nvPr/>
        </p:nvSpPr>
        <p:spPr>
          <a:xfrm>
            <a:off x="609480" y="2743200"/>
            <a:ext cx="78487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finish before the modified du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annot start before the release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processed in an interval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ssociat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e call these interval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wind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emptive Schedule with Time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we address the general problem of finding a preemptive schedule for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machines such that all jobs are processed within their time windows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This problem may be reduced to a maximum flow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5:41:35Z</dcterms:created>
  <dc:creator>Kononov</dc:creator>
  <dc:description/>
  <dc:language>en-US</dc:language>
  <cp:lastModifiedBy>Alexander Kononov</cp:lastModifiedBy>
  <dcterms:modified xsi:type="dcterms:W3CDTF">2016-04-06T09:20:50Z</dcterms:modified>
  <cp:revision>99</cp:revision>
  <dc:subject/>
  <dc:title>Parallel Machines</dc:title>
</cp:coreProperties>
</file>