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37CB-B64E-46D5-BBBA-0A1E75C8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259-9132-4D96-A335-FC7EAEAA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8FBE-022C-45D2-9542-5237B077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FA9-5960-4C03-ABE8-84ABC968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F9D-0249-49A0-972B-6A86103A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FB4-F09C-4850-AB51-D4E1C305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EA5-37D6-42EE-A6A1-2FFB9413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E8F5-DAB7-439F-806C-8146DDC2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E10-2695-4F4B-9442-AB7E02C2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DD96-031F-4F0B-832B-0021338F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E5E-E398-4B90-8042-1A841DB5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BBFD-05AE-4169-BF92-0ABCAA45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4F22-B0C3-4F6A-9BF8-A42DFD834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Machines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mtn|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mtn|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... 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ordered sequence of all different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s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s. Consider the interv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length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+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imum Flow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"/>
          <p:cNvSpPr/>
          <p:nvPr/>
        </p:nvSpPr>
        <p:spPr>
          <a:xfrm flipV="1">
            <a:off x="762120" y="2742840"/>
            <a:ext cx="1218960" cy="12193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 flipV="1">
            <a:off x="990720" y="4114440"/>
            <a:ext cx="990360" cy="152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 flipV="1">
            <a:off x="6019920" y="4343040"/>
            <a:ext cx="1447560" cy="1143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6019920" y="2743200"/>
            <a:ext cx="1371600" cy="1143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304920" y="39625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1981080" y="38098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1981080" y="22860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1"/>
          <p:cNvSpPr/>
          <p:nvPr/>
        </p:nvSpPr>
        <p:spPr>
          <a:xfrm>
            <a:off x="1981080" y="54100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5410080" y="22096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5410080" y="53341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4"/>
          <p:cNvSpPr/>
          <p:nvPr/>
        </p:nvSpPr>
        <p:spPr>
          <a:xfrm>
            <a:off x="7315200" y="37339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5334120" y="38862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>
            <a:off x="2590920" y="4191120"/>
            <a:ext cx="27432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>
            <a:off x="838080" y="4572000"/>
            <a:ext cx="1219320" cy="99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 flipV="1">
            <a:off x="6019920" y="4114440"/>
            <a:ext cx="1295280" cy="152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1076760" y="28195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1301040" y="3657600"/>
            <a:ext cx="41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1535760" y="472428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3366360" y="3581280"/>
            <a:ext cx="53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6109920" y="3581280"/>
            <a:ext cx="81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2564280" y="4343400"/>
            <a:ext cx="260424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6579000" y="5029200"/>
            <a:ext cx="96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6259320" y="2514600"/>
            <a:ext cx="7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imum Flow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"/>
          <p:cNvSpPr/>
          <p:nvPr/>
        </p:nvSpPr>
        <p:spPr>
          <a:xfrm flipV="1">
            <a:off x="1066680" y="1980720"/>
            <a:ext cx="838440" cy="838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 flipV="1">
            <a:off x="1219320" y="2971800"/>
            <a:ext cx="761760" cy="763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V="1">
            <a:off x="4572000" y="3124080"/>
            <a:ext cx="1143000" cy="914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572000" y="1981080"/>
            <a:ext cx="1066680" cy="838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762120" y="28195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1981080" y="28195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9"/>
          <p:cNvSpPr/>
          <p:nvPr/>
        </p:nvSpPr>
        <p:spPr>
          <a:xfrm>
            <a:off x="1828800" y="1600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1981080" y="39625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1"/>
          <p:cNvSpPr/>
          <p:nvPr/>
        </p:nvSpPr>
        <p:spPr>
          <a:xfrm>
            <a:off x="4191120" y="1600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2"/>
          <p:cNvSpPr/>
          <p:nvPr/>
        </p:nvSpPr>
        <p:spPr>
          <a:xfrm>
            <a:off x="4191120" y="39625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5638680" y="2743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4"/>
          <p:cNvSpPr/>
          <p:nvPr/>
        </p:nvSpPr>
        <p:spPr>
          <a:xfrm>
            <a:off x="4191120" y="2743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2438280" y="2971800"/>
            <a:ext cx="17528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>
            <a:off x="1143000" y="3200400"/>
            <a:ext cx="914400" cy="838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7"/>
          <p:cNvSpPr/>
          <p:nvPr/>
        </p:nvSpPr>
        <p:spPr>
          <a:xfrm>
            <a:off x="4648320" y="2971800"/>
            <a:ext cx="9903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1148040" y="20574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1451520" y="2590920"/>
            <a:ext cx="34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1682280" y="327672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130920" y="2514600"/>
            <a:ext cx="435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4654440" y="2590920"/>
            <a:ext cx="633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4964760" y="3505320"/>
            <a:ext cx="74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5034240" y="2057400"/>
            <a:ext cx="60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2855520" y="3048120"/>
            <a:ext cx="114840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685800" y="609588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8"/>
          <p:cNvSpPr/>
          <p:nvPr/>
        </p:nvSpPr>
        <p:spPr>
          <a:xfrm>
            <a:off x="5562720" y="60199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2666880" y="6019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0"/>
          <p:cNvSpPr/>
          <p:nvPr/>
        </p:nvSpPr>
        <p:spPr>
          <a:xfrm>
            <a:off x="2372040" y="6019920"/>
            <a:ext cx="38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1"/>
          <p:cNvSpPr/>
          <p:nvPr/>
        </p:nvSpPr>
        <p:spPr>
          <a:xfrm>
            <a:off x="5586840" y="6019920"/>
            <a:ext cx="5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3048120" y="3505320"/>
            <a:ext cx="228600" cy="182880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3"/>
          <p:cNvSpPr/>
          <p:nvPr/>
        </p:nvSpPr>
        <p:spPr>
          <a:xfrm>
            <a:off x="2819520" y="5486400"/>
            <a:ext cx="17524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4"/>
          <p:cNvSpPr/>
          <p:nvPr/>
        </p:nvSpPr>
        <p:spPr>
          <a:xfrm rot="16200000">
            <a:off x="4038480" y="4876200"/>
            <a:ext cx="228600" cy="2819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5"/>
          <p:cNvSpPr/>
          <p:nvPr/>
        </p:nvSpPr>
        <p:spPr>
          <a:xfrm>
            <a:off x="3820320" y="624852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6"/>
          <p:cNvSpPr/>
          <p:nvPr/>
        </p:nvSpPr>
        <p:spPr>
          <a:xfrm rot="5400000">
            <a:off x="3581280" y="449568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3468240" y="4765680"/>
            <a:ext cx="49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"/>
              <p:cNvSpPr txBox="1"/>
              <p:nvPr/>
            </p:nvSpPr>
            <p:spPr>
              <a:xfrm>
                <a:off x="609480" y="4548240"/>
                <a:ext cx="10051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5402160" y="4419720"/>
                <a:ext cx="13035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lve probl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|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apply binary search on differ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s. We assu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which imp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yields an algorithm which approximates the value of the solution with absolute error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t the m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log(1/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log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)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...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be processed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arallel uniform machin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,...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chines have different spee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,...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require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of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units. If we 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ha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allel identical mach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rther, we suppose that 1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|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nd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rthermore, we 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only have to consid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st machines. A necessary conditions for processing all jobs in the interval [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er 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we ha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beca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lower bound on the length of a schedule for the job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lower bound for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2362320" y="3378240"/>
                <a:ext cx="40384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B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will construct a schedule which achieves this b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rresponding algorithm is called the level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partial schedule up to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v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f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or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processed bef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gorithm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ev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exists jobs with positive leve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(t);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At time t, the algorithm calls a procedure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Assign(t)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which assign jobs to machine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= min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|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job completes at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= min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|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job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};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The machines run with this assignment until some time s &gt; t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in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(A new assignment is done at time s, and the process is repeated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 the schedu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0}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all jobs i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achines i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e unassign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unassigned jobs and machin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the s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jobs with the highest level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= min{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, 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}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jobs i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 processed jointly                          o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astest machines i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iminat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astest machines i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rt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ore generally, probl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only nonpreemptive problems with arbitrary processing times known to be polynomially solvable. Problem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|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ard. For these reason, we essentially discuss problems in which preemption is possi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1523880" y="471312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523880" y="4941720"/>
            <a:ext cx="9144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4419720" y="4952880"/>
            <a:ext cx="761760" cy="1371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5181480" y="4952880"/>
            <a:ext cx="1295640" cy="1371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523880" y="5398920"/>
            <a:ext cx="9144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2438280" y="4952880"/>
            <a:ext cx="198144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1523880" y="5856120"/>
            <a:ext cx="18288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352680" y="5867280"/>
            <a:ext cx="106704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1523880" y="638964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94080" y="49417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694080" y="53989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694080" y="58561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8307360" y="6237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1220760" y="633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1523880" y="631332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7848720" y="631332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1"/>
          <p:cNvSpPr/>
          <p:nvPr/>
        </p:nvSpPr>
        <p:spPr>
          <a:xfrm>
            <a:off x="1447920" y="469116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8307360" y="42559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 flipV="1">
            <a:off x="1523880" y="1066320"/>
            <a:ext cx="0" cy="3646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1447920" y="14922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5"/>
          <p:cNvSpPr/>
          <p:nvPr/>
        </p:nvSpPr>
        <p:spPr>
          <a:xfrm>
            <a:off x="1447920" y="33210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6"/>
          <p:cNvSpPr/>
          <p:nvPr/>
        </p:nvSpPr>
        <p:spPr>
          <a:xfrm>
            <a:off x="1447920" y="37782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7"/>
          <p:cNvSpPr/>
          <p:nvPr/>
        </p:nvSpPr>
        <p:spPr>
          <a:xfrm>
            <a:off x="1447920" y="42354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1447920" y="19494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2357280" y="47242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1523880" y="1523880"/>
            <a:ext cx="838440" cy="9144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1523880" y="1981080"/>
            <a:ext cx="838440" cy="45720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3271680" y="47242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>
            <a:off x="1523880" y="3809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4"/>
          <p:cNvSpPr/>
          <p:nvPr/>
        </p:nvSpPr>
        <p:spPr>
          <a:xfrm>
            <a:off x="1523880" y="3352680"/>
            <a:ext cx="1752840" cy="4572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5"/>
          <p:cNvSpPr/>
          <p:nvPr/>
        </p:nvSpPr>
        <p:spPr>
          <a:xfrm>
            <a:off x="4368960" y="47242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3276720" y="3809880"/>
            <a:ext cx="1066680" cy="2286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>
            <a:off x="2362320" y="2438280"/>
            <a:ext cx="1981080" cy="16002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8"/>
          <p:cNvSpPr/>
          <p:nvPr/>
        </p:nvSpPr>
        <p:spPr>
          <a:xfrm>
            <a:off x="5100480" y="47242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9"/>
          <p:cNvSpPr/>
          <p:nvPr/>
        </p:nvSpPr>
        <p:spPr>
          <a:xfrm>
            <a:off x="1523880" y="42670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0"/>
          <p:cNvSpPr/>
          <p:nvPr/>
        </p:nvSpPr>
        <p:spPr>
          <a:xfrm>
            <a:off x="4343400" y="4038480"/>
            <a:ext cx="762120" cy="22860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1"/>
          <p:cNvSpPr/>
          <p:nvPr/>
        </p:nvSpPr>
        <p:spPr>
          <a:xfrm>
            <a:off x="6407280" y="47242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2"/>
          <p:cNvSpPr/>
          <p:nvPr/>
        </p:nvSpPr>
        <p:spPr>
          <a:xfrm>
            <a:off x="5105520" y="4267080"/>
            <a:ext cx="1371600" cy="45720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3"/>
          <p:cNvSpPr/>
          <p:nvPr/>
        </p:nvSpPr>
        <p:spPr>
          <a:xfrm>
            <a:off x="465120" y="1219320"/>
            <a:ext cx="8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4"/>
          <p:cNvSpPr/>
          <p:nvPr/>
        </p:nvSpPr>
        <p:spPr>
          <a:xfrm>
            <a:off x="465120" y="1752480"/>
            <a:ext cx="8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5"/>
          <p:cNvSpPr/>
          <p:nvPr/>
        </p:nvSpPr>
        <p:spPr>
          <a:xfrm>
            <a:off x="465120" y="3048120"/>
            <a:ext cx="8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6"/>
          <p:cNvSpPr/>
          <p:nvPr/>
        </p:nvSpPr>
        <p:spPr>
          <a:xfrm>
            <a:off x="465120" y="3505320"/>
            <a:ext cx="8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7"/>
          <p:cNvSpPr/>
          <p:nvPr/>
        </p:nvSpPr>
        <p:spPr>
          <a:xfrm>
            <a:off x="465120" y="3962520"/>
            <a:ext cx="8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8"/>
          <p:cNvSpPr/>
          <p:nvPr/>
        </p:nvSpPr>
        <p:spPr>
          <a:xfrm>
            <a:off x="4514760" y="1752480"/>
            <a:ext cx="33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5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2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tly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obs jointly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s during some peri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process each job during period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units on each of the machi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5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895480" y="4267080"/>
          <a:ext cx="4038840" cy="147816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760"/>
                <a:gridCol w="807840"/>
                <a:gridCol w="80820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Line 33"/>
          <p:cNvSpPr/>
          <p:nvPr/>
        </p:nvSpPr>
        <p:spPr>
          <a:xfrm>
            <a:off x="2895480" y="6019920"/>
            <a:ext cx="5715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34"/>
          <p:cNvSpPr/>
          <p:nvPr/>
        </p:nvSpPr>
        <p:spPr>
          <a:xfrm>
            <a:off x="6095880" y="6019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35"/>
          <p:cNvSpPr/>
          <p:nvPr/>
        </p:nvSpPr>
        <p:spPr>
          <a:xfrm>
            <a:off x="2895480" y="6019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6"/>
          <p:cNvSpPr/>
          <p:nvPr/>
        </p:nvSpPr>
        <p:spPr>
          <a:xfrm>
            <a:off x="3657600" y="6019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7"/>
          <p:cNvSpPr/>
          <p:nvPr/>
        </p:nvSpPr>
        <p:spPr>
          <a:xfrm>
            <a:off x="4495680" y="6019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8"/>
          <p:cNvSpPr/>
          <p:nvPr/>
        </p:nvSpPr>
        <p:spPr>
          <a:xfrm>
            <a:off x="5257800" y="6019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9"/>
          <p:cNvSpPr/>
          <p:nvPr/>
        </p:nvSpPr>
        <p:spPr>
          <a:xfrm>
            <a:off x="6934320" y="60199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3"/>
          <p:cNvSpPr/>
          <p:nvPr/>
        </p:nvSpPr>
        <p:spPr>
          <a:xfrm>
            <a:off x="8460000" y="53341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4"/>
          <p:cNvSpPr/>
          <p:nvPr/>
        </p:nvSpPr>
        <p:spPr>
          <a:xfrm>
            <a:off x="6859440" y="6019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5"/>
          <p:cNvSpPr/>
          <p:nvPr/>
        </p:nvSpPr>
        <p:spPr>
          <a:xfrm>
            <a:off x="2745000" y="601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6"/>
          <p:cNvSpPr/>
          <p:nvPr/>
        </p:nvSpPr>
        <p:spPr>
          <a:xfrm>
            <a:off x="3353760" y="6019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7"/>
          <p:cNvSpPr/>
          <p:nvPr/>
        </p:nvSpPr>
        <p:spPr>
          <a:xfrm>
            <a:off x="4192200" y="60199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8"/>
          <p:cNvSpPr/>
          <p:nvPr/>
        </p:nvSpPr>
        <p:spPr>
          <a:xfrm>
            <a:off x="4953960" y="60199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9"/>
          <p:cNvSpPr/>
          <p:nvPr/>
        </p:nvSpPr>
        <p:spPr>
          <a:xfrm>
            <a:off x="5792400" y="60199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0"/>
          <p:cNvSpPr/>
          <p:nvPr/>
        </p:nvSpPr>
        <p:spPr>
          <a:xfrm>
            <a:off x="2141640" y="43434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2141640" y="48006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2"/>
          <p:cNvSpPr/>
          <p:nvPr/>
        </p:nvSpPr>
        <p:spPr>
          <a:xfrm>
            <a:off x="2141640" y="52578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Theorem 5.7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orithm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ve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cts an optimal schedule for probl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|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at the beginning of the level algorithm we ha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. This order does not change during the algorithm, i.e we ha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ssume that the algorithm always assigns jobs to machines in this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1185840" y="4119480"/>
                <a:ext cx="67770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B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7" name="Text Box 7"/>
          <p:cNvSpPr/>
          <p:nvPr/>
        </p:nvSpPr>
        <p:spPr>
          <a:xfrm>
            <a:off x="152280" y="1447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chine is idle before all jobs are finished, say at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2286000" y="2895480"/>
                <a:ext cx="4038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9" name="AutoShape 10"/>
          <p:cNvSpPr/>
          <p:nvPr/>
        </p:nvSpPr>
        <p:spPr>
          <a:xfrm>
            <a:off x="3962520" y="22096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1"/>
          <p:cNvSpPr/>
          <p:nvPr/>
        </p:nvSpPr>
        <p:spPr>
          <a:xfrm>
            <a:off x="4038480" y="3581280"/>
            <a:ext cx="486000" cy="609840"/>
          </a:xfrm>
          <a:prstGeom prst="downArrow">
            <a:avLst>
              <a:gd name="adj1" fmla="val 50000"/>
              <a:gd name="adj2" fmla="val 31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achines are idle before the last job  finishes, then for the finishing tim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achine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,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+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ome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, the level of the last job process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some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 is sufficiently small, has a smaller level of the last job on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sam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jobs with the highest level assign to the fastest machines (see procedure Assig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contradiction,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t least one strict inequ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2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...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gt;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jobs finishing at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been started at time 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is is not the case, then we have job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ich starts at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0 and finishes at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mplies that at time 0 at lea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obs, say jobs 1,...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started and processed together on all machines. We hav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, which implies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0 for all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Thus, until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machine is idle, which is a contradi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, the jobs finishing at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been started at time 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follows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2076480" y="5257800"/>
                <a:ext cx="46609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B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vel algorithm call the procedure Assign(t) at the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utational effort for assigning jobs to machines after each call is bound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we get a total complexit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cessary and Sufficient 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seen that jobs 1,2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ocessing ti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scheduled on machin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spee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n interval of leng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nd only if the following inequalities ho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4"/>
              <p:cNvSpPr txBox="1"/>
              <p:nvPr/>
            </p:nvSpPr>
            <p:spPr>
              <a:xfrm>
                <a:off x="1981080" y="3962520"/>
                <a:ext cx="5486400" cy="17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t xml:space="preserve">T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for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t xml:space="preserve">T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if  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cessary and Sufficient 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838080" y="1676520"/>
                <a:ext cx="6934320" cy="41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ue to the monotonicity of the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values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n arbitrary subset </m:t>
                        </m:r>
                        <m:r>
                          <m:t xml:space="preserve">A</m:t>
                        </m:r>
                        <m:r>
                          <m:t xml:space="preserve">⊆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hav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d>
                                        <m:dPr>
                                          <m:begChr m:val="|"/>
                                          <m:endChr m:val="|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if   </m:t>
                                  </m:r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  <m:r>
                                    <m:t xml:space="preserve">≤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otherwise 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, jobs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with processing requirements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n be scheduled within an interval of length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if and only i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for all   </m:t>
                        </m:r>
                        <m:r>
                          <m:t xml:space="preserve">A</m:t>
                        </m:r>
                        <m:r>
                          <m:t xml:space="preserve">⊆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Text Box 6"/>
          <p:cNvSpPr/>
          <p:nvPr/>
        </p:nvSpPr>
        <p:spPr>
          <a:xfrm>
            <a:off x="7529040" y="5807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cal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iv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job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,...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processing times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,...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to be processed 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dentical parallel machine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| 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first consider the problem of finding a schedule with the property that ea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processed in the time window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defined by release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 deadl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ll such a schedu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asible with respect to the time window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second step, we apply binary search to solve the general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dentical machines, we solve the feasibility problem by reducing it to a network flow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... 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be the ordered sequence of all differ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s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s and def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imum Flow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"/>
          <p:cNvSpPr/>
          <p:nvPr/>
        </p:nvSpPr>
        <p:spPr>
          <a:xfrm flipV="1">
            <a:off x="762120" y="1980720"/>
            <a:ext cx="1218960" cy="12193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 flipV="1">
            <a:off x="990720" y="3352680"/>
            <a:ext cx="990360" cy="152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 flipV="1">
            <a:off x="6019920" y="3580920"/>
            <a:ext cx="1447560" cy="1143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6019920" y="1981080"/>
            <a:ext cx="1371600" cy="1143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7"/>
          <p:cNvSpPr/>
          <p:nvPr/>
        </p:nvSpPr>
        <p:spPr>
          <a:xfrm>
            <a:off x="304920" y="32004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1981080" y="30481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"/>
          <p:cNvSpPr/>
          <p:nvPr/>
        </p:nvSpPr>
        <p:spPr>
          <a:xfrm>
            <a:off x="1981080" y="15238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981080" y="46483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1"/>
          <p:cNvSpPr/>
          <p:nvPr/>
        </p:nvSpPr>
        <p:spPr>
          <a:xfrm>
            <a:off x="5410080" y="14479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5410080" y="45720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3"/>
          <p:cNvSpPr/>
          <p:nvPr/>
        </p:nvSpPr>
        <p:spPr>
          <a:xfrm>
            <a:off x="7315200" y="29718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5334120" y="31240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2590920" y="3429000"/>
            <a:ext cx="27432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838080" y="3809880"/>
            <a:ext cx="1219320" cy="99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 flipV="1">
            <a:off x="6019920" y="3352680"/>
            <a:ext cx="1295280" cy="152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1076760" y="20574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1301040" y="2895480"/>
            <a:ext cx="41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1535760" y="396252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3366360" y="2819520"/>
            <a:ext cx="53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2"/>
          <p:cNvSpPr/>
          <p:nvPr/>
        </p:nvSpPr>
        <p:spPr>
          <a:xfrm>
            <a:off x="6109920" y="2819520"/>
            <a:ext cx="81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4"/>
          <p:cNvSpPr/>
          <p:nvPr/>
        </p:nvSpPr>
        <p:spPr>
          <a:xfrm>
            <a:off x="6579000" y="4267080"/>
            <a:ext cx="96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5"/>
          <p:cNvSpPr/>
          <p:nvPr/>
        </p:nvSpPr>
        <p:spPr>
          <a:xfrm>
            <a:off x="6259320" y="1752480"/>
            <a:ext cx="7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6"/>
          <p:cNvSpPr/>
          <p:nvPr/>
        </p:nvSpPr>
        <p:spPr>
          <a:xfrm>
            <a:off x="4952880" y="2666880"/>
            <a:ext cx="1143000" cy="144792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7"/>
          <p:cNvSpPr/>
          <p:nvPr/>
        </p:nvSpPr>
        <p:spPr>
          <a:xfrm>
            <a:off x="4572000" y="2971800"/>
            <a:ext cx="76212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8"/>
          <p:cNvSpPr/>
          <p:nvPr/>
        </p:nvSpPr>
        <p:spPr>
          <a:xfrm flipV="1">
            <a:off x="4572000" y="3580920"/>
            <a:ext cx="762120" cy="2286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"/>
          <p:cNvSpPr/>
          <p:nvPr/>
        </p:nvSpPr>
        <p:spPr>
          <a:xfrm>
            <a:off x="858960" y="5486400"/>
            <a:ext cx="72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an arbitrary interval node and denote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40000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t of predecessors of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anded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4"/>
          <p:cNvSpPr/>
          <p:nvPr/>
        </p:nvSpPr>
        <p:spPr>
          <a:xfrm>
            <a:off x="1523880" y="32767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7467480" y="45720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2209680" y="3657600"/>
            <a:ext cx="23623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7"/>
          <p:cNvSpPr/>
          <p:nvPr/>
        </p:nvSpPr>
        <p:spPr>
          <a:xfrm>
            <a:off x="762120" y="13716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8"/>
          <p:cNvSpPr/>
          <p:nvPr/>
        </p:nvSpPr>
        <p:spPr>
          <a:xfrm>
            <a:off x="2743200" y="21337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9"/>
          <p:cNvSpPr/>
          <p:nvPr/>
        </p:nvSpPr>
        <p:spPr>
          <a:xfrm>
            <a:off x="1219320" y="1676520"/>
            <a:ext cx="1523880" cy="68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0"/>
          <p:cNvSpPr/>
          <p:nvPr/>
        </p:nvSpPr>
        <p:spPr>
          <a:xfrm>
            <a:off x="685800" y="2743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4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1"/>
          <p:cNvSpPr/>
          <p:nvPr/>
        </p:nvSpPr>
        <p:spPr>
          <a:xfrm flipV="1">
            <a:off x="1143000" y="2438280"/>
            <a:ext cx="160020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689760" y="205560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3"/>
          <p:cNvSpPr/>
          <p:nvPr/>
        </p:nvSpPr>
        <p:spPr>
          <a:xfrm>
            <a:off x="1447920" y="58672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4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1451880" y="472248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5"/>
          <p:cNvSpPr/>
          <p:nvPr/>
        </p:nvSpPr>
        <p:spPr>
          <a:xfrm>
            <a:off x="4648320" y="59436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6"/>
          <p:cNvSpPr/>
          <p:nvPr/>
        </p:nvSpPr>
        <p:spPr>
          <a:xfrm>
            <a:off x="4648320" y="46483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7"/>
          <p:cNvSpPr/>
          <p:nvPr/>
        </p:nvSpPr>
        <p:spPr>
          <a:xfrm>
            <a:off x="4648320" y="33526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4652280" y="411300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4652280" y="533232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0"/>
          <p:cNvSpPr/>
          <p:nvPr/>
        </p:nvSpPr>
        <p:spPr>
          <a:xfrm>
            <a:off x="2209680" y="6248520"/>
            <a:ext cx="23623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1"/>
          <p:cNvSpPr/>
          <p:nvPr/>
        </p:nvSpPr>
        <p:spPr>
          <a:xfrm>
            <a:off x="2133720" y="3809880"/>
            <a:ext cx="2438280" cy="1067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1981080" y="3962520"/>
            <a:ext cx="2667240" cy="2057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3"/>
          <p:cNvSpPr/>
          <p:nvPr/>
        </p:nvSpPr>
        <p:spPr>
          <a:xfrm flipV="1">
            <a:off x="2209680" y="5028840"/>
            <a:ext cx="2362320" cy="10666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4"/>
          <p:cNvSpPr/>
          <p:nvPr/>
        </p:nvSpPr>
        <p:spPr>
          <a:xfrm flipV="1">
            <a:off x="2133720" y="3885840"/>
            <a:ext cx="2514600" cy="2057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5"/>
          <p:cNvSpPr/>
          <p:nvPr/>
        </p:nvSpPr>
        <p:spPr>
          <a:xfrm>
            <a:off x="5410080" y="3733920"/>
            <a:ext cx="2057400" cy="914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6"/>
          <p:cNvSpPr/>
          <p:nvPr/>
        </p:nvSpPr>
        <p:spPr>
          <a:xfrm>
            <a:off x="5410080" y="4952880"/>
            <a:ext cx="19814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7"/>
          <p:cNvSpPr/>
          <p:nvPr/>
        </p:nvSpPr>
        <p:spPr>
          <a:xfrm flipV="1">
            <a:off x="5410080" y="5181480"/>
            <a:ext cx="2057400" cy="1067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2832120" y="327672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2916360" y="380988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1249200" y="4267080"/>
            <a:ext cx="135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2620800" y="6172200"/>
            <a:ext cx="135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1536480" y="525780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4"/>
          <p:cNvSpPr/>
          <p:nvPr/>
        </p:nvSpPr>
        <p:spPr>
          <a:xfrm>
            <a:off x="2840400" y="563868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5"/>
          <p:cNvSpPr/>
          <p:nvPr/>
        </p:nvSpPr>
        <p:spPr>
          <a:xfrm>
            <a:off x="5506920" y="4572000"/>
            <a:ext cx="1279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6"/>
          <p:cNvSpPr/>
          <p:nvPr/>
        </p:nvSpPr>
        <p:spPr>
          <a:xfrm>
            <a:off x="6031800" y="365760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7"/>
          <p:cNvSpPr/>
          <p:nvPr/>
        </p:nvSpPr>
        <p:spPr>
          <a:xfrm>
            <a:off x="6049080" y="5791320"/>
            <a:ext cx="1554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8"/>
          <p:cNvSpPr/>
          <p:nvPr/>
        </p:nvSpPr>
        <p:spPr>
          <a:xfrm flipV="1">
            <a:off x="304920" y="3733920"/>
            <a:ext cx="1218960" cy="3045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9"/>
          <p:cNvSpPr/>
          <p:nvPr/>
        </p:nvSpPr>
        <p:spPr>
          <a:xfrm>
            <a:off x="304920" y="5562720"/>
            <a:ext cx="1066680" cy="533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0"/>
          <p:cNvSpPr/>
          <p:nvPr/>
        </p:nvSpPr>
        <p:spPr>
          <a:xfrm>
            <a:off x="8229600" y="4876920"/>
            <a:ext cx="60948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1"/>
          <p:cNvSpPr/>
          <p:nvPr/>
        </p:nvSpPr>
        <p:spPr>
          <a:xfrm>
            <a:off x="228600" y="3505320"/>
            <a:ext cx="4953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2"/>
          <p:cNvSpPr/>
          <p:nvPr/>
        </p:nvSpPr>
        <p:spPr>
          <a:xfrm>
            <a:off x="380880" y="5257800"/>
            <a:ext cx="4953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4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3"/>
          <p:cNvSpPr/>
          <p:nvPr/>
        </p:nvSpPr>
        <p:spPr>
          <a:xfrm>
            <a:off x="8243280" y="4495680"/>
            <a:ext cx="69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"/>
          <p:cNvSpPr/>
          <p:nvPr/>
        </p:nvSpPr>
        <p:spPr>
          <a:xfrm>
            <a:off x="3384000" y="1447920"/>
            <a:ext cx="556164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replace the subnet-work defin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40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expanded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4876920" y="2514600"/>
                <a:ext cx="3028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…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nd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and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Theorem 5.8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llowing properties are equivalen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exists a feasible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expanded network there exist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ow from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valu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6248520" y="4038480"/>
                <a:ext cx="104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: (b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 flow with value         in the expand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. Denote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tal flow which go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ufficient to show that for each sub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eans that the processing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scheduled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4"/>
              <p:cNvSpPr txBox="1"/>
              <p:nvPr/>
            </p:nvSpPr>
            <p:spPr>
              <a:xfrm>
                <a:off x="3938760" y="2651040"/>
                <a:ext cx="210312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6"/>
              <p:cNvSpPr txBox="1"/>
              <p:nvPr/>
            </p:nvSpPr>
            <p:spPr>
              <a:xfrm>
                <a:off x="5105520" y="1447920"/>
                <a:ext cx="779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4419720" y="3886200"/>
                <a:ext cx="25905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: (b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in the expanded network the subnetwork induc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corresponding partial flow. The portion of this flow goes through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bound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{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min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we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1219320" y="3886200"/>
                <a:ext cx="6553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j</m:t>
                        </m:r>
                        <m:r>
                          <m:t xml:space="preserve">,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"/>
              <p:cNvSpPr txBox="1"/>
              <p:nvPr/>
            </p:nvSpPr>
            <p:spPr>
              <a:xfrm>
                <a:off x="2819520" y="5181480"/>
                <a:ext cx="3493800" cy="13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   if   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  <m:r>
                                <m:t xml:space="preserve">≤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   otherwise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anded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4"/>
          <p:cNvSpPr/>
          <p:nvPr/>
        </p:nvSpPr>
        <p:spPr>
          <a:xfrm>
            <a:off x="1523880" y="32767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7467480" y="45720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6"/>
          <p:cNvSpPr/>
          <p:nvPr/>
        </p:nvSpPr>
        <p:spPr>
          <a:xfrm>
            <a:off x="2209680" y="3657600"/>
            <a:ext cx="23623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7"/>
          <p:cNvSpPr/>
          <p:nvPr/>
        </p:nvSpPr>
        <p:spPr>
          <a:xfrm>
            <a:off x="762120" y="13716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8"/>
          <p:cNvSpPr/>
          <p:nvPr/>
        </p:nvSpPr>
        <p:spPr>
          <a:xfrm>
            <a:off x="2743200" y="21337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1219320" y="1676520"/>
            <a:ext cx="1523880" cy="68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685800" y="2743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4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 flipV="1">
            <a:off x="1143000" y="2438280"/>
            <a:ext cx="160020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689760" y="205560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3"/>
          <p:cNvSpPr/>
          <p:nvPr/>
        </p:nvSpPr>
        <p:spPr>
          <a:xfrm>
            <a:off x="1447920" y="58672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4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1451880" y="472248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5"/>
          <p:cNvSpPr/>
          <p:nvPr/>
        </p:nvSpPr>
        <p:spPr>
          <a:xfrm>
            <a:off x="4648320" y="59436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6"/>
          <p:cNvSpPr/>
          <p:nvPr/>
        </p:nvSpPr>
        <p:spPr>
          <a:xfrm>
            <a:off x="4648320" y="46483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7"/>
          <p:cNvSpPr/>
          <p:nvPr/>
        </p:nvSpPr>
        <p:spPr>
          <a:xfrm>
            <a:off x="4648320" y="33526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4652280" y="411300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4652280" y="533232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2209680" y="6248520"/>
            <a:ext cx="23623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>
            <a:off x="2133720" y="3809880"/>
            <a:ext cx="2438280" cy="1067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2"/>
          <p:cNvSpPr/>
          <p:nvPr/>
        </p:nvSpPr>
        <p:spPr>
          <a:xfrm>
            <a:off x="1981080" y="3962520"/>
            <a:ext cx="2667240" cy="2057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3"/>
          <p:cNvSpPr/>
          <p:nvPr/>
        </p:nvSpPr>
        <p:spPr>
          <a:xfrm flipV="1">
            <a:off x="2209680" y="5028840"/>
            <a:ext cx="2362320" cy="10666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4"/>
          <p:cNvSpPr/>
          <p:nvPr/>
        </p:nvSpPr>
        <p:spPr>
          <a:xfrm flipV="1">
            <a:off x="2133720" y="3885840"/>
            <a:ext cx="2514600" cy="2057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5410080" y="3733920"/>
            <a:ext cx="2057400" cy="914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>
            <a:off x="5410080" y="4952880"/>
            <a:ext cx="19814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7"/>
          <p:cNvSpPr/>
          <p:nvPr/>
        </p:nvSpPr>
        <p:spPr>
          <a:xfrm flipV="1">
            <a:off x="5410080" y="5181480"/>
            <a:ext cx="2057400" cy="1067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832120" y="327672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9"/>
          <p:cNvSpPr/>
          <p:nvPr/>
        </p:nvSpPr>
        <p:spPr>
          <a:xfrm>
            <a:off x="2916360" y="380988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0"/>
          <p:cNvSpPr/>
          <p:nvPr/>
        </p:nvSpPr>
        <p:spPr>
          <a:xfrm>
            <a:off x="1249200" y="4267080"/>
            <a:ext cx="135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1"/>
          <p:cNvSpPr/>
          <p:nvPr/>
        </p:nvSpPr>
        <p:spPr>
          <a:xfrm>
            <a:off x="2620800" y="6172200"/>
            <a:ext cx="135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2"/>
          <p:cNvSpPr/>
          <p:nvPr/>
        </p:nvSpPr>
        <p:spPr>
          <a:xfrm>
            <a:off x="1536480" y="525780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4"/>
          <p:cNvSpPr/>
          <p:nvPr/>
        </p:nvSpPr>
        <p:spPr>
          <a:xfrm>
            <a:off x="2840400" y="563868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5"/>
          <p:cNvSpPr/>
          <p:nvPr/>
        </p:nvSpPr>
        <p:spPr>
          <a:xfrm>
            <a:off x="5506920" y="4572000"/>
            <a:ext cx="1279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6"/>
          <p:cNvSpPr/>
          <p:nvPr/>
        </p:nvSpPr>
        <p:spPr>
          <a:xfrm>
            <a:off x="6031800" y="365760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7"/>
          <p:cNvSpPr/>
          <p:nvPr/>
        </p:nvSpPr>
        <p:spPr>
          <a:xfrm>
            <a:off x="6049080" y="5791320"/>
            <a:ext cx="1554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8"/>
          <p:cNvSpPr/>
          <p:nvPr/>
        </p:nvSpPr>
        <p:spPr>
          <a:xfrm flipV="1">
            <a:off x="304920" y="3733920"/>
            <a:ext cx="1218960" cy="3045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39"/>
          <p:cNvSpPr/>
          <p:nvPr/>
        </p:nvSpPr>
        <p:spPr>
          <a:xfrm>
            <a:off x="304920" y="5562720"/>
            <a:ext cx="1066680" cy="533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0"/>
          <p:cNvSpPr/>
          <p:nvPr/>
        </p:nvSpPr>
        <p:spPr>
          <a:xfrm>
            <a:off x="8229600" y="4876920"/>
            <a:ext cx="60948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228600" y="3505320"/>
            <a:ext cx="4953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2"/>
          <p:cNvSpPr/>
          <p:nvPr/>
        </p:nvSpPr>
        <p:spPr>
          <a:xfrm>
            <a:off x="380880" y="5257800"/>
            <a:ext cx="4953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4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3"/>
          <p:cNvSpPr/>
          <p:nvPr/>
        </p:nvSpPr>
        <p:spPr>
          <a:xfrm>
            <a:off x="8243280" y="4495680"/>
            <a:ext cx="69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"/>
          <p:cNvSpPr/>
          <p:nvPr/>
        </p:nvSpPr>
        <p:spPr>
          <a:xfrm>
            <a:off x="3384000" y="1447920"/>
            <a:ext cx="556164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replace the subnet-work defin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40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expanded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2"/>
              <p:cNvSpPr txBox="1"/>
              <p:nvPr/>
            </p:nvSpPr>
            <p:spPr>
              <a:xfrm>
                <a:off x="4876920" y="2514600"/>
                <a:ext cx="3028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…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nd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: (b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6"/>
              <p:cNvSpPr txBox="1"/>
              <p:nvPr/>
            </p:nvSpPr>
            <p:spPr>
              <a:xfrm>
                <a:off x="762120" y="1600200"/>
                <a:ext cx="45352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j</m:t>
                        </m:r>
                        <m:r>
                          <m:t xml:space="preserve">,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7"/>
              <p:cNvSpPr txBox="1"/>
              <p:nvPr/>
            </p:nvSpPr>
            <p:spPr>
              <a:xfrm>
                <a:off x="1817640" y="2895480"/>
                <a:ext cx="6802560" cy="14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4" name="Text Box 9"/>
          <p:cNvSpPr/>
          <p:nvPr/>
        </p:nvSpPr>
        <p:spPr>
          <a:xfrm>
            <a:off x="4320" y="30481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A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2"/>
              <p:cNvSpPr txBox="1"/>
              <p:nvPr/>
            </p:nvSpPr>
            <p:spPr>
              <a:xfrm>
                <a:off x="1752480" y="4495680"/>
                <a:ext cx="7016760" cy="21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b>
                        </m:sSub>
                      </m:e>
                      <m:e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…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6" name="Text Box 13"/>
          <p:cNvSpPr/>
          <p:nvPr/>
        </p:nvSpPr>
        <p:spPr>
          <a:xfrm>
            <a:off x="-39240" y="5334120"/>
            <a:ext cx="13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A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: (a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a feasible schedule exis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unt of work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be performed on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va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cording to this feasible schedu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rbitrary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the inequality                            ho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7"/>
              <p:cNvSpPr txBox="1"/>
              <p:nvPr/>
            </p:nvSpPr>
            <p:spPr>
              <a:xfrm>
                <a:off x="5138640" y="4495680"/>
                <a:ext cx="25686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 | 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wer bound for this problem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meeting this bound can be constructed in linear time: fill the machines successively, scheduling the jobs in any order and splitting jobs into two parts whenever the above time bound is met. Schedule the second part of a preempted job on the next machine at zero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1371600" y="2286000"/>
                <a:ext cx="40384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i</m:t>
                            </m:r>
                          </m:lim>
                        </m:limLow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/</m:t>
                        </m:r>
                        <m:r>
                          <m:t xml:space="preserve">m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: (a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3"/>
          <p:cNvSpPr/>
          <p:nvPr/>
        </p:nvSpPr>
        <p:spPr>
          <a:xfrm>
            <a:off x="1523880" y="32767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4"/>
          <p:cNvSpPr/>
          <p:nvPr/>
        </p:nvSpPr>
        <p:spPr>
          <a:xfrm>
            <a:off x="7467480" y="45720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5"/>
          <p:cNvSpPr/>
          <p:nvPr/>
        </p:nvSpPr>
        <p:spPr>
          <a:xfrm>
            <a:off x="2209680" y="3657600"/>
            <a:ext cx="23623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2"/>
          <p:cNvSpPr/>
          <p:nvPr/>
        </p:nvSpPr>
        <p:spPr>
          <a:xfrm>
            <a:off x="1447920" y="58672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1451880" y="472248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4"/>
          <p:cNvSpPr/>
          <p:nvPr/>
        </p:nvSpPr>
        <p:spPr>
          <a:xfrm>
            <a:off x="4648320" y="59436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,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5"/>
          <p:cNvSpPr/>
          <p:nvPr/>
        </p:nvSpPr>
        <p:spPr>
          <a:xfrm>
            <a:off x="4648320" y="46483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6"/>
          <p:cNvSpPr/>
          <p:nvPr/>
        </p:nvSpPr>
        <p:spPr>
          <a:xfrm>
            <a:off x="4648320" y="33526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4652280" y="411300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4652280" y="533232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2209680" y="6248520"/>
            <a:ext cx="23623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0"/>
          <p:cNvSpPr/>
          <p:nvPr/>
        </p:nvSpPr>
        <p:spPr>
          <a:xfrm>
            <a:off x="2133720" y="3809880"/>
            <a:ext cx="2438280" cy="1067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1"/>
          <p:cNvSpPr/>
          <p:nvPr/>
        </p:nvSpPr>
        <p:spPr>
          <a:xfrm>
            <a:off x="1981080" y="3962520"/>
            <a:ext cx="2667240" cy="2057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2"/>
          <p:cNvSpPr/>
          <p:nvPr/>
        </p:nvSpPr>
        <p:spPr>
          <a:xfrm flipV="1">
            <a:off x="2209680" y="5028840"/>
            <a:ext cx="2362320" cy="10666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23"/>
          <p:cNvSpPr/>
          <p:nvPr/>
        </p:nvSpPr>
        <p:spPr>
          <a:xfrm flipV="1">
            <a:off x="2133720" y="3885840"/>
            <a:ext cx="2514600" cy="2057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4"/>
          <p:cNvSpPr/>
          <p:nvPr/>
        </p:nvSpPr>
        <p:spPr>
          <a:xfrm>
            <a:off x="5410080" y="3733920"/>
            <a:ext cx="2057400" cy="914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5"/>
          <p:cNvSpPr/>
          <p:nvPr/>
        </p:nvSpPr>
        <p:spPr>
          <a:xfrm>
            <a:off x="5410080" y="4952880"/>
            <a:ext cx="19814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V="1">
            <a:off x="5410080" y="5181480"/>
            <a:ext cx="2057400" cy="1067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2832120" y="327672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2916360" y="380988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1249200" y="4267080"/>
            <a:ext cx="135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2620800" y="6172200"/>
            <a:ext cx="135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1536480" y="525780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2"/>
          <p:cNvSpPr/>
          <p:nvPr/>
        </p:nvSpPr>
        <p:spPr>
          <a:xfrm>
            <a:off x="2840400" y="563868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3"/>
          <p:cNvSpPr/>
          <p:nvPr/>
        </p:nvSpPr>
        <p:spPr>
          <a:xfrm>
            <a:off x="5506920" y="4572000"/>
            <a:ext cx="1279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4"/>
          <p:cNvSpPr/>
          <p:nvPr/>
        </p:nvSpPr>
        <p:spPr>
          <a:xfrm>
            <a:off x="6031800" y="365760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5"/>
          <p:cNvSpPr/>
          <p:nvPr/>
        </p:nvSpPr>
        <p:spPr>
          <a:xfrm>
            <a:off x="6049080" y="5791320"/>
            <a:ext cx="1554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6"/>
          <p:cNvSpPr/>
          <p:nvPr/>
        </p:nvSpPr>
        <p:spPr>
          <a:xfrm flipV="1">
            <a:off x="304920" y="3733920"/>
            <a:ext cx="1218960" cy="3045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37"/>
          <p:cNvSpPr/>
          <p:nvPr/>
        </p:nvSpPr>
        <p:spPr>
          <a:xfrm>
            <a:off x="304920" y="5562720"/>
            <a:ext cx="1066680" cy="533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8"/>
          <p:cNvSpPr/>
          <p:nvPr/>
        </p:nvSpPr>
        <p:spPr>
          <a:xfrm>
            <a:off x="8229600" y="4876920"/>
            <a:ext cx="60948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9"/>
          <p:cNvSpPr/>
          <p:nvPr/>
        </p:nvSpPr>
        <p:spPr>
          <a:xfrm>
            <a:off x="228600" y="3505320"/>
            <a:ext cx="49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0"/>
          <p:cNvSpPr/>
          <p:nvPr/>
        </p:nvSpPr>
        <p:spPr>
          <a:xfrm>
            <a:off x="380880" y="5257800"/>
            <a:ext cx="49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1"/>
          <p:cNvSpPr/>
          <p:nvPr/>
        </p:nvSpPr>
        <p:spPr>
          <a:xfrm>
            <a:off x="8243280" y="4495680"/>
            <a:ext cx="69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44"/>
              <p:cNvSpPr txBox="1"/>
              <p:nvPr/>
            </p:nvSpPr>
            <p:spPr>
              <a:xfrm>
                <a:off x="4648320" y="1828800"/>
                <a:ext cx="36874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45"/>
              <p:cNvSpPr txBox="1"/>
              <p:nvPr/>
            </p:nvSpPr>
            <p:spPr>
              <a:xfrm>
                <a:off x="609480" y="1676520"/>
                <a:ext cx="16765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6" name="Line 47"/>
          <p:cNvSpPr/>
          <p:nvPr/>
        </p:nvSpPr>
        <p:spPr>
          <a:xfrm flipH="1">
            <a:off x="838080" y="2666880"/>
            <a:ext cx="533520" cy="10670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8"/>
          <p:cNvSpPr/>
          <p:nvPr/>
        </p:nvSpPr>
        <p:spPr>
          <a:xfrm>
            <a:off x="7772400" y="2819520"/>
            <a:ext cx="685800" cy="16002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9"/>
          <p:cNvSpPr/>
          <p:nvPr/>
        </p:nvSpPr>
        <p:spPr>
          <a:xfrm>
            <a:off x="3278880" y="213372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0"/>
          <p:cNvSpPr/>
          <p:nvPr/>
        </p:nvSpPr>
        <p:spPr>
          <a:xfrm>
            <a:off x="2362320" y="35053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: (a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fficient condition for the existence 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a flow is that for arbitra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           is bound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of a minimum cut in the partial network with sourc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sink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6"/>
              <p:cNvSpPr txBox="1"/>
              <p:nvPr/>
            </p:nvSpPr>
            <p:spPr>
              <a:xfrm>
                <a:off x="4952880" y="2666880"/>
                <a:ext cx="10861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: (a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3"/>
          <p:cNvSpPr/>
          <p:nvPr/>
        </p:nvSpPr>
        <p:spPr>
          <a:xfrm>
            <a:off x="1371600" y="14479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4"/>
          <p:cNvSpPr/>
          <p:nvPr/>
        </p:nvSpPr>
        <p:spPr>
          <a:xfrm>
            <a:off x="7315200" y="27432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"/>
          <p:cNvSpPr/>
          <p:nvPr/>
        </p:nvSpPr>
        <p:spPr>
          <a:xfrm>
            <a:off x="2057400" y="1828800"/>
            <a:ext cx="23623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6"/>
          <p:cNvSpPr/>
          <p:nvPr/>
        </p:nvSpPr>
        <p:spPr>
          <a:xfrm>
            <a:off x="1295280" y="40384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1299240" y="289368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8"/>
          <p:cNvSpPr/>
          <p:nvPr/>
        </p:nvSpPr>
        <p:spPr>
          <a:xfrm>
            <a:off x="4495680" y="41148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,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9"/>
          <p:cNvSpPr/>
          <p:nvPr/>
        </p:nvSpPr>
        <p:spPr>
          <a:xfrm>
            <a:off x="4495680" y="28195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0"/>
          <p:cNvSpPr/>
          <p:nvPr/>
        </p:nvSpPr>
        <p:spPr>
          <a:xfrm>
            <a:off x="4495680" y="15238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4499640" y="228420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4499640" y="350352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3"/>
          <p:cNvSpPr/>
          <p:nvPr/>
        </p:nvSpPr>
        <p:spPr>
          <a:xfrm>
            <a:off x="2057400" y="4419720"/>
            <a:ext cx="23623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4"/>
          <p:cNvSpPr/>
          <p:nvPr/>
        </p:nvSpPr>
        <p:spPr>
          <a:xfrm>
            <a:off x="1981080" y="1981080"/>
            <a:ext cx="2438640" cy="1067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"/>
          <p:cNvSpPr/>
          <p:nvPr/>
        </p:nvSpPr>
        <p:spPr>
          <a:xfrm>
            <a:off x="1828800" y="2133720"/>
            <a:ext cx="2666880" cy="2057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6"/>
          <p:cNvSpPr/>
          <p:nvPr/>
        </p:nvSpPr>
        <p:spPr>
          <a:xfrm flipV="1">
            <a:off x="2057400" y="3200040"/>
            <a:ext cx="2362320" cy="10666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7"/>
          <p:cNvSpPr/>
          <p:nvPr/>
        </p:nvSpPr>
        <p:spPr>
          <a:xfrm flipV="1">
            <a:off x="1981080" y="2057040"/>
            <a:ext cx="2514600" cy="2057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8"/>
          <p:cNvSpPr/>
          <p:nvPr/>
        </p:nvSpPr>
        <p:spPr>
          <a:xfrm>
            <a:off x="5257800" y="1905120"/>
            <a:ext cx="2057400" cy="914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9"/>
          <p:cNvSpPr/>
          <p:nvPr/>
        </p:nvSpPr>
        <p:spPr>
          <a:xfrm>
            <a:off x="5257800" y="3124080"/>
            <a:ext cx="198108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0"/>
          <p:cNvSpPr/>
          <p:nvPr/>
        </p:nvSpPr>
        <p:spPr>
          <a:xfrm flipV="1">
            <a:off x="5257800" y="3352680"/>
            <a:ext cx="2057400" cy="1067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2679480" y="144792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2764080" y="198108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3"/>
          <p:cNvSpPr/>
          <p:nvPr/>
        </p:nvSpPr>
        <p:spPr>
          <a:xfrm>
            <a:off x="1096560" y="2438280"/>
            <a:ext cx="135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2468160" y="4343400"/>
            <a:ext cx="135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1384200" y="342900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2687760" y="380988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5354640" y="2743200"/>
            <a:ext cx="1279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8"/>
          <p:cNvSpPr/>
          <p:nvPr/>
        </p:nvSpPr>
        <p:spPr>
          <a:xfrm>
            <a:off x="5879520" y="182880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9"/>
          <p:cNvSpPr/>
          <p:nvPr/>
        </p:nvSpPr>
        <p:spPr>
          <a:xfrm>
            <a:off x="5896800" y="3962520"/>
            <a:ext cx="1554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44"/>
          <p:cNvSpPr/>
          <p:nvPr/>
        </p:nvSpPr>
        <p:spPr>
          <a:xfrm>
            <a:off x="4038480" y="2819520"/>
            <a:ext cx="152640" cy="685800"/>
          </a:xfrm>
          <a:custGeom>
            <a:avLst/>
            <a:gdLst/>
            <a:ahLst/>
            <a:rect l="l" t="t" r="r" b="b"/>
            <a:pathLst>
              <a:path w="96" h="624">
                <a:moveTo>
                  <a:pt x="0" y="0"/>
                </a:moveTo>
                <a:cubicBezTo>
                  <a:pt x="48" y="48"/>
                  <a:pt x="96" y="96"/>
                  <a:pt x="96" y="144"/>
                </a:cubicBezTo>
                <a:cubicBezTo>
                  <a:pt x="96" y="192"/>
                  <a:pt x="0" y="240"/>
                  <a:pt x="0" y="288"/>
                </a:cubicBezTo>
                <a:cubicBezTo>
                  <a:pt x="0" y="336"/>
                  <a:pt x="96" y="376"/>
                  <a:pt x="96" y="432"/>
                </a:cubicBezTo>
                <a:cubicBezTo>
                  <a:pt x="96" y="488"/>
                  <a:pt x="16" y="592"/>
                  <a:pt x="0" y="62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45"/>
          <p:cNvSpPr/>
          <p:nvPr/>
        </p:nvSpPr>
        <p:spPr>
          <a:xfrm>
            <a:off x="5562720" y="1752480"/>
            <a:ext cx="152280" cy="685800"/>
          </a:xfrm>
          <a:custGeom>
            <a:avLst/>
            <a:gdLst/>
            <a:ahLst/>
            <a:rect l="l" t="t" r="r" b="b"/>
            <a:pathLst>
              <a:path w="96" h="624">
                <a:moveTo>
                  <a:pt x="0" y="0"/>
                </a:moveTo>
                <a:cubicBezTo>
                  <a:pt x="48" y="48"/>
                  <a:pt x="96" y="96"/>
                  <a:pt x="96" y="144"/>
                </a:cubicBezTo>
                <a:cubicBezTo>
                  <a:pt x="96" y="192"/>
                  <a:pt x="0" y="240"/>
                  <a:pt x="0" y="288"/>
                </a:cubicBezTo>
                <a:cubicBezTo>
                  <a:pt x="0" y="336"/>
                  <a:pt x="96" y="376"/>
                  <a:pt x="96" y="432"/>
                </a:cubicBezTo>
                <a:cubicBezTo>
                  <a:pt x="96" y="488"/>
                  <a:pt x="16" y="592"/>
                  <a:pt x="0" y="62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46"/>
          <p:cNvSpPr/>
          <p:nvPr/>
        </p:nvSpPr>
        <p:spPr>
          <a:xfrm>
            <a:off x="5486400" y="3886200"/>
            <a:ext cx="152280" cy="685800"/>
          </a:xfrm>
          <a:custGeom>
            <a:avLst/>
            <a:gdLst/>
            <a:ahLst/>
            <a:rect l="l" t="t" r="r" b="b"/>
            <a:pathLst>
              <a:path w="96" h="624">
                <a:moveTo>
                  <a:pt x="0" y="0"/>
                </a:moveTo>
                <a:cubicBezTo>
                  <a:pt x="48" y="48"/>
                  <a:pt x="96" y="96"/>
                  <a:pt x="96" y="144"/>
                </a:cubicBezTo>
                <a:cubicBezTo>
                  <a:pt x="96" y="192"/>
                  <a:pt x="0" y="240"/>
                  <a:pt x="0" y="288"/>
                </a:cubicBezTo>
                <a:cubicBezTo>
                  <a:pt x="0" y="336"/>
                  <a:pt x="96" y="376"/>
                  <a:pt x="96" y="432"/>
                </a:cubicBezTo>
                <a:cubicBezTo>
                  <a:pt x="96" y="488"/>
                  <a:pt x="16" y="592"/>
                  <a:pt x="0" y="62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7"/>
              <p:cNvSpPr txBox="1"/>
              <p:nvPr/>
            </p:nvSpPr>
            <p:spPr>
              <a:xfrm>
                <a:off x="4876920" y="5181480"/>
                <a:ext cx="3429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AutoShape 49"/>
          <p:cNvSpPr/>
          <p:nvPr/>
        </p:nvSpPr>
        <p:spPr>
          <a:xfrm>
            <a:off x="762120" y="152388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0"/>
          <p:cNvSpPr/>
          <p:nvPr/>
        </p:nvSpPr>
        <p:spPr>
          <a:xfrm>
            <a:off x="137880" y="268596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53"/>
              <p:cNvSpPr txBox="1"/>
              <p:nvPr/>
            </p:nvSpPr>
            <p:spPr>
              <a:xfrm>
                <a:off x="1828800" y="5334120"/>
                <a:ext cx="25686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8" name="Text Box 54"/>
          <p:cNvSpPr/>
          <p:nvPr/>
        </p:nvSpPr>
        <p:spPr>
          <a:xfrm>
            <a:off x="4421520" y="5334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57"/>
              <p:cNvSpPr txBox="1"/>
              <p:nvPr/>
            </p:nvSpPr>
            <p:spPr>
              <a:xfrm>
                <a:off x="7696080" y="533520"/>
                <a:ext cx="10861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a maximal flow in the expanded network can be calcula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teps, a feasibility check can be done with the same complex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olve probl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o binary 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yields an ε-approximation algorithm with complexity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log(1/ε)+log(ma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beca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ertainly bound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Formulate the optimal policy and prove its optima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ure 5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523880" y="4343400"/>
            <a:ext cx="3656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5181480" y="4343400"/>
            <a:ext cx="27417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086520" y="4800600"/>
            <a:ext cx="18288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523880" y="4800600"/>
            <a:ext cx="1828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352680" y="4800600"/>
            <a:ext cx="274176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1523880" y="5257800"/>
            <a:ext cx="27417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4267080" y="5257800"/>
            <a:ext cx="365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1523880" y="579132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94080" y="43434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694080" y="48006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694080" y="52578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8307360" y="56386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220760" y="574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048120" y="2057400"/>
          <a:ext cx="4800600" cy="129528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  <a:gridCol w="799920"/>
                <a:gridCol w="800280"/>
                <a:gridCol w="799920"/>
                <a:gridCol w="800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45"/>
          <p:cNvSpPr/>
          <p:nvPr/>
        </p:nvSpPr>
        <p:spPr>
          <a:xfrm>
            <a:off x="745920" y="2228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6"/>
          <p:cNvSpPr/>
          <p:nvPr/>
        </p:nvSpPr>
        <p:spPr>
          <a:xfrm>
            <a:off x="7088040" y="58672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7"/>
          <p:cNvSpPr/>
          <p:nvPr/>
        </p:nvSpPr>
        <p:spPr>
          <a:xfrm>
            <a:off x="1523880" y="571500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8"/>
          <p:cNvSpPr/>
          <p:nvPr/>
        </p:nvSpPr>
        <p:spPr>
          <a:xfrm>
            <a:off x="7848720" y="57150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ure 5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143000" y="4343400"/>
            <a:ext cx="2879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019400" y="4343400"/>
            <a:ext cx="36007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180120" y="4800600"/>
            <a:ext cx="14400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143000" y="4800600"/>
            <a:ext cx="2879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011480" y="4800600"/>
            <a:ext cx="2160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1143000" y="5257800"/>
            <a:ext cx="21607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3292560" y="5257800"/>
            <a:ext cx="2879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>
            <a:off x="1143000" y="5791320"/>
            <a:ext cx="72388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160560" y="43434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160560" y="48006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160560" y="52578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8307360" y="56386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554040" y="574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048120" y="2057400"/>
          <a:ext cx="4800600" cy="129528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  <a:gridCol w="799920"/>
                <a:gridCol w="800280"/>
                <a:gridCol w="799920"/>
                <a:gridCol w="800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 Box 45"/>
          <p:cNvSpPr/>
          <p:nvPr/>
        </p:nvSpPr>
        <p:spPr>
          <a:xfrm>
            <a:off x="745920" y="2228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6"/>
          <p:cNvSpPr/>
          <p:nvPr/>
        </p:nvSpPr>
        <p:spPr>
          <a:xfrm>
            <a:off x="7142760" y="58672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7"/>
          <p:cNvSpPr/>
          <p:nvPr/>
        </p:nvSpPr>
        <p:spPr>
          <a:xfrm>
            <a:off x="1079640" y="57150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8"/>
          <p:cNvSpPr/>
          <p:nvPr/>
        </p:nvSpPr>
        <p:spPr>
          <a:xfrm>
            <a:off x="7559640" y="571500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| 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80880" y="1447920"/>
            <a:ext cx="8153640" cy="21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release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 due d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We have to find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emptive schedule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dentical machines su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the maximum lateness is minim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57200" y="36576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rst consider the decision version of this problem: Given some threshold val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es the exist a sched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7"/>
              <p:cNvSpPr txBox="1"/>
              <p:nvPr/>
            </p:nvSpPr>
            <p:spPr>
              <a:xfrm>
                <a:off x="2514600" y="4648320"/>
                <a:ext cx="41911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L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Text Box 9"/>
          <p:cNvSpPr/>
          <p:nvPr/>
        </p:nvSpPr>
        <p:spPr>
          <a:xfrm>
            <a:off x="668520" y="5629320"/>
            <a:ext cx="79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we want to find such a schedule if it exi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Wind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4"/>
              <p:cNvSpPr txBox="1"/>
              <p:nvPr/>
            </p:nvSpPr>
            <p:spPr>
              <a:xfrm>
                <a:off x="1371600" y="1676520"/>
                <a:ext cx="60958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all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Text Box 6"/>
          <p:cNvSpPr/>
          <p:nvPr/>
        </p:nvSpPr>
        <p:spPr>
          <a:xfrm>
            <a:off x="609480" y="2743200"/>
            <a:ext cx="7848720" cy="27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finish before the modified due da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cannot start before the release tim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.e. ea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processed in an interval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ssociated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We call these interval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wind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emptive Schedule with Time Wind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we address the general problem of finding a preemptive schedule for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cal machines such that all jobs are processed within their time windows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 This problem may be reduced to a maximum flow probl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5:41:35Z</dcterms:created>
  <dc:creator>Kononov</dc:creator>
  <dc:description/>
  <dc:language>en-US</dc:language>
  <cp:lastModifiedBy>Alexander Kononov</cp:lastModifiedBy>
  <dcterms:modified xsi:type="dcterms:W3CDTF">2016-04-06T09:20:50Z</dcterms:modified>
  <cp:revision>99</cp:revision>
  <dc:subject/>
  <dc:title>Parallel Machines</dc:title>
</cp:coreProperties>
</file>