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4DC-20DE-45E7-B1D4-D6863FB0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19D-0917-48C7-BF87-B2E7A8A7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0E87-C1EE-4DF2-96B8-9B2935A0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9E1F-1526-4957-9AF1-82A8E004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855-0B02-4111-B021-2F9AE4BE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45A-9807-4CD5-85E2-A861A975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545E-3359-4EB0-8863-AB52140D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8CA-2028-4AD4-9992-8A2A9E4B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277E-282A-4756-80A3-D76DDCFC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81DD-92E1-4BB1-9479-E4B4E80A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CEBE-EBFC-4D8C-88C6-1D1B35E4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C7E9-8F11-47C8-96E6-B07E7673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9757-5D8B-4944-9ECC-17833B8D9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Machin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on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nondecreasing sequenc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mallest numbers in the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     then schedule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job because we assu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ality of this strategy is a consequence of the following result about Monge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4038480" y="2666880"/>
                <a:ext cx="42674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6"/>
              <p:cNvSpPr txBox="1"/>
              <p:nvPr/>
            </p:nvSpPr>
            <p:spPr>
              <a:xfrm>
                <a:off x="1324080" y="3514680"/>
                <a:ext cx="10094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ge Arr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3"/>
              <p:cNvSpPr txBox="1"/>
              <p:nvPr/>
            </p:nvSpPr>
            <p:spPr>
              <a:xfrm>
                <a:off x="457200" y="1905120"/>
                <a:ext cx="8001000" cy="31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be arrays of real numbers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⋯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⋯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where 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the assignment problem given by the array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with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an optimal solution given b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if    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otherwise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olve this problem we apply an adapted version of the SPT-rule. Order the jobs according to nondecreasing processing requirements, and schedule each successive job preemptively so as to minimize it completion time. In other words, we schedule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fastest mach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til it is completed at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Then we schedule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first on mach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 units and then on mach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til it is completed.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 is schedule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 units,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 units, and on mach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til it is completed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066680" y="3429000"/>
            <a:ext cx="10670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141640" y="3429000"/>
            <a:ext cx="13636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1066680" y="4800600"/>
            <a:ext cx="5486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57400" y="34290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6529680" y="411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840240" y="4767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1050840" y="474804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1830240" y="47671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3175200" y="48006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9"/>
          <p:cNvSpPr/>
          <p:nvPr/>
        </p:nvSpPr>
        <p:spPr>
          <a:xfrm>
            <a:off x="2041560" y="474804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0"/>
          <p:cNvSpPr/>
          <p:nvPr/>
        </p:nvSpPr>
        <p:spPr>
          <a:xfrm>
            <a:off x="3419640" y="474804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5300640" y="48006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9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380880" y="1447920"/>
            <a:ext cx="8229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an in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2 machines and 10 job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9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8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081080" y="4121280"/>
            <a:ext cx="1052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2133720" y="4121280"/>
            <a:ext cx="13716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57400" y="41101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470400" y="4121280"/>
            <a:ext cx="20923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2"/>
          <p:cNvSpPr/>
          <p:nvPr/>
        </p:nvSpPr>
        <p:spPr>
          <a:xfrm>
            <a:off x="5543640" y="474804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896040" y="5715000"/>
            <a:ext cx="5699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mple interchange argument may be used to pr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rrectness of the algorith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related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be process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hi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ing time of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odel is a generalization of the uniform machine model we get by set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preemp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related machines model is a generalization of the uniform machine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 that, probl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only problem which was polynomially solvable in the case of non-preemptable jobs with arbitrary processing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how that a polynomial algorithm also exists for the corresponding problem with unrelated 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1066680" y="335268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752480" y="33526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1066680" y="3886200"/>
            <a:ext cx="7772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234360" y="335268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8663040" y="3424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763560" y="3835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381320" y="3859200"/>
            <a:ext cx="5295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1066680" y="38098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7620120" y="380988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2743200" y="335268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229120" y="3886200"/>
            <a:ext cx="11023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3761640" y="3886200"/>
            <a:ext cx="15318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5"/>
          <p:cNvSpPr/>
          <p:nvPr/>
        </p:nvSpPr>
        <p:spPr>
          <a:xfrm>
            <a:off x="1676520" y="380988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2666880" y="38098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7"/>
          <p:cNvSpPr/>
          <p:nvPr/>
        </p:nvSpPr>
        <p:spPr>
          <a:xfrm>
            <a:off x="4191120" y="380988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5791320" y="3352680"/>
            <a:ext cx="19047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6357960" y="3809880"/>
            <a:ext cx="23457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...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40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4267080" y="3352680"/>
            <a:ext cx="1524240" cy="474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1141560" y="1447920"/>
            <a:ext cx="7002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reduce this problem to assignment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equence of jo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ed on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4267080" y="5334120"/>
                <a:ext cx="4496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TextBox 1"/>
          <p:cNvSpPr/>
          <p:nvPr/>
        </p:nvSpPr>
        <p:spPr>
          <a:xfrm>
            <a:off x="362160" y="4419720"/>
            <a:ext cx="523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 contribution of these jo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objective func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fine a position of a job on a machine by considering the job processed last on the first position, the job processed second from last on the second position, etc. To solve probl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to assign the job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osi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achin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st of assigning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1066680" y="1828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752480" y="182880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1066680" y="2362320"/>
            <a:ext cx="7772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234360" y="182880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8612280" y="16765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763560" y="2311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1381320" y="2335320"/>
            <a:ext cx="5295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1"/>
          <p:cNvSpPr/>
          <p:nvPr/>
        </p:nvSpPr>
        <p:spPr>
          <a:xfrm>
            <a:off x="1066680" y="228600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2"/>
          <p:cNvSpPr/>
          <p:nvPr/>
        </p:nvSpPr>
        <p:spPr>
          <a:xfrm>
            <a:off x="7620120" y="22860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2743200" y="182880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2229120" y="2362320"/>
            <a:ext cx="11023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3761640" y="2362320"/>
            <a:ext cx="15318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6"/>
          <p:cNvSpPr/>
          <p:nvPr/>
        </p:nvSpPr>
        <p:spPr>
          <a:xfrm>
            <a:off x="1676520" y="22860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7"/>
          <p:cNvSpPr/>
          <p:nvPr/>
        </p:nvSpPr>
        <p:spPr>
          <a:xfrm>
            <a:off x="2666880" y="228600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8"/>
          <p:cNvSpPr/>
          <p:nvPr/>
        </p:nvSpPr>
        <p:spPr>
          <a:xfrm>
            <a:off x="4191120" y="22860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5791320" y="1828800"/>
            <a:ext cx="19047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0"/>
          <p:cNvSpPr/>
          <p:nvPr/>
        </p:nvSpPr>
        <p:spPr>
          <a:xfrm>
            <a:off x="6357960" y="2286000"/>
            <a:ext cx="23457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...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40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1"/>
          <p:cNvSpPr/>
          <p:nvPr/>
        </p:nvSpPr>
        <p:spPr>
          <a:xfrm>
            <a:off x="4267080" y="1828800"/>
            <a:ext cx="1524240" cy="474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y of Assignment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that an optimal solution of this assignment problem has the following proper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ome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ssigned to posi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1 on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there is also a job assigned to posi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on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wise, scheduling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posi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would improve the total assignment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lution of the Assignment Problem always yields an optimal solution of our scheduling probl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olve probl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wo ste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formulate a linear program to calculate for 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each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amount of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rks on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 optimal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truct a corresponding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066680" y="259092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752480" y="259092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1066680" y="3124080"/>
            <a:ext cx="7772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74320" y="259092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8682120" y="2438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763560" y="3073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380960" y="3097080"/>
            <a:ext cx="6987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1066680" y="30481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2"/>
          <p:cNvSpPr/>
          <p:nvPr/>
        </p:nvSpPr>
        <p:spPr>
          <a:xfrm>
            <a:off x="7620120" y="30481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2743200" y="259092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2228400" y="3124080"/>
            <a:ext cx="12672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3756240" y="3124080"/>
            <a:ext cx="16189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8"/>
          <p:cNvSpPr/>
          <p:nvPr/>
        </p:nvSpPr>
        <p:spPr>
          <a:xfrm>
            <a:off x="1676520" y="30481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9"/>
          <p:cNvSpPr/>
          <p:nvPr/>
        </p:nvSpPr>
        <p:spPr>
          <a:xfrm>
            <a:off x="2666880" y="30481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4191120" y="30481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5791320" y="2590920"/>
            <a:ext cx="19047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6351120" y="3048120"/>
            <a:ext cx="23994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4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...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40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4267080" y="25909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1153440" y="1447920"/>
            <a:ext cx="5803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quence of jo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processed on mach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977040" y="5257800"/>
            <a:ext cx="61790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that in an optimal schedule the jo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mach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equenced according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decreasing processing requirem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6"/>
              <p:cNvSpPr txBox="1"/>
              <p:nvPr/>
            </p:nvSpPr>
            <p:spPr>
              <a:xfrm>
                <a:off x="5257800" y="4340160"/>
                <a:ext cx="28623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TextBox 1"/>
          <p:cNvSpPr/>
          <p:nvPr/>
        </p:nvSpPr>
        <p:spPr>
          <a:xfrm>
            <a:off x="1083960" y="4414680"/>
            <a:ext cx="41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tribution of these job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integer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represents the total processing times of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processing times of that part of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ich is process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raction of time that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pends on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hold in order for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be comple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4267080" y="4419720"/>
                <a:ext cx="15242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762120" y="1600200"/>
                <a:ext cx="4584600" cy="487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 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TextBox 1"/>
          <p:cNvSpPr/>
          <p:nvPr/>
        </p:nvSpPr>
        <p:spPr>
          <a:xfrm>
            <a:off x="5375160" y="4016520"/>
            <a:ext cx="286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otal time job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ll mach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5401080" y="5029200"/>
            <a:ext cx="2829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otal time mach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nds processing jo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ptimal solution of LP determines for 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ach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amount of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rks on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 optimal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066680" y="3429000"/>
            <a:ext cx="15242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2598840" y="3429000"/>
            <a:ext cx="136368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257400" y="34290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081080" y="4121280"/>
            <a:ext cx="1052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2133720" y="4121280"/>
            <a:ext cx="137160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257400" y="41101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3470400" y="4121280"/>
            <a:ext cx="2092320" cy="431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066680" y="4724280"/>
            <a:ext cx="106704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141640" y="4724280"/>
            <a:ext cx="342108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257400" y="472428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081080" y="5416560"/>
            <a:ext cx="1052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2133720" y="5416560"/>
            <a:ext cx="1371600" cy="431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257400" y="54054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470400" y="5416560"/>
            <a:ext cx="209232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3962520" y="3429000"/>
            <a:ext cx="137160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1066680" y="6161040"/>
            <a:ext cx="5181840" cy="11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5476320" y="6167520"/>
            <a:ext cx="68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763560" y="611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8"/>
          <p:cNvSpPr/>
          <p:nvPr/>
        </p:nvSpPr>
        <p:spPr>
          <a:xfrm>
            <a:off x="5470560" y="608004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8"/>
          <p:cNvSpPr/>
          <p:nvPr/>
        </p:nvSpPr>
        <p:spPr>
          <a:xfrm>
            <a:off x="1066680" y="60958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ptimal solution of LP determines for 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ach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amount of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rks on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 optimal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we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2971800" y="3276720"/>
                <a:ext cx="40384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m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762120" y="1600200"/>
                <a:ext cx="4584600" cy="487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 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0" name="TextBox 1"/>
          <p:cNvSpPr/>
          <p:nvPr/>
        </p:nvSpPr>
        <p:spPr>
          <a:xfrm>
            <a:off x="5375160" y="4016520"/>
            <a:ext cx="286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otal time job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ll mach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5401080" y="5029200"/>
            <a:ext cx="2829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otal time mach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nds processing jo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ptimal solution of LP determines for 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ach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amount of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rks on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 optimal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we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oblem of finding a corresponding schedule is equivalent to the problem of finding a solution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2971800" y="3276720"/>
                <a:ext cx="40384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m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al schedul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achieves the b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al schedul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can be constructed in polynomial time by using the reduction to Bipartite Matching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2819520" y="2666880"/>
                <a:ext cx="40384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  <m:limLow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m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the jobs are numbered in nondecreasing  due date order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      be the total amount of time that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nds on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in the time peri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[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rthermore,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      be the total amount of time that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nds on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in the time peri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1219320" y="2514600"/>
                <a:ext cx="4777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8"/>
              <p:cNvSpPr txBox="1"/>
              <p:nvPr/>
            </p:nvSpPr>
            <p:spPr>
              <a:xfrm>
                <a:off x="5073480" y="3429000"/>
                <a:ext cx="5414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2" name="Line 6"/>
          <p:cNvSpPr/>
          <p:nvPr/>
        </p:nvSpPr>
        <p:spPr>
          <a:xfrm flipV="1">
            <a:off x="1066680" y="5333760"/>
            <a:ext cx="7391520" cy="42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8444160" y="4871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839880" y="5343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1"/>
          <p:cNvSpPr/>
          <p:nvPr/>
        </p:nvSpPr>
        <p:spPr>
          <a:xfrm>
            <a:off x="1050840" y="532440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5"/>
          <p:cNvSpPr/>
          <p:nvPr/>
        </p:nvSpPr>
        <p:spPr>
          <a:xfrm>
            <a:off x="1848960" y="53434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3193560" y="5376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9"/>
          <p:cNvSpPr/>
          <p:nvPr/>
        </p:nvSpPr>
        <p:spPr>
          <a:xfrm>
            <a:off x="2041560" y="532440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0"/>
          <p:cNvSpPr/>
          <p:nvPr/>
        </p:nvSpPr>
        <p:spPr>
          <a:xfrm>
            <a:off x="3419640" y="53244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2"/>
          <p:cNvSpPr/>
          <p:nvPr/>
        </p:nvSpPr>
        <p:spPr>
          <a:xfrm>
            <a:off x="5336640" y="5376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5543640" y="532440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2"/>
          <p:cNvSpPr/>
          <p:nvPr/>
        </p:nvSpPr>
        <p:spPr>
          <a:xfrm>
            <a:off x="6130440" y="53863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2"/>
          <p:cNvSpPr/>
          <p:nvPr/>
        </p:nvSpPr>
        <p:spPr>
          <a:xfrm>
            <a:off x="6337440" y="53341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 flipV="1">
            <a:off x="1066680" y="6176520"/>
            <a:ext cx="7391520" cy="42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8444160" y="5715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839880" y="618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1050840" y="616752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2638800" y="6186600"/>
            <a:ext cx="92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7"/>
          <p:cNvSpPr/>
          <p:nvPr/>
        </p:nvSpPr>
        <p:spPr>
          <a:xfrm>
            <a:off x="3976200" y="6219720"/>
            <a:ext cx="92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9"/>
          <p:cNvSpPr/>
          <p:nvPr/>
        </p:nvSpPr>
        <p:spPr>
          <a:xfrm>
            <a:off x="2803680" y="616752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0"/>
          <p:cNvSpPr/>
          <p:nvPr/>
        </p:nvSpPr>
        <p:spPr>
          <a:xfrm>
            <a:off x="4181400" y="616752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5851080" y="6219720"/>
            <a:ext cx="92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2"/>
          <p:cNvSpPr/>
          <p:nvPr/>
        </p:nvSpPr>
        <p:spPr>
          <a:xfrm>
            <a:off x="6305400" y="616752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2"/>
          <p:cNvSpPr/>
          <p:nvPr/>
        </p:nvSpPr>
        <p:spPr>
          <a:xfrm>
            <a:off x="6913080" y="6229440"/>
            <a:ext cx="92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7099200" y="61768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1600200" y="1371600"/>
                <a:ext cx="490212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rPr>
                            <m:lit/>
                            <m:nor/>
                          </m:rPr>
                          <m:t xml:space="preserve">min,</m:t>
                        </m:r>
                        <m:r>
                          <m:rPr>
                            <m:lit/>
                            <m:nor/>
                          </m:rPr>
                          <m:t xml:space="preserve">  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TextBox 3"/>
          <p:cNvSpPr/>
          <p:nvPr/>
        </p:nvSpPr>
        <p:spPr>
          <a:xfrm>
            <a:off x="5756040" y="2949480"/>
            <a:ext cx="2869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otal time job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all machine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5616360" y="4343400"/>
            <a:ext cx="3061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otal time mach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nds processing job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n optimal solution of this LP, an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ptimal schedule can be obtained by constructing for each of the time period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corresponding schedule using the data given by th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interva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 ge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stance of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and probl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olynomially solv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5562720" y="3505320"/>
                <a:ext cx="16002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bSup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nondecreasing sequenc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mallest numbers in the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     then schedule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job because we assu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4038480" y="2666880"/>
                <a:ext cx="42674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1295280" y="3514680"/>
                <a:ext cx="10670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te LP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,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380880" y="1447920"/>
            <a:ext cx="8229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an in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2 machines and 10 job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9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8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380880" y="1447920"/>
            <a:ext cx="8229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an in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2 machines and 10 job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9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8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380880" y="2724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, we find the 10 smallest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28"/>
              <p:cNvSpPr txBox="1"/>
              <p:nvPr/>
            </p:nvSpPr>
            <p:spPr>
              <a:xfrm>
                <a:off x="4578480" y="2627280"/>
                <a:ext cx="3193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80880" y="1447920"/>
            <a:ext cx="8229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an in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2 machines and 10 job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9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8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380880" y="2724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, we find the 10 smallest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4572000" y="3429000"/>
                <a:ext cx="32479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28"/>
              <p:cNvSpPr txBox="1"/>
              <p:nvPr/>
            </p:nvSpPr>
            <p:spPr>
              <a:xfrm>
                <a:off x="4578480" y="2627280"/>
                <a:ext cx="3193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Text Box 24"/>
          <p:cNvSpPr/>
          <p:nvPr/>
        </p:nvSpPr>
        <p:spPr>
          <a:xfrm>
            <a:off x="457200" y="371484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, we find the assig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066680" y="4648320"/>
            <a:ext cx="360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440000" y="464832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1003320" y="5996160"/>
            <a:ext cx="6997680" cy="237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7400" y="46483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7977240" y="5334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840240" y="5986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1620000" y="5986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100332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568332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895480" y="4648320"/>
            <a:ext cx="2880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2364120" y="5986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3068640" y="598644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8"/>
          <p:cNvSpPr/>
          <p:nvPr/>
        </p:nvSpPr>
        <p:spPr>
          <a:xfrm>
            <a:off x="1292400" y="59673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9"/>
          <p:cNvSpPr/>
          <p:nvPr/>
        </p:nvSpPr>
        <p:spPr>
          <a:xfrm>
            <a:off x="172404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0"/>
          <p:cNvSpPr/>
          <p:nvPr/>
        </p:nvSpPr>
        <p:spPr>
          <a:xfrm>
            <a:off x="431640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6876720" y="60199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380880" y="1447920"/>
            <a:ext cx="8229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an in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2 machines and 10 job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9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8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380880" y="2724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, we find the 10 smallest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4572000" y="3429000"/>
                <a:ext cx="32479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8"/>
              <p:cNvSpPr txBox="1"/>
              <p:nvPr/>
            </p:nvSpPr>
            <p:spPr>
              <a:xfrm>
                <a:off x="4578480" y="2627280"/>
                <a:ext cx="3193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Text Box 24"/>
          <p:cNvSpPr/>
          <p:nvPr/>
        </p:nvSpPr>
        <p:spPr>
          <a:xfrm>
            <a:off x="457200" y="371484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, we find the assig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57400" y="532908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8"/>
          <p:cNvSpPr/>
          <p:nvPr/>
        </p:nvSpPr>
        <p:spPr>
          <a:xfrm>
            <a:off x="136368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9"/>
          <p:cNvSpPr/>
          <p:nvPr/>
        </p:nvSpPr>
        <p:spPr>
          <a:xfrm>
            <a:off x="2443320" y="59673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9"/>
          <p:cNvSpPr/>
          <p:nvPr/>
        </p:nvSpPr>
        <p:spPr>
          <a:xfrm>
            <a:off x="2803680" y="59673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9"/>
          <p:cNvSpPr/>
          <p:nvPr/>
        </p:nvSpPr>
        <p:spPr>
          <a:xfrm>
            <a:off x="323532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0"/>
          <p:cNvSpPr/>
          <p:nvPr/>
        </p:nvSpPr>
        <p:spPr>
          <a:xfrm>
            <a:off x="561168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705168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5505120" y="60199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4117680" y="598644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7467480" y="3429000"/>
            <a:ext cx="304920" cy="9144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4"/>
          <p:cNvSpPr/>
          <p:nvPr/>
        </p:nvSpPr>
        <p:spPr>
          <a:xfrm>
            <a:off x="6477120" y="3429000"/>
            <a:ext cx="304560" cy="9144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5"/>
          <p:cNvSpPr/>
          <p:nvPr/>
        </p:nvSpPr>
        <p:spPr>
          <a:xfrm>
            <a:off x="5181480" y="3429000"/>
            <a:ext cx="304920" cy="9144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066680" y="4648320"/>
            <a:ext cx="360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440000" y="464832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 flipV="1">
            <a:off x="1003320" y="5996160"/>
            <a:ext cx="6997680" cy="237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257400" y="46483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7977240" y="5334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840240" y="5986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678680" y="5943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100332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568332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2895480" y="4648320"/>
            <a:ext cx="2880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2364120" y="5986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3068640" y="598644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1292400" y="59673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9"/>
          <p:cNvSpPr/>
          <p:nvPr/>
        </p:nvSpPr>
        <p:spPr>
          <a:xfrm>
            <a:off x="172404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0"/>
          <p:cNvSpPr/>
          <p:nvPr/>
        </p:nvSpPr>
        <p:spPr>
          <a:xfrm>
            <a:off x="431640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5688000" y="5338800"/>
            <a:ext cx="1440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6876720" y="60199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3"/>
          <p:cNvSpPr/>
          <p:nvPr/>
        </p:nvSpPr>
        <p:spPr>
          <a:xfrm>
            <a:off x="2519280" y="5338800"/>
            <a:ext cx="8654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380880" y="1447920"/>
            <a:ext cx="8229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an in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2 machines and 10 job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9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8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7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,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4"/>
          <p:cNvSpPr/>
          <p:nvPr/>
        </p:nvSpPr>
        <p:spPr>
          <a:xfrm>
            <a:off x="380880" y="2724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, we find the 10 smallest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4572000" y="3429000"/>
                <a:ext cx="32479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8"/>
              <p:cNvSpPr txBox="1"/>
              <p:nvPr/>
            </p:nvSpPr>
            <p:spPr>
              <a:xfrm>
                <a:off x="4578480" y="2627280"/>
                <a:ext cx="3193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24"/>
          <p:cNvSpPr/>
          <p:nvPr/>
        </p:nvSpPr>
        <p:spPr>
          <a:xfrm>
            <a:off x="457200" y="371484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, we find the assig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066680" y="5340240"/>
            <a:ext cx="287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368360" y="5340240"/>
            <a:ext cx="432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57400" y="532908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1800360" y="5340240"/>
            <a:ext cx="718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4392720" y="5340240"/>
            <a:ext cx="1295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3384720" y="5340240"/>
            <a:ext cx="1008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8"/>
          <p:cNvSpPr/>
          <p:nvPr/>
        </p:nvSpPr>
        <p:spPr>
          <a:xfrm>
            <a:off x="136368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9"/>
          <p:cNvSpPr/>
          <p:nvPr/>
        </p:nvSpPr>
        <p:spPr>
          <a:xfrm>
            <a:off x="2443320" y="59673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803680" y="59673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323532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0"/>
          <p:cNvSpPr/>
          <p:nvPr/>
        </p:nvSpPr>
        <p:spPr>
          <a:xfrm>
            <a:off x="561168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2"/>
          <p:cNvSpPr/>
          <p:nvPr/>
        </p:nvSpPr>
        <p:spPr>
          <a:xfrm>
            <a:off x="7051680" y="59673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2"/>
          <p:cNvSpPr/>
          <p:nvPr/>
        </p:nvSpPr>
        <p:spPr>
          <a:xfrm>
            <a:off x="5505120" y="60199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2"/>
          <p:cNvSpPr/>
          <p:nvPr/>
        </p:nvSpPr>
        <p:spPr>
          <a:xfrm>
            <a:off x="4117680" y="598644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nondecreasing sequenc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mallest numbers in the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     then schedule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job because we assu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4038480" y="2666880"/>
                <a:ext cx="42674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6"/>
              <p:cNvSpPr txBox="1"/>
              <p:nvPr/>
            </p:nvSpPr>
            <p:spPr>
              <a:xfrm>
                <a:off x="1295280" y="3514680"/>
                <a:ext cx="10670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0:52:04Z</dcterms:created>
  <dc:creator>Kononov</dc:creator>
  <dc:description/>
  <dc:language>en-US</dc:language>
  <cp:lastModifiedBy>Alexander Kononov</cp:lastModifiedBy>
  <cp:lastPrinted>2016-04-05T04:51:26Z</cp:lastPrinted>
  <dcterms:modified xsi:type="dcterms:W3CDTF">2016-04-13T09:13:22Z</dcterms:modified>
  <cp:revision>81</cp:revision>
  <dc:subject/>
  <dc:title>Parallel Machines</dc:title>
</cp:coreProperties>
</file>