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BDA-D470-4C6F-8821-BEE72A28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227-63B2-4A09-8AE7-14446248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292-969C-4E19-9BCB-665DE70A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265-201E-43A2-9CB4-7449CC60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B26-569B-4CB6-8D63-596D153C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DDF-9BC2-4FA4-BC93-F490FF4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098-8C0E-4E52-BFB6-32B2CE9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0A3-EADB-4B10-B713-962A8A48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952-33FE-4835-BB77-537C4A87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639-1FC4-4DFF-944E-4A240F73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FF7-D065-4F57-8A6A-A5BA7C42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968-1C7D-44C2-8EF2-BB888D5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B53C-92A6-4A06-BCA2-B1C5C324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p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other hand, an arbitrary feasible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s an order of operations for each job and each machine. This induces a complete sel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given a regular objective function, the corresponding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worse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us, a complete selection always exists which represents an optimal sched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shop 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pecial case of the general shop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no precedence relations between the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problem is to 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b ord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hine ord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two machines and denot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rocessing times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n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e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  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termine job with the largest small oper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is constructed by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n an arbitrary order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arbitrary order, and, finally,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n the same order as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are schedul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finally, all job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same order as on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629400" y="45720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057400" y="45720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657600" y="4572000"/>
            <a:ext cx="2971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410080" y="502920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895480" y="50292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057400" y="50292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1449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44972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075680" y="3352680"/>
            <a:ext cx="6930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1905120" y="1752480"/>
            <a:ext cx="42670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705720" y="50292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867280" y="45720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95480" y="4572000"/>
            <a:ext cx="2971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057400" y="502920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191120" y="50292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057400" y="45720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449720" y="457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449720" y="502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075680" y="3352680"/>
            <a:ext cx="69307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max{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1905120" y="1752480"/>
            <a:ext cx="42670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1189080" y="3368520"/>
            <a:ext cx="36504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118908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278928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1951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195120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4237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39876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438948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598968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5151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515160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7437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659916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7437600" y="260676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AutoShape 18"/>
          <p:cNvCxnSpPr>
            <a:stCxn id="232" idx="6"/>
            <a:endCxn id="235" idx="2"/>
          </p:cNvCxnSpPr>
          <p:nvPr/>
        </p:nvCxnSpPr>
        <p:spPr>
          <a:xfrm>
            <a:off x="15537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AutoShape 19"/>
          <p:cNvCxnSpPr>
            <a:stCxn id="231" idx="6"/>
            <a:endCxn id="234" idx="2"/>
          </p:cNvCxnSpPr>
          <p:nvPr/>
        </p:nvCxnSpPr>
        <p:spPr>
          <a:xfrm>
            <a:off x="1553760" y="355104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20"/>
          <p:cNvCxnSpPr>
            <a:stCxn id="235" idx="6"/>
            <a:endCxn id="237" idx="2"/>
          </p:cNvCxnSpPr>
          <p:nvPr/>
        </p:nvCxnSpPr>
        <p:spPr>
          <a:xfrm>
            <a:off x="23158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21"/>
          <p:cNvCxnSpPr>
            <a:stCxn id="234" idx="6"/>
            <a:endCxn id="233" idx="2"/>
          </p:cNvCxnSpPr>
          <p:nvPr/>
        </p:nvCxnSpPr>
        <p:spPr>
          <a:xfrm>
            <a:off x="23162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22"/>
          <p:cNvCxnSpPr>
            <a:stCxn id="233" idx="6"/>
            <a:endCxn id="236" idx="2"/>
          </p:cNvCxnSpPr>
          <p:nvPr/>
        </p:nvCxnSpPr>
        <p:spPr>
          <a:xfrm>
            <a:off x="31543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23"/>
          <p:cNvCxnSpPr>
            <a:stCxn id="241" idx="6"/>
            <a:endCxn id="243" idx="2"/>
          </p:cNvCxnSpPr>
          <p:nvPr/>
        </p:nvCxnSpPr>
        <p:spPr>
          <a:xfrm>
            <a:off x="55162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24"/>
          <p:cNvCxnSpPr>
            <a:stCxn id="239" idx="6"/>
            <a:endCxn id="242" idx="2"/>
          </p:cNvCxnSpPr>
          <p:nvPr/>
        </p:nvCxnSpPr>
        <p:spPr>
          <a:xfrm>
            <a:off x="63547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Oval 25"/>
          <p:cNvSpPr/>
          <p:nvPr/>
        </p:nvSpPr>
        <p:spPr>
          <a:xfrm>
            <a:off x="27468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26"/>
          <p:cNvCxnSpPr>
            <a:stCxn id="238" idx="6"/>
            <a:endCxn id="241" idx="2"/>
          </p:cNvCxnSpPr>
          <p:nvPr/>
        </p:nvCxnSpPr>
        <p:spPr>
          <a:xfrm>
            <a:off x="47541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27"/>
          <p:cNvCxnSpPr>
            <a:stCxn id="240" idx="6"/>
            <a:endCxn id="239" idx="2"/>
          </p:cNvCxnSpPr>
          <p:nvPr/>
        </p:nvCxnSpPr>
        <p:spPr>
          <a:xfrm>
            <a:off x="55166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AutoShape 28"/>
          <p:cNvCxnSpPr>
            <a:stCxn id="243" idx="6"/>
            <a:endCxn id="244" idx="2"/>
          </p:cNvCxnSpPr>
          <p:nvPr/>
        </p:nvCxnSpPr>
        <p:spPr>
          <a:xfrm>
            <a:off x="6963840" y="2788920"/>
            <a:ext cx="4741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29"/>
          <p:cNvCxnSpPr>
            <a:stCxn id="237" idx="6"/>
            <a:endCxn id="238" idx="2"/>
          </p:cNvCxnSpPr>
          <p:nvPr/>
        </p:nvCxnSpPr>
        <p:spPr>
          <a:xfrm>
            <a:off x="3763800" y="2788920"/>
            <a:ext cx="6260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30"/>
          <p:cNvCxnSpPr>
            <a:stCxn id="236" idx="6"/>
            <a:endCxn id="240" idx="2"/>
          </p:cNvCxnSpPr>
          <p:nvPr/>
        </p:nvCxnSpPr>
        <p:spPr>
          <a:xfrm>
            <a:off x="4602240" y="3551040"/>
            <a:ext cx="550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31"/>
          <p:cNvCxnSpPr>
            <a:stCxn id="252" idx="7"/>
            <a:endCxn id="232" idx="2"/>
          </p:cNvCxnSpPr>
          <p:nvPr/>
        </p:nvCxnSpPr>
        <p:spPr>
          <a:xfrm flipV="1">
            <a:off x="585720" y="278856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32"/>
          <p:cNvCxnSpPr>
            <a:stCxn id="252" idx="5"/>
            <a:endCxn id="231" idx="2"/>
          </p:cNvCxnSpPr>
          <p:nvPr/>
        </p:nvCxnSpPr>
        <p:spPr>
          <a:xfrm>
            <a:off x="585720" y="3298680"/>
            <a:ext cx="603720" cy="25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Oval 33"/>
          <p:cNvSpPr/>
          <p:nvPr/>
        </p:nvSpPr>
        <p:spPr>
          <a:xfrm>
            <a:off x="835200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34"/>
          <p:cNvCxnSpPr>
            <a:stCxn id="244" idx="5"/>
            <a:endCxn id="260" idx="2"/>
          </p:cNvCxnSpPr>
          <p:nvPr/>
        </p:nvCxnSpPr>
        <p:spPr>
          <a:xfrm>
            <a:off x="7748640" y="291744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35"/>
          <p:cNvCxnSpPr>
            <a:stCxn id="242" idx="6"/>
            <a:endCxn id="260" idx="2"/>
          </p:cNvCxnSpPr>
          <p:nvPr/>
        </p:nvCxnSpPr>
        <p:spPr>
          <a:xfrm flipV="1">
            <a:off x="7802640" y="3169440"/>
            <a:ext cx="550080" cy="381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36"/>
          <p:cNvCxnSpPr>
            <a:stCxn id="232" idx="5"/>
            <a:endCxn id="234" idx="1"/>
          </p:cNvCxnSpPr>
          <p:nvPr/>
        </p:nvCxnSpPr>
        <p:spPr>
          <a:xfrm>
            <a:off x="1500120" y="2917800"/>
            <a:ext cx="50544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37"/>
          <p:cNvCxnSpPr>
            <a:stCxn id="235" idx="5"/>
            <a:endCxn id="233" idx="1"/>
          </p:cNvCxnSpPr>
          <p:nvPr/>
        </p:nvCxnSpPr>
        <p:spPr>
          <a:xfrm>
            <a:off x="226224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AutoShape 38"/>
          <p:cNvCxnSpPr>
            <a:stCxn id="237" idx="5"/>
            <a:endCxn id="236" idx="1"/>
          </p:cNvCxnSpPr>
          <p:nvPr/>
        </p:nvCxnSpPr>
        <p:spPr>
          <a:xfrm>
            <a:off x="370980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AutoShape 39"/>
          <p:cNvCxnSpPr>
            <a:stCxn id="238" idx="5"/>
            <a:endCxn id="240" idx="1"/>
          </p:cNvCxnSpPr>
          <p:nvPr/>
        </p:nvCxnSpPr>
        <p:spPr>
          <a:xfrm>
            <a:off x="4700520" y="2917800"/>
            <a:ext cx="50544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0"/>
          <p:cNvCxnSpPr>
            <a:stCxn id="241" idx="5"/>
            <a:endCxn id="239" idx="1"/>
          </p:cNvCxnSpPr>
          <p:nvPr/>
        </p:nvCxnSpPr>
        <p:spPr>
          <a:xfrm>
            <a:off x="546264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1"/>
          <p:cNvCxnSpPr>
            <a:stCxn id="243" idx="5"/>
            <a:endCxn id="242" idx="1"/>
          </p:cNvCxnSpPr>
          <p:nvPr/>
        </p:nvCxnSpPr>
        <p:spPr>
          <a:xfrm>
            <a:off x="6910200" y="2917800"/>
            <a:ext cx="581400" cy="505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42"/>
          <p:cNvCxnSpPr>
            <a:stCxn id="231" idx="0"/>
            <a:endCxn id="244" idx="4"/>
          </p:cNvCxnSpPr>
          <p:nvPr/>
        </p:nvCxnSpPr>
        <p:spPr>
          <a:xfrm flipV="1">
            <a:off x="1371240" y="2971440"/>
            <a:ext cx="6249240" cy="397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AutoShape 43"/>
          <p:cNvSpPr/>
          <p:nvPr/>
        </p:nvSpPr>
        <p:spPr>
          <a:xfrm rot="5400000">
            <a:off x="22935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2028960" y="169236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6"/>
          <p:cNvSpPr/>
          <p:nvPr/>
        </p:nvSpPr>
        <p:spPr>
          <a:xfrm rot="5400000">
            <a:off x="54939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4579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352800" y="1539720"/>
            <a:ext cx="7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1"/>
          <p:cNvSpPr/>
          <p:nvPr/>
        </p:nvSpPr>
        <p:spPr>
          <a:xfrm>
            <a:off x="706680" y="4114800"/>
            <a:ext cx="661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2"/>
          <p:cNvSpPr/>
          <p:nvPr/>
        </p:nvSpPr>
        <p:spPr>
          <a:xfrm>
            <a:off x="706680" y="5029200"/>
            <a:ext cx="661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2072880" y="5861160"/>
            <a:ext cx="303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189080" y="3368520"/>
            <a:ext cx="365040" cy="36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118908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78928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1951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195120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8"/>
          <p:cNvSpPr/>
          <p:nvPr/>
        </p:nvSpPr>
        <p:spPr>
          <a:xfrm>
            <a:off x="4237200" y="3368520"/>
            <a:ext cx="365040" cy="36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3398760" y="2606760"/>
            <a:ext cx="36504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38948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598968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5151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3"/>
          <p:cNvSpPr/>
          <p:nvPr/>
        </p:nvSpPr>
        <p:spPr>
          <a:xfrm>
            <a:off x="515160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7437600" y="3368520"/>
            <a:ext cx="365040" cy="365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5"/>
          <p:cNvSpPr/>
          <p:nvPr/>
        </p:nvSpPr>
        <p:spPr>
          <a:xfrm>
            <a:off x="6599160" y="2606760"/>
            <a:ext cx="365040" cy="36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6"/>
          <p:cNvSpPr/>
          <p:nvPr/>
        </p:nvSpPr>
        <p:spPr>
          <a:xfrm>
            <a:off x="7437600" y="2606760"/>
            <a:ext cx="365040" cy="365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AutoShape 17"/>
          <p:cNvCxnSpPr>
            <a:stCxn id="280" idx="6"/>
            <a:endCxn id="283" idx="2"/>
          </p:cNvCxnSpPr>
          <p:nvPr/>
        </p:nvCxnSpPr>
        <p:spPr>
          <a:xfrm>
            <a:off x="15537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AutoShape 18"/>
          <p:cNvCxnSpPr>
            <a:stCxn id="279" idx="6"/>
            <a:endCxn id="282" idx="2"/>
          </p:cNvCxnSpPr>
          <p:nvPr/>
        </p:nvCxnSpPr>
        <p:spPr>
          <a:xfrm>
            <a:off x="1553760" y="355104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19"/>
          <p:cNvCxnSpPr>
            <a:stCxn id="283" idx="6"/>
            <a:endCxn id="285" idx="2"/>
          </p:cNvCxnSpPr>
          <p:nvPr/>
        </p:nvCxnSpPr>
        <p:spPr>
          <a:xfrm>
            <a:off x="23158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20"/>
          <p:cNvCxnSpPr>
            <a:stCxn id="282" idx="6"/>
            <a:endCxn id="281" idx="2"/>
          </p:cNvCxnSpPr>
          <p:nvPr/>
        </p:nvCxnSpPr>
        <p:spPr>
          <a:xfrm>
            <a:off x="23162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AutoShape 21"/>
          <p:cNvCxnSpPr>
            <a:stCxn id="281" idx="6"/>
            <a:endCxn id="284" idx="2"/>
          </p:cNvCxnSpPr>
          <p:nvPr/>
        </p:nvCxnSpPr>
        <p:spPr>
          <a:xfrm>
            <a:off x="31543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AutoShape 22"/>
          <p:cNvCxnSpPr>
            <a:stCxn id="289" idx="6"/>
            <a:endCxn id="291" idx="2"/>
          </p:cNvCxnSpPr>
          <p:nvPr/>
        </p:nvCxnSpPr>
        <p:spPr>
          <a:xfrm>
            <a:off x="5516280" y="278892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AutoShape 23"/>
          <p:cNvCxnSpPr>
            <a:stCxn id="287" idx="6"/>
            <a:endCxn id="290" idx="2"/>
          </p:cNvCxnSpPr>
          <p:nvPr/>
        </p:nvCxnSpPr>
        <p:spPr>
          <a:xfrm>
            <a:off x="6354720" y="3551040"/>
            <a:ext cx="1083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Oval 24"/>
          <p:cNvSpPr/>
          <p:nvPr/>
        </p:nvSpPr>
        <p:spPr>
          <a:xfrm>
            <a:off x="27468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25"/>
          <p:cNvCxnSpPr>
            <a:stCxn id="286" idx="6"/>
            <a:endCxn id="289" idx="2"/>
          </p:cNvCxnSpPr>
          <p:nvPr/>
        </p:nvCxnSpPr>
        <p:spPr>
          <a:xfrm>
            <a:off x="4754160" y="2788920"/>
            <a:ext cx="397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AutoShape 26"/>
          <p:cNvCxnSpPr>
            <a:stCxn id="288" idx="6"/>
            <a:endCxn id="287" idx="2"/>
          </p:cNvCxnSpPr>
          <p:nvPr/>
        </p:nvCxnSpPr>
        <p:spPr>
          <a:xfrm>
            <a:off x="5516640" y="3551040"/>
            <a:ext cx="4737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AutoShape 27"/>
          <p:cNvCxnSpPr>
            <a:stCxn id="291" idx="6"/>
            <a:endCxn id="292" idx="2"/>
          </p:cNvCxnSpPr>
          <p:nvPr/>
        </p:nvCxnSpPr>
        <p:spPr>
          <a:xfrm>
            <a:off x="6963840" y="2788920"/>
            <a:ext cx="4741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AutoShape 28"/>
          <p:cNvCxnSpPr>
            <a:stCxn id="285" idx="6"/>
            <a:endCxn id="286" idx="2"/>
          </p:cNvCxnSpPr>
          <p:nvPr/>
        </p:nvCxnSpPr>
        <p:spPr>
          <a:xfrm>
            <a:off x="3763800" y="2788920"/>
            <a:ext cx="6260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AutoShape 29"/>
          <p:cNvCxnSpPr>
            <a:stCxn id="284" idx="6"/>
            <a:endCxn id="288" idx="2"/>
          </p:cNvCxnSpPr>
          <p:nvPr/>
        </p:nvCxnSpPr>
        <p:spPr>
          <a:xfrm>
            <a:off x="4602240" y="3551040"/>
            <a:ext cx="550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AutoShape 30"/>
          <p:cNvCxnSpPr>
            <a:stCxn id="300" idx="7"/>
            <a:endCxn id="280" idx="2"/>
          </p:cNvCxnSpPr>
          <p:nvPr/>
        </p:nvCxnSpPr>
        <p:spPr>
          <a:xfrm flipV="1">
            <a:off x="585720" y="278856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AutoShape 31"/>
          <p:cNvCxnSpPr>
            <a:stCxn id="300" idx="5"/>
            <a:endCxn id="279" idx="2"/>
          </p:cNvCxnSpPr>
          <p:nvPr/>
        </p:nvCxnSpPr>
        <p:spPr>
          <a:xfrm>
            <a:off x="585720" y="3298680"/>
            <a:ext cx="603720" cy="25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Oval 32"/>
          <p:cNvSpPr/>
          <p:nvPr/>
        </p:nvSpPr>
        <p:spPr>
          <a:xfrm>
            <a:off x="8352000" y="2987640"/>
            <a:ext cx="36504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AutoShape 33"/>
          <p:cNvCxnSpPr>
            <a:stCxn id="292" idx="5"/>
            <a:endCxn id="308" idx="2"/>
          </p:cNvCxnSpPr>
          <p:nvPr/>
        </p:nvCxnSpPr>
        <p:spPr>
          <a:xfrm>
            <a:off x="7748640" y="2917440"/>
            <a:ext cx="603720" cy="253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34"/>
          <p:cNvCxnSpPr>
            <a:stCxn id="290" idx="6"/>
            <a:endCxn id="308" idx="2"/>
          </p:cNvCxnSpPr>
          <p:nvPr/>
        </p:nvCxnSpPr>
        <p:spPr>
          <a:xfrm flipV="1">
            <a:off x="7802640" y="3169440"/>
            <a:ext cx="550080" cy="3819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5"/>
          <p:cNvCxnSpPr>
            <a:stCxn id="280" idx="5"/>
            <a:endCxn id="282" idx="1"/>
          </p:cNvCxnSpPr>
          <p:nvPr/>
        </p:nvCxnSpPr>
        <p:spPr>
          <a:xfrm>
            <a:off x="1500120" y="2917800"/>
            <a:ext cx="50544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2" name="AutoShape 36"/>
          <p:cNvCxnSpPr>
            <a:stCxn id="283" idx="5"/>
            <a:endCxn id="281" idx="1"/>
          </p:cNvCxnSpPr>
          <p:nvPr/>
        </p:nvCxnSpPr>
        <p:spPr>
          <a:xfrm>
            <a:off x="226224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AutoShape 37"/>
          <p:cNvCxnSpPr>
            <a:stCxn id="285" idx="5"/>
            <a:endCxn id="284" idx="1"/>
          </p:cNvCxnSpPr>
          <p:nvPr/>
        </p:nvCxnSpPr>
        <p:spPr>
          <a:xfrm>
            <a:off x="370980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4" name="AutoShape 38"/>
          <p:cNvCxnSpPr>
            <a:stCxn id="286" idx="5"/>
            <a:endCxn id="288" idx="1"/>
          </p:cNvCxnSpPr>
          <p:nvPr/>
        </p:nvCxnSpPr>
        <p:spPr>
          <a:xfrm>
            <a:off x="4700520" y="2917800"/>
            <a:ext cx="50544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5" name="AutoShape 39"/>
          <p:cNvCxnSpPr>
            <a:stCxn id="289" idx="5"/>
            <a:endCxn id="287" idx="1"/>
          </p:cNvCxnSpPr>
          <p:nvPr/>
        </p:nvCxnSpPr>
        <p:spPr>
          <a:xfrm>
            <a:off x="546264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6" name="AutoShape 40"/>
          <p:cNvCxnSpPr>
            <a:stCxn id="291" idx="5"/>
            <a:endCxn id="290" idx="1"/>
          </p:cNvCxnSpPr>
          <p:nvPr/>
        </p:nvCxnSpPr>
        <p:spPr>
          <a:xfrm>
            <a:off x="6910200" y="2917800"/>
            <a:ext cx="581400" cy="5054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7" name="AutoShape 41"/>
          <p:cNvCxnSpPr>
            <a:stCxn id="279" idx="0"/>
            <a:endCxn id="292" idx="4"/>
          </p:cNvCxnSpPr>
          <p:nvPr/>
        </p:nvCxnSpPr>
        <p:spPr>
          <a:xfrm flipV="1">
            <a:off x="1371240" y="2971440"/>
            <a:ext cx="6249240" cy="397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AutoShape 42"/>
          <p:cNvSpPr/>
          <p:nvPr/>
        </p:nvSpPr>
        <p:spPr>
          <a:xfrm rot="5400000">
            <a:off x="22935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3"/>
          <p:cNvSpPr/>
          <p:nvPr/>
        </p:nvSpPr>
        <p:spPr>
          <a:xfrm>
            <a:off x="1601640" y="175248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 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= {1,..., 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4"/>
          <p:cNvSpPr/>
          <p:nvPr/>
        </p:nvSpPr>
        <p:spPr>
          <a:xfrm rot="5400000">
            <a:off x="5493960" y="112032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5"/>
          <p:cNvSpPr/>
          <p:nvPr/>
        </p:nvSpPr>
        <p:spPr>
          <a:xfrm>
            <a:off x="5030640" y="175248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6"/>
          <p:cNvSpPr/>
          <p:nvPr/>
        </p:nvSpPr>
        <p:spPr>
          <a:xfrm>
            <a:off x="352800" y="1539720"/>
            <a:ext cx="7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7"/>
          <p:cNvSpPr/>
          <p:nvPr/>
        </p:nvSpPr>
        <p:spPr>
          <a:xfrm>
            <a:off x="739800" y="3962520"/>
            <a:ext cx="768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3"/>
          <p:cNvSpPr/>
          <p:nvPr/>
        </p:nvSpPr>
        <p:spPr>
          <a:xfrm>
            <a:off x="7774560" y="198108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95280" y="3886200"/>
                <a:ext cx="609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7" name="Rectangle 5"/>
          <p:cNvSpPr/>
          <p:nvPr/>
        </p:nvSpPr>
        <p:spPr>
          <a:xfrm>
            <a:off x="201960" y="2666880"/>
            <a:ext cx="4012560" cy="6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88680" y="2666880"/>
            <a:ext cx="4565880" cy="6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914400" y="1828800"/>
            <a:ext cx="6135840" cy="53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2057400" y="3276720"/>
            <a:ext cx="1371600" cy="9144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5257800" y="3276720"/>
            <a:ext cx="990720" cy="9144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6"/>
              <p:cNvSpPr txBox="1"/>
              <p:nvPr/>
            </p:nvSpPr>
            <p:spPr>
              <a:xfrm>
                <a:off x="457200" y="5410080"/>
                <a:ext cx="6222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Rectangle 7"/>
          <p:cNvSpPr/>
          <p:nvPr/>
        </p:nvSpPr>
        <p:spPr>
          <a:xfrm>
            <a:off x="914400" y="1828800"/>
            <a:ext cx="6135840" cy="53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474840" y="2714760"/>
            <a:ext cx="38937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2057400" y="3276720"/>
            <a:ext cx="457200" cy="243828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793240" y="3581280"/>
            <a:ext cx="6370560" cy="1065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{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}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2"/>
          <p:cNvSpPr/>
          <p:nvPr/>
        </p:nvSpPr>
        <p:spPr>
          <a:xfrm flipH="1">
            <a:off x="5638320" y="4572000"/>
            <a:ext cx="304920" cy="114300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Sho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a set of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be processed on a machin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re may be precedence relations between the operations of all jobs. Each job can be processed only by one machine at a time. The objective is to find a feasible schedule that minimizes some objective function of the finishing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objective functions are assumed to be 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 shop probl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general shop problem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ocessing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processed 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precedence relations of the 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each job is first processed on machine 1, then on machine 2, then on machine 3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problem is to fin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b ord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machin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chedule exists with the following prope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 sequence on the first two machines i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b sequence on the last two machines i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095880" y="39625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809880" y="3505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352680" y="350532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267080" y="35053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5257800" y="3962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1523880" y="44956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94080" y="3505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694080" y="39625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8307360" y="4343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220760" y="444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1523880" y="4419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6"/>
          <p:cNvSpPr/>
          <p:nvPr/>
        </p:nvSpPr>
        <p:spPr>
          <a:xfrm flipH="1">
            <a:off x="152388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 flipH="1">
            <a:off x="1523880" y="39625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1981440" y="35053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"/>
          <p:cNvSpPr/>
          <p:nvPr/>
        </p:nvSpPr>
        <p:spPr>
          <a:xfrm>
            <a:off x="4419720" y="3962520"/>
            <a:ext cx="8380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 flipH="1">
            <a:off x="1523880" y="4419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2667240" y="3962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715000" y="3505320"/>
            <a:ext cx="3906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 flipH="1">
            <a:off x="601992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H="1">
            <a:off x="60958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 flipH="1">
            <a:off x="60958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367560" y="1371600"/>
            <a:ext cx="841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 optimal schedule in which the processing ord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achines is identical for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heduled jobs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aximal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 job and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the job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2 after the second operation of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426960" y="4994280"/>
            <a:ext cx="8479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 machine 1 we shift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position immediately after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ve the jobs scheduled previously between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jo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units to the right, we get another optimal schedule.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dict the maxima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mutation Flow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ow shop is called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mutation flow sho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lution are restricted to job sequences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...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6.8 shows that for two and three machines the optimal solution of the flow problem is not better than that of the corresponding permutation flow sho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mach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952880" y="1676520"/>
          <a:ext cx="3886200" cy="155412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7960"/>
                <a:gridCol w="777960"/>
                <a:gridCol w="77616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72" name="Rectangle 35"/>
          <p:cNvSpPr/>
          <p:nvPr/>
        </p:nvSpPr>
        <p:spPr>
          <a:xfrm>
            <a:off x="228600" y="2895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762120" y="28954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1"/>
          <p:cNvSpPr/>
          <p:nvPr/>
        </p:nvSpPr>
        <p:spPr>
          <a:xfrm>
            <a:off x="5029200" y="42670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2"/>
          <p:cNvSpPr/>
          <p:nvPr/>
        </p:nvSpPr>
        <p:spPr>
          <a:xfrm>
            <a:off x="762120" y="33526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3"/>
          <p:cNvSpPr/>
          <p:nvPr/>
        </p:nvSpPr>
        <p:spPr>
          <a:xfrm>
            <a:off x="2362320" y="3352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4"/>
          <p:cNvSpPr/>
          <p:nvPr/>
        </p:nvSpPr>
        <p:spPr>
          <a:xfrm>
            <a:off x="2895480" y="3809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5"/>
          <p:cNvSpPr/>
          <p:nvPr/>
        </p:nvSpPr>
        <p:spPr>
          <a:xfrm>
            <a:off x="3429000" y="38098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6"/>
          <p:cNvSpPr/>
          <p:nvPr/>
        </p:nvSpPr>
        <p:spPr>
          <a:xfrm>
            <a:off x="3429000" y="42670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7"/>
          <p:cNvSpPr/>
          <p:nvPr/>
        </p:nvSpPr>
        <p:spPr>
          <a:xfrm>
            <a:off x="228600" y="47242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8"/>
          <p:cNvSpPr/>
          <p:nvPr/>
        </p:nvSpPr>
        <p:spPr>
          <a:xfrm>
            <a:off x="762120" y="47242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9"/>
          <p:cNvSpPr/>
          <p:nvPr/>
        </p:nvSpPr>
        <p:spPr>
          <a:xfrm>
            <a:off x="3962520" y="60958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0"/>
          <p:cNvSpPr/>
          <p:nvPr/>
        </p:nvSpPr>
        <p:spPr>
          <a:xfrm>
            <a:off x="762120" y="51814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2362320" y="51814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2"/>
          <p:cNvSpPr/>
          <p:nvPr/>
        </p:nvSpPr>
        <p:spPr>
          <a:xfrm>
            <a:off x="3962520" y="5638680"/>
            <a:ext cx="5331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2362320" y="5638680"/>
            <a:ext cx="1600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4"/>
          <p:cNvSpPr/>
          <p:nvPr/>
        </p:nvSpPr>
        <p:spPr>
          <a:xfrm>
            <a:off x="4495680" y="609588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5"/>
          <p:cNvSpPr/>
          <p:nvPr/>
        </p:nvSpPr>
        <p:spPr>
          <a:xfrm>
            <a:off x="228600" y="34290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6"/>
          <p:cNvSpPr/>
          <p:nvPr/>
        </p:nvSpPr>
        <p:spPr>
          <a:xfrm>
            <a:off x="228600" y="662940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7"/>
          <p:cNvSpPr/>
          <p:nvPr/>
        </p:nvSpPr>
        <p:spPr>
          <a:xfrm>
            <a:off x="55627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lving two-machine flow shop problem we have to find a permut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all jobs are scheduled in this order on both machines, then the makespan is minim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order is constructed by calculating a left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a right list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then concatenating them to obt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structed step by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tep we consider an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smalle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=1, then    we pu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t the end of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we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. Otherwise we 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at the beginning of li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.e. we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 and process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*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n deleted from consid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9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595680" y="5638680"/>
            <a:ext cx="14619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2133720" y="5181480"/>
            <a:ext cx="5475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949400" y="5181480"/>
            <a:ext cx="1825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863800" y="5638680"/>
            <a:ext cx="731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876920" y="5181480"/>
            <a:ext cx="5475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6172200"/>
            <a:ext cx="59436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1151280" y="51814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1151280" y="56386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8002800" y="5791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677960" y="612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5"/>
          <p:cNvSpPr/>
          <p:nvPr/>
        </p:nvSpPr>
        <p:spPr>
          <a:xfrm>
            <a:off x="1905120" y="60958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"/>
          <p:cNvSpPr/>
          <p:nvPr/>
        </p:nvSpPr>
        <p:spPr>
          <a:xfrm>
            <a:off x="2133720" y="5638680"/>
            <a:ext cx="731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2678040" y="5181480"/>
            <a:ext cx="7318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3408480" y="5181480"/>
            <a:ext cx="14619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7"/>
          <p:cNvSpPr/>
          <p:nvPr/>
        </p:nvSpPr>
        <p:spPr>
          <a:xfrm>
            <a:off x="5057640" y="5638680"/>
            <a:ext cx="1279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8"/>
          <p:cNvSpPr/>
          <p:nvPr/>
        </p:nvSpPr>
        <p:spPr>
          <a:xfrm>
            <a:off x="6337440" y="5638680"/>
            <a:ext cx="5475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6706800" y="6172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858000" y="6095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743200" y="1447920"/>
          <a:ext cx="3886200" cy="23778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 Box 68"/>
          <p:cNvSpPr/>
          <p:nvPr/>
        </p:nvSpPr>
        <p:spPr>
          <a:xfrm>
            <a:off x="306000" y="41148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 4,   3,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9"/>
          <p:cNvSpPr/>
          <p:nvPr/>
        </p:nvSpPr>
        <p:spPr>
          <a:xfrm>
            <a:off x="7164360" y="41148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 5,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0"/>
          <p:cNvSpPr/>
          <p:nvPr/>
        </p:nvSpPr>
        <p:spPr>
          <a:xfrm flipH="1">
            <a:off x="19810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1"/>
          <p:cNvSpPr/>
          <p:nvPr/>
        </p:nvSpPr>
        <p:spPr>
          <a:xfrm flipH="1">
            <a:off x="6400440" y="2438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2"/>
          <p:cNvSpPr/>
          <p:nvPr/>
        </p:nvSpPr>
        <p:spPr>
          <a:xfrm flipH="1">
            <a:off x="16002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3"/>
          <p:cNvSpPr/>
          <p:nvPr/>
        </p:nvSpPr>
        <p:spPr>
          <a:xfrm flipH="1">
            <a:off x="1066680" y="3200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4"/>
          <p:cNvSpPr/>
          <p:nvPr/>
        </p:nvSpPr>
        <p:spPr>
          <a:xfrm flipH="1">
            <a:off x="640044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5"/>
          <p:cNvSpPr/>
          <p:nvPr/>
        </p:nvSpPr>
        <p:spPr>
          <a:xfrm>
            <a:off x="1981080" y="205740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6"/>
          <p:cNvSpPr/>
          <p:nvPr/>
        </p:nvSpPr>
        <p:spPr>
          <a:xfrm>
            <a:off x="1600200" y="28195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7"/>
          <p:cNvSpPr/>
          <p:nvPr/>
        </p:nvSpPr>
        <p:spPr>
          <a:xfrm>
            <a:off x="1066680" y="32004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78"/>
          <p:cNvSpPr/>
          <p:nvPr/>
        </p:nvSpPr>
        <p:spPr>
          <a:xfrm>
            <a:off x="8381880" y="2438280"/>
            <a:ext cx="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9"/>
          <p:cNvSpPr/>
          <p:nvPr/>
        </p:nvSpPr>
        <p:spPr>
          <a:xfrm>
            <a:off x="792468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ma 9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list constructed by John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.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&lt;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that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des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4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74560" y="1828800"/>
            <a:ext cx="280656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min{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295160" y="1828800"/>
            <a:ext cx="13284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6403680" y="1828800"/>
            <a:ext cx="10148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669400" y="2895480"/>
            <a:ext cx="10346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5870880" y="4114800"/>
            <a:ext cx="15325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81280" y="19051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5791320" y="1905120"/>
            <a:ext cx="533160" cy="485640"/>
          </a:xfrm>
          <a:prstGeom prst="right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4114800" y="28954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6629400" y="243828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250320" y="2895480"/>
            <a:ext cx="910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383760" y="3962520"/>
            <a:ext cx="10148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1780560" y="3962520"/>
            <a:ext cx="13284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7"/>
          <p:cNvSpPr/>
          <p:nvPr/>
        </p:nvSpPr>
        <p:spPr>
          <a:xfrm>
            <a:off x="2133720" y="2514600"/>
            <a:ext cx="380880" cy="1371600"/>
          </a:xfrm>
          <a:prstGeom prst="downArrow">
            <a:avLst>
              <a:gd name="adj1" fmla="val 50000"/>
              <a:gd name="adj2" fmla="val 9002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457200" y="5486400"/>
            <a:ext cx="31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ears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6403680" y="5410080"/>
            <a:ext cx="17258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2057400" y="4648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>
            <a:off x="6629400" y="3505320"/>
            <a:ext cx="485640" cy="533160"/>
          </a:xfrm>
          <a:prstGeom prst="up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421520" y="5486400"/>
            <a:ext cx="910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>
            <a:off x="609480" y="46483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26"/>
          <p:cNvSpPr/>
          <p:nvPr/>
        </p:nvSpPr>
        <p:spPr>
          <a:xfrm>
            <a:off x="3733920" y="5562720"/>
            <a:ext cx="533160" cy="485640"/>
          </a:xfrm>
          <a:prstGeom prst="rightArrow">
            <a:avLst>
              <a:gd name="adj1" fmla="val 50000"/>
              <a:gd name="adj2" fmla="val 2744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7"/>
          <p:cNvSpPr/>
          <p:nvPr/>
        </p:nvSpPr>
        <p:spPr>
          <a:xfrm>
            <a:off x="5562720" y="54864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junctive Graph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, C,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nodes representing the operations of all jobs. In addition, there are two special nodes, a source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sin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weight is associated with each node. The weights of 0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zero, while the weights of the other nodes are the processing times of the corresponding oper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t of dir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junc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s. These arcs reflect the precedence relations between the operations. Additionally, there are conjunctive arcs between the source and all operations without a predecessor, and between all operations without a successor and the s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of undirected disjunctive arcs. Such an arc exists for each pair of operations belonging to the same job which a not connected by a conjunctive arc and for each pair of operations belonging to the same machine which a not connected by a conjunctive 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mma 9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Lemma 9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schedule in whi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schedu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after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    (6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wapped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5638680" y="25909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2590920" y="213372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1600200" y="21337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770040" y="21337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770040" y="2590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4343400" y="2590920"/>
            <a:ext cx="609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9"/>
          <p:cNvSpPr/>
          <p:nvPr/>
        </p:nvSpPr>
        <p:spPr>
          <a:xfrm>
            <a:off x="3809880" y="2133720"/>
            <a:ext cx="18288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 flipH="1">
            <a:off x="5638680" y="2133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 flipH="1">
            <a:off x="624852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3"/>
          <p:cNvSpPr/>
          <p:nvPr/>
        </p:nvSpPr>
        <p:spPr>
          <a:xfrm flipH="1">
            <a:off x="63244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4"/>
          <p:cNvSpPr/>
          <p:nvPr/>
        </p:nvSpPr>
        <p:spPr>
          <a:xfrm>
            <a:off x="1600200" y="2590920"/>
            <a:ext cx="2743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5"/>
          <p:cNvSpPr/>
          <p:nvPr/>
        </p:nvSpPr>
        <p:spPr>
          <a:xfrm>
            <a:off x="6401160" y="2133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6"/>
          <p:cNvSpPr/>
          <p:nvPr/>
        </p:nvSpPr>
        <p:spPr>
          <a:xfrm>
            <a:off x="7086960" y="2590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7"/>
          <p:cNvSpPr/>
          <p:nvPr/>
        </p:nvSpPr>
        <p:spPr>
          <a:xfrm>
            <a:off x="5638680" y="419112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8"/>
          <p:cNvSpPr/>
          <p:nvPr/>
        </p:nvSpPr>
        <p:spPr>
          <a:xfrm>
            <a:off x="2590920" y="373392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49"/>
          <p:cNvSpPr/>
          <p:nvPr/>
        </p:nvSpPr>
        <p:spPr>
          <a:xfrm>
            <a:off x="1600200" y="373392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0"/>
          <p:cNvSpPr/>
          <p:nvPr/>
        </p:nvSpPr>
        <p:spPr>
          <a:xfrm>
            <a:off x="770040" y="37339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1"/>
          <p:cNvSpPr/>
          <p:nvPr/>
        </p:nvSpPr>
        <p:spPr>
          <a:xfrm>
            <a:off x="770040" y="41911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2"/>
          <p:cNvSpPr/>
          <p:nvPr/>
        </p:nvSpPr>
        <p:spPr>
          <a:xfrm>
            <a:off x="3809880" y="4191120"/>
            <a:ext cx="18288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3"/>
          <p:cNvSpPr/>
          <p:nvPr/>
        </p:nvSpPr>
        <p:spPr>
          <a:xfrm>
            <a:off x="3809880" y="3733920"/>
            <a:ext cx="14479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4"/>
          <p:cNvSpPr/>
          <p:nvPr/>
        </p:nvSpPr>
        <p:spPr>
          <a:xfrm flipH="1">
            <a:off x="5105160" y="3733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5"/>
          <p:cNvSpPr/>
          <p:nvPr/>
        </p:nvSpPr>
        <p:spPr>
          <a:xfrm flipH="1">
            <a:off x="62485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6"/>
          <p:cNvSpPr/>
          <p:nvPr/>
        </p:nvSpPr>
        <p:spPr>
          <a:xfrm flipH="1">
            <a:off x="6324480" y="4648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57"/>
          <p:cNvSpPr/>
          <p:nvPr/>
        </p:nvSpPr>
        <p:spPr>
          <a:xfrm>
            <a:off x="1600200" y="419112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8"/>
          <p:cNvSpPr/>
          <p:nvPr/>
        </p:nvSpPr>
        <p:spPr>
          <a:xfrm>
            <a:off x="6096240" y="3733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9"/>
          <p:cNvSpPr/>
          <p:nvPr/>
        </p:nvSpPr>
        <p:spPr>
          <a:xfrm>
            <a:off x="7086960" y="4191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0"/>
          <p:cNvSpPr/>
          <p:nvPr/>
        </p:nvSpPr>
        <p:spPr>
          <a:xfrm>
            <a:off x="5638680" y="5943600"/>
            <a:ext cx="1076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61"/>
          <p:cNvSpPr/>
          <p:nvPr/>
        </p:nvSpPr>
        <p:spPr>
          <a:xfrm>
            <a:off x="2590920" y="5486400"/>
            <a:ext cx="12189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2"/>
          <p:cNvSpPr/>
          <p:nvPr/>
        </p:nvSpPr>
        <p:spPr>
          <a:xfrm>
            <a:off x="1600200" y="548640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3"/>
          <p:cNvSpPr/>
          <p:nvPr/>
        </p:nvSpPr>
        <p:spPr>
          <a:xfrm>
            <a:off x="7700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4"/>
          <p:cNvSpPr/>
          <p:nvPr/>
        </p:nvSpPr>
        <p:spPr>
          <a:xfrm>
            <a:off x="770040" y="5943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5"/>
          <p:cNvSpPr/>
          <p:nvPr/>
        </p:nvSpPr>
        <p:spPr>
          <a:xfrm>
            <a:off x="4343400" y="5943600"/>
            <a:ext cx="12952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6"/>
          <p:cNvSpPr/>
          <p:nvPr/>
        </p:nvSpPr>
        <p:spPr>
          <a:xfrm>
            <a:off x="3809880" y="5486400"/>
            <a:ext cx="15242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7"/>
          <p:cNvSpPr/>
          <p:nvPr/>
        </p:nvSpPr>
        <p:spPr>
          <a:xfrm flipH="1">
            <a:off x="5105160" y="5486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8"/>
          <p:cNvSpPr/>
          <p:nvPr/>
        </p:nvSpPr>
        <p:spPr>
          <a:xfrm flipH="1">
            <a:off x="6248520" y="594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9"/>
          <p:cNvSpPr/>
          <p:nvPr/>
        </p:nvSpPr>
        <p:spPr>
          <a:xfrm flipH="1">
            <a:off x="632448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0"/>
          <p:cNvSpPr/>
          <p:nvPr/>
        </p:nvSpPr>
        <p:spPr>
          <a:xfrm>
            <a:off x="1600200" y="5943600"/>
            <a:ext cx="2743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1"/>
          <p:cNvSpPr/>
          <p:nvPr/>
        </p:nvSpPr>
        <p:spPr>
          <a:xfrm>
            <a:off x="6096240" y="54864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2"/>
          <p:cNvSpPr/>
          <p:nvPr/>
        </p:nvSpPr>
        <p:spPr>
          <a:xfrm>
            <a:off x="7086960" y="59436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3"/>
          <p:cNvSpPr/>
          <p:nvPr/>
        </p:nvSpPr>
        <p:spPr>
          <a:xfrm rot="5400000">
            <a:off x="4457520" y="-37800"/>
            <a:ext cx="304920" cy="4038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74"/>
          <p:cNvSpPr/>
          <p:nvPr/>
        </p:nvSpPr>
        <p:spPr>
          <a:xfrm>
            <a:off x="4475160" y="1447920"/>
            <a:ext cx="22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5"/>
          <p:cNvSpPr/>
          <p:nvPr/>
        </p:nvSpPr>
        <p:spPr>
          <a:xfrm rot="5400000">
            <a:off x="3276360" y="449568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3278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7"/>
          <p:cNvSpPr/>
          <p:nvPr/>
        </p:nvSpPr>
        <p:spPr>
          <a:xfrm>
            <a:off x="4551120" y="3200400"/>
            <a:ext cx="22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>
            <a:off x="4616640" y="487692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9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967320" y="1600200"/>
            <a:ext cx="6318360" cy="9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1011960" y="2666880"/>
            <a:ext cx="598464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311760" y="3581280"/>
            <a:ext cx="429912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9.4: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12480" y="4495680"/>
            <a:ext cx="432324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x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75120" y="6172200"/>
            <a:ext cx="621108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max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1346400" y="5334120"/>
            <a:ext cx="225216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4"/>
          <p:cNvSpPr/>
          <p:nvPr/>
        </p:nvSpPr>
        <p:spPr>
          <a:xfrm>
            <a:off x="1905120" y="411480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2209680" y="480060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2209680" y="5715000"/>
            <a:ext cx="4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6216120" y="4191120"/>
            <a:ext cx="1674360" cy="71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9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,...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nstructed by Jons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rule is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9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set of all optimal sequences and assum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 we consider a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≠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x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(not necessarily immediate) success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job scheduled between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cheduled after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by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Lemma 9.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follow by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holds for each su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Lemma 9.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may swap each immediate predecess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increasing the objectiv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finally get a sequ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diction with maximal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op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shop probl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pecial case of general shop problem which generalize the flow shop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must be processed on this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 precedence relations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machin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a processing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ociated with each ope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process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units on machin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is to find a feasible schedule which minimizes some objective function depending on the finishing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ast oper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 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two machine job shop problem with at most two operations per job can be solved by a reduction to the two-machine flow shop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f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scribe this reduction, it is convenien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the set of jobs into the following subs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only on mach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only on mach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first on machine 1 and then on mach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jobs which are processed first on machine 2 and then on mach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00400" y="3505320"/>
            <a:ext cx="2133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0666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24280" y="24382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200400" y="3657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2057400" y="5943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1371600" y="4876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5791320" y="28195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4724280" y="3886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5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6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8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6629400" y="3733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70102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5638680" y="3886200"/>
            <a:ext cx="152640" cy="1676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6248520" y="56386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5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6"/>
          <p:cNvSpPr/>
          <p:nvPr/>
        </p:nvSpPr>
        <p:spPr>
          <a:xfrm>
            <a:off x="5334120" y="3276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7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8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9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1828800" y="25909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2133720" y="2514600"/>
            <a:ext cx="53316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1981080" y="2590920"/>
            <a:ext cx="762120" cy="29718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 flipH="1">
            <a:off x="2057040" y="3886200"/>
            <a:ext cx="609480" cy="457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1981080" y="4800600"/>
            <a:ext cx="685800" cy="8380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2819520" y="39625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5867280" y="3809880"/>
            <a:ext cx="457200" cy="3812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 flipH="1">
            <a:off x="5943240" y="4724280"/>
            <a:ext cx="609480" cy="8384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 flipH="1">
            <a:off x="3200400" y="5867280"/>
            <a:ext cx="2286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 flipH="1">
            <a:off x="2209680" y="2286000"/>
            <a:ext cx="1905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4"/>
          <p:cNvSpPr/>
          <p:nvPr/>
        </p:nvSpPr>
        <p:spPr>
          <a:xfrm flipH="1">
            <a:off x="2133720" y="1676520"/>
            <a:ext cx="2286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5"/>
          <p:cNvSpPr/>
          <p:nvPr/>
        </p:nvSpPr>
        <p:spPr>
          <a:xfrm>
            <a:off x="4419720" y="167652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8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9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0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struct an optimal solution for problem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apply the following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 optimal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low shop problem with job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an optimal 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flow shop problem with job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1 first schedul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 arbitrary order, and fin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chine 2 first schedul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all job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 arbitrary order, and fin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ay assume that the schedule constructed in this way is active. Then at least one machine processes the jobs without idle time. More specifically,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re is no idle time on machine 1. Otherwise there is no idle time on machin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4"/>
              <p:cNvSpPr txBox="1"/>
              <p:nvPr/>
            </p:nvSpPr>
            <p:spPr>
              <a:xfrm>
                <a:off x="2438280" y="3200400"/>
                <a:ext cx="40388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,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505320" y="2819520"/>
            <a:ext cx="533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5486400" y="23623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990720" y="2362320"/>
            <a:ext cx="3657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4038480" y="2819520"/>
            <a:ext cx="2133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990720" y="281952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648320" y="236232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89160" y="23623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389160" y="281952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2"/>
          <p:cNvSpPr/>
          <p:nvPr/>
        </p:nvSpPr>
        <p:spPr>
          <a:xfrm rot="5400000">
            <a:off x="3809520" y="-838080"/>
            <a:ext cx="381240" cy="6019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3046680" y="16002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4"/>
          <p:cNvSpPr/>
          <p:nvPr/>
        </p:nvSpPr>
        <p:spPr>
          <a:xfrm rot="16200000">
            <a:off x="2400120" y="1866600"/>
            <a:ext cx="228600" cy="3047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1522440" y="3352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2666880" y="4800600"/>
            <a:ext cx="5335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7"/>
          <p:cNvSpPr/>
          <p:nvPr/>
        </p:nvSpPr>
        <p:spPr>
          <a:xfrm>
            <a:off x="6172200" y="4343400"/>
            <a:ext cx="990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8"/>
          <p:cNvSpPr/>
          <p:nvPr/>
        </p:nvSpPr>
        <p:spPr>
          <a:xfrm>
            <a:off x="1066680" y="4343400"/>
            <a:ext cx="42674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4038480" y="4800600"/>
            <a:ext cx="4038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1066680" y="480060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334120" y="43434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465480" y="4343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465480" y="48006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3200400" y="48006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2362320" y="58672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800208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27"/>
          <p:cNvSpPr/>
          <p:nvPr/>
        </p:nvSpPr>
        <p:spPr>
          <a:xfrm>
            <a:off x="8077320" y="525780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cheduling decision is to define an ordering between the operations connected by disjunctive arcs. This can be done by turning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sjunctive arcs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s.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le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directed disjunctive arcs. Disjunctive arcs which have been directed a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lection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sele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isjunctive arc has been fixed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ing grap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MS PMincho"/>
                <a:ea typeface="MS PMincho"/>
              </a:rPr>
              <a:t>∪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PMincho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Mincho"/>
              </a:rPr>
              <a:t>) is acyc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3200400" y="3048120"/>
            <a:ext cx="2286000" cy="457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0666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4724280" y="24382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00400" y="3657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2057400" y="59436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371600" y="487692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6095880" y="2743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4724280" y="3886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6019920" y="3200400"/>
            <a:ext cx="22096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6705720" y="38098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7010280" y="160020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5715000" y="3276720"/>
            <a:ext cx="76320" cy="228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6248520" y="5638680"/>
            <a:ext cx="4572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1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2"/>
          <p:cNvSpPr/>
          <p:nvPr/>
        </p:nvSpPr>
        <p:spPr>
          <a:xfrm>
            <a:off x="5486400" y="26668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8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1828800" y="25909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2133720" y="2514600"/>
            <a:ext cx="53316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1"/>
          <p:cNvSpPr/>
          <p:nvPr/>
        </p:nvSpPr>
        <p:spPr>
          <a:xfrm>
            <a:off x="1981080" y="2590920"/>
            <a:ext cx="762120" cy="29718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2"/>
          <p:cNvSpPr/>
          <p:nvPr/>
        </p:nvSpPr>
        <p:spPr>
          <a:xfrm flipH="1">
            <a:off x="2057040" y="3886200"/>
            <a:ext cx="609480" cy="457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3"/>
          <p:cNvSpPr/>
          <p:nvPr/>
        </p:nvSpPr>
        <p:spPr>
          <a:xfrm>
            <a:off x="1981080" y="4800600"/>
            <a:ext cx="685800" cy="8380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4"/>
          <p:cNvSpPr/>
          <p:nvPr/>
        </p:nvSpPr>
        <p:spPr>
          <a:xfrm>
            <a:off x="2819520" y="3962520"/>
            <a:ext cx="0" cy="16002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5"/>
          <p:cNvSpPr/>
          <p:nvPr/>
        </p:nvSpPr>
        <p:spPr>
          <a:xfrm>
            <a:off x="5867280" y="3276720"/>
            <a:ext cx="457200" cy="9144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6"/>
          <p:cNvSpPr/>
          <p:nvPr/>
        </p:nvSpPr>
        <p:spPr>
          <a:xfrm flipH="1">
            <a:off x="5943240" y="4724280"/>
            <a:ext cx="609480" cy="8384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7"/>
          <p:cNvSpPr/>
          <p:nvPr/>
        </p:nvSpPr>
        <p:spPr>
          <a:xfrm flipH="1">
            <a:off x="3200400" y="5867280"/>
            <a:ext cx="228600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8"/>
          <p:cNvSpPr/>
          <p:nvPr/>
        </p:nvSpPr>
        <p:spPr>
          <a:xfrm flipH="1">
            <a:off x="2209680" y="2286000"/>
            <a:ext cx="19051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0"/>
          <p:cNvSpPr/>
          <p:nvPr/>
        </p:nvSpPr>
        <p:spPr>
          <a:xfrm flipH="1">
            <a:off x="2133720" y="1676520"/>
            <a:ext cx="2286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>
            <a:off x="4419720" y="1676520"/>
            <a:ext cx="20574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2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3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4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ure 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914400" y="2514240"/>
            <a:ext cx="762120" cy="1600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066680" y="3733560"/>
            <a:ext cx="1524240" cy="533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 flipV="1">
            <a:off x="3200400" y="2971800"/>
            <a:ext cx="22860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V="1">
            <a:off x="6019920" y="4267080"/>
            <a:ext cx="220968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066680" y="4419720"/>
            <a:ext cx="4572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495680" y="2590920"/>
            <a:ext cx="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7010280" y="251460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914400" y="4648320"/>
            <a:ext cx="1600200" cy="1143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57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2590920" y="33526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60020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523880" y="4191120"/>
            <a:ext cx="59400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259092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4191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153280" y="3809880"/>
            <a:ext cx="59400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 flipV="1">
            <a:off x="6781680" y="4114440"/>
            <a:ext cx="137160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6019920" y="3200400"/>
            <a:ext cx="22096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9"/>
          <p:cNvSpPr/>
          <p:nvPr/>
        </p:nvSpPr>
        <p:spPr>
          <a:xfrm>
            <a:off x="5791320" y="3276720"/>
            <a:ext cx="0" cy="228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6477120" y="1981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5486400" y="26668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5486400" y="556272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6172200" y="4114800"/>
            <a:ext cx="593640" cy="59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4191120" y="4267080"/>
            <a:ext cx="593640" cy="59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6"/>
          <p:cNvSpPr/>
          <p:nvPr/>
        </p:nvSpPr>
        <p:spPr>
          <a:xfrm>
            <a:off x="2133720" y="4495680"/>
            <a:ext cx="20574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7"/>
          <p:cNvSpPr/>
          <p:nvPr/>
        </p:nvSpPr>
        <p:spPr>
          <a:xfrm flipV="1">
            <a:off x="4800600" y="4419360"/>
            <a:ext cx="137160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990720" y="2437920"/>
            <a:ext cx="3200400" cy="1752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2"/>
          <p:cNvSpPr/>
          <p:nvPr/>
        </p:nvSpPr>
        <p:spPr>
          <a:xfrm>
            <a:off x="990720" y="4648320"/>
            <a:ext cx="4495680" cy="10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3"/>
          <p:cNvSpPr/>
          <p:nvPr/>
        </p:nvSpPr>
        <p:spPr>
          <a:xfrm flipV="1">
            <a:off x="3200400" y="4191120"/>
            <a:ext cx="4952880" cy="1676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4"/>
          <p:cNvSpPr/>
          <p:nvPr/>
        </p:nvSpPr>
        <p:spPr>
          <a:xfrm>
            <a:off x="2209680" y="2286000"/>
            <a:ext cx="198144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5"/>
          <p:cNvSpPr/>
          <p:nvPr/>
        </p:nvSpPr>
        <p:spPr>
          <a:xfrm>
            <a:off x="4800600" y="2286000"/>
            <a:ext cx="16765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6"/>
          <p:cNvSpPr/>
          <p:nvPr/>
        </p:nvSpPr>
        <p:spPr>
          <a:xfrm>
            <a:off x="3200400" y="5943600"/>
            <a:ext cx="228600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7"/>
          <p:cNvSpPr/>
          <p:nvPr/>
        </p:nvSpPr>
        <p:spPr>
          <a:xfrm>
            <a:off x="5943600" y="3200400"/>
            <a:ext cx="380880" cy="99072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8"/>
          <p:cNvSpPr/>
          <p:nvPr/>
        </p:nvSpPr>
        <p:spPr>
          <a:xfrm flipV="1">
            <a:off x="5943600" y="4723920"/>
            <a:ext cx="609480" cy="83844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9"/>
          <p:cNvSpPr/>
          <p:nvPr/>
        </p:nvSpPr>
        <p:spPr>
          <a:xfrm flipV="1">
            <a:off x="1752480" y="2590560"/>
            <a:ext cx="76320" cy="1600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0"/>
          <p:cNvSpPr/>
          <p:nvPr/>
        </p:nvSpPr>
        <p:spPr>
          <a:xfrm flipH="1" flipV="1">
            <a:off x="1980720" y="2590920"/>
            <a:ext cx="762120" cy="304776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1"/>
          <p:cNvSpPr/>
          <p:nvPr/>
        </p:nvSpPr>
        <p:spPr>
          <a:xfrm flipH="1" flipV="1">
            <a:off x="2133360" y="2514600"/>
            <a:ext cx="609480" cy="83808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V="1">
            <a:off x="2133720" y="3886200"/>
            <a:ext cx="533160" cy="457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 flipV="1">
            <a:off x="2895480" y="3962160"/>
            <a:ext cx="0" cy="160020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4"/>
          <p:cNvSpPr/>
          <p:nvPr/>
        </p:nvSpPr>
        <p:spPr>
          <a:xfrm flipH="1" flipV="1">
            <a:off x="2057400" y="4647960"/>
            <a:ext cx="533520" cy="1066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5"/>
          <p:cNvSpPr/>
          <p:nvPr/>
        </p:nvSpPr>
        <p:spPr>
          <a:xfrm>
            <a:off x="1981080" y="1981080"/>
            <a:ext cx="4724640" cy="0"/>
          </a:xfrm>
          <a:prstGeom prst="line">
            <a:avLst/>
          </a:prstGeom>
          <a:ln w="2844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6"/>
          <p:cNvSpPr/>
          <p:nvPr/>
        </p:nvSpPr>
        <p:spPr>
          <a:xfrm>
            <a:off x="2209680" y="2438280"/>
            <a:ext cx="6019920" cy="152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omplete sel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struct a corresponding nonpreemptive (semi-active) schedul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fined by the starting times of all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For each pa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define the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the sum of all labels of nod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. For each ope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length of a longest path from 0 to the vertex represen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we def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ll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get the feasible sche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6:13:42Z</dcterms:created>
  <dc:creator>Kononov</dc:creator>
  <dc:description/>
  <dc:language>en-US</dc:language>
  <cp:lastModifiedBy>Alexander Kononov</cp:lastModifiedBy>
  <dcterms:modified xsi:type="dcterms:W3CDTF">2016-04-12T13:20:14Z</dcterms:modified>
  <cp:revision>70</cp:revision>
  <dc:subject/>
  <dc:title>Shop Scheduling Problem</dc:title>
</cp:coreProperties>
</file>