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994-8DBB-4C82-B07D-B1BF8A150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891C-4A44-4053-9B51-74513DDA8F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1ADF-69E6-4CA9-A8E9-14B2569A6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4BD7-69A2-4B24-A571-D689912F15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1107-0A5F-4EBA-BF1C-C8D3D4ABC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1DB5-0009-4CDB-A45C-C73FA6520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A16D-4590-4A69-B503-BB38563C46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F3C0-D8A6-44E8-A1AB-3CFF84FC5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173D-B70C-4B83-93F6-9FDCD4C5F7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4996-660D-4A7C-8027-4BAEE39AE6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101E-6180-4DC4-B19E-5AF9FB191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6B1-D0E0-435D-A18F-FB698860CA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5978-3F33-4C0D-B359-F76C8BEF8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8C93-C6C8-49FF-8043-C3A0827A54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FAC4-DCBF-47AC-8ED9-C6E43476E6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F7DE-80C3-4806-85CB-058E62C247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69A9-E363-4FB9-AD2F-A548FE40B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62F1-7E3B-40B6-B31B-24D5979EA0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8B08-1A5C-4ACC-8F9F-1B2330B58C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0E01-3E36-48FD-AD10-E4494D0D6C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4D64-A886-40E0-9C02-97E144F1AD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EA56-0A46-447F-A0D6-D06E9E278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F23-E94F-4CB5-B653-C95048CC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7B2-FCCC-47F0-9430-62859EEE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3C3-1E66-45CB-BDB7-C40DC1BF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8A96-0DEA-492A-BAE3-98468DAD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D99F-6AFD-4D54-813C-C1F8E580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87C5A-53D8-429A-B910-EDC523DE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D4F1-4AAD-46C2-883D-D49A0657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8082-9693-48AF-A68A-63DB8F85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AAE8-AD98-4C01-9E97-D76F76A7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E53B-83F3-46EA-9EF4-F422E2F4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39BA-3F31-4F6A-9B81-0110F3CA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91D-2431-4DF1-99A1-F75BECB5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AB0D-67F7-4965-ABE0-54CFB1F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F06B-0A28-4EF4-B938-84FA225F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C8A4-31E9-4004-8A32-380F7CD1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43D1-8782-4D3D-9B42-D9F4ABB8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1919-391F-4B8C-A265-CC10F550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EE2-0BFA-4BE1-B2DF-6FFEC115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0AA-1718-4B2A-B049-EEF38FDC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A11B-F171-4D59-B31D-4DD843FC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EDE-2A8C-4AED-960B-E0414DAE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196C-252E-44E6-842B-DF7337B7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27B-D75B-43BC-8547-FC491310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065D-1A70-4D01-9058-A2936753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eceaa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1afb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CDE3-52A3-4AFE-821A-C78BBCDEA14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eceaa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1afb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DA79-00DA-411F-AA08-D8B8FCC7D2AE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38080" y="4425840"/>
            <a:ext cx="1501920" cy="1201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042920" y="6232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Times New Roman"/>
              </a:rPr>
              <a:t>Институт математики им. С. Л. Соболева СО РАН, Новосибирск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5f7b"/>
                </a:solidFill>
                <a:latin typeface="Times New Roman"/>
              </a:rPr>
              <a:t>28 – 31 августа, 2013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2700360" y="4365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ванова Анна Владимировн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пенко Владимир Викторо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ревко Александр Александро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упахин Александр Павлови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2106360"/>
            <a:ext cx="8964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ЛКАЯ ВОДА НА СФЕРЕ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ТОЧНЫЕ РЕШЕНИЯ И КОМПЬЮТЕРНОЕ МОДЕЛИРОВАНИЕ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1527120" y="282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1258920" y="46512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Международная конференц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00"/>
                </a:solidFill>
                <a:latin typeface="Tahoma"/>
              </a:rPr>
              <a:t>«Дни геометрии в Новосибирске, 2013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611280" y="0"/>
            <a:ext cx="665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Два шеврона в разных местах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7" name="Фильм два шеврона.wmv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20"/>
          <p:cNvSpPr/>
          <p:nvPr/>
        </p:nvSpPr>
        <p:spPr>
          <a:xfrm rot="18768000">
            <a:off x="2323440" y="351828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2628000" y="55166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22"/>
          <p:cNvSpPr/>
          <p:nvPr/>
        </p:nvSpPr>
        <p:spPr>
          <a:xfrm flipV="1">
            <a:off x="3276720" y="2565000"/>
            <a:ext cx="2519280" cy="2808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23"/>
          <p:cNvSpPr/>
          <p:nvPr/>
        </p:nvSpPr>
        <p:spPr>
          <a:xfrm rot="18705000">
            <a:off x="4936680" y="45046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25173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0" y="-8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0" y="6912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Picture 13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4"/>
          <p:cNvSpPr/>
          <p:nvPr/>
        </p:nvSpPr>
        <p:spPr>
          <a:xfrm>
            <a:off x="611280" y="4428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Линии то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16"/>
          <p:cNvSpPr/>
          <p:nvPr/>
        </p:nvSpPr>
        <p:spPr>
          <a:xfrm>
            <a:off x="2155680" y="3789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5894640" y="3789360"/>
            <a:ext cx="9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5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Rectangle 18"/>
          <p:cNvSpPr/>
          <p:nvPr/>
        </p:nvSpPr>
        <p:spPr>
          <a:xfrm>
            <a:off x="2510280" y="6237360"/>
            <a:ext cx="10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12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6545880" y="6237360"/>
            <a:ext cx="10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22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2"/>
          <a:stretch/>
        </p:blipFill>
        <p:spPr>
          <a:xfrm>
            <a:off x="934920" y="1736640"/>
            <a:ext cx="3637080" cy="20718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"/>
          <p:cNvPicPr/>
          <p:nvPr/>
        </p:nvPicPr>
        <p:blipFill>
          <a:blip r:embed="rId3"/>
          <a:stretch/>
        </p:blipFill>
        <p:spPr>
          <a:xfrm>
            <a:off x="4878360" y="1714680"/>
            <a:ext cx="3438720" cy="2074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"/>
          <p:cNvPicPr/>
          <p:nvPr/>
        </p:nvPicPr>
        <p:blipFill>
          <a:blip r:embed="rId4"/>
          <a:stretch/>
        </p:blipFill>
        <p:spPr>
          <a:xfrm>
            <a:off x="382680" y="3584520"/>
            <a:ext cx="457200" cy="11048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"/>
          <p:cNvPicPr/>
          <p:nvPr/>
        </p:nvPicPr>
        <p:blipFill>
          <a:blip r:embed="rId5"/>
          <a:stretch/>
        </p:blipFill>
        <p:spPr>
          <a:xfrm>
            <a:off x="1116000" y="4264200"/>
            <a:ext cx="3425760" cy="2070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" descr=""/>
          <p:cNvPicPr/>
          <p:nvPr/>
        </p:nvPicPr>
        <p:blipFill>
          <a:blip r:embed="rId6"/>
          <a:stretch/>
        </p:blipFill>
        <p:spPr>
          <a:xfrm>
            <a:off x="4878360" y="4245120"/>
            <a:ext cx="3438720" cy="20890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433440" y="44280"/>
            <a:ext cx="7091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Эллиптическое кольцо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Text Box 15"/>
          <p:cNvSpPr/>
          <p:nvPr/>
        </p:nvSpPr>
        <p:spPr>
          <a:xfrm rot="19336800">
            <a:off x="4860360" y="414936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16"/>
          <p:cNvSpPr/>
          <p:nvPr/>
        </p:nvSpPr>
        <p:spPr>
          <a:xfrm flipV="1">
            <a:off x="1258920" y="2421000"/>
            <a:ext cx="3672000" cy="2952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17"/>
          <p:cNvSpPr/>
          <p:nvPr/>
        </p:nvSpPr>
        <p:spPr>
          <a:xfrm>
            <a:off x="1258560" y="64911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муляция происходит в фокусах эллип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Фильм кольцо.wmv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6234120" cy="46753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9"/>
          <p:cNvSpPr/>
          <p:nvPr/>
        </p:nvSpPr>
        <p:spPr>
          <a:xfrm>
            <a:off x="2196360" y="587700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20"/>
          <p:cNvSpPr/>
          <p:nvPr/>
        </p:nvSpPr>
        <p:spPr>
          <a:xfrm rot="18773400">
            <a:off x="2128320" y="33516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21"/>
          <p:cNvSpPr/>
          <p:nvPr/>
        </p:nvSpPr>
        <p:spPr>
          <a:xfrm rot="18682800">
            <a:off x="5276520" y="445320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22"/>
          <p:cNvSpPr/>
          <p:nvPr/>
        </p:nvSpPr>
        <p:spPr>
          <a:xfrm flipV="1">
            <a:off x="2627280" y="2420640"/>
            <a:ext cx="3024360" cy="338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285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6" descr=""/>
          <p:cNvPicPr/>
          <p:nvPr/>
        </p:nvPicPr>
        <p:blipFill>
          <a:blip r:embed="rId1"/>
          <a:stretch/>
        </p:blipFill>
        <p:spPr>
          <a:xfrm>
            <a:off x="228600" y="2462040"/>
            <a:ext cx="457200" cy="1105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9"/>
          <p:cNvSpPr/>
          <p:nvPr/>
        </p:nvSpPr>
        <p:spPr>
          <a:xfrm>
            <a:off x="0" y="-8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0" y="6912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Picture 13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4"/>
          <p:cNvSpPr/>
          <p:nvPr/>
        </p:nvSpPr>
        <p:spPr>
          <a:xfrm>
            <a:off x="611280" y="4428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Линии то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155680" y="33498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5896800" y="3343320"/>
            <a:ext cx="79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2512440" y="5830920"/>
            <a:ext cx="9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9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6545880" y="5830920"/>
            <a:ext cx="10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25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3"/>
          <a:stretch/>
        </p:blipFill>
        <p:spPr>
          <a:xfrm>
            <a:off x="1181160" y="1484280"/>
            <a:ext cx="3390840" cy="1879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"/>
          <p:cNvPicPr/>
          <p:nvPr/>
        </p:nvPicPr>
        <p:blipFill>
          <a:blip r:embed="rId4"/>
          <a:stretch/>
        </p:blipFill>
        <p:spPr>
          <a:xfrm>
            <a:off x="5199120" y="1487520"/>
            <a:ext cx="3247920" cy="18558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355640" y="1761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7" descr=""/>
          <p:cNvPicPr/>
          <p:nvPr/>
        </p:nvPicPr>
        <p:blipFill>
          <a:blip r:embed="rId5"/>
          <a:stretch/>
        </p:blipFill>
        <p:spPr>
          <a:xfrm>
            <a:off x="1403280" y="3772080"/>
            <a:ext cx="3344760" cy="1936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8" descr=""/>
          <p:cNvPicPr/>
          <p:nvPr/>
        </p:nvPicPr>
        <p:blipFill>
          <a:blip r:embed="rId6"/>
          <a:stretch/>
        </p:blipFill>
        <p:spPr>
          <a:xfrm>
            <a:off x="5249880" y="3772080"/>
            <a:ext cx="3227400" cy="185256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1"/>
          <p:cNvSpPr/>
          <p:nvPr/>
        </p:nvSpPr>
        <p:spPr>
          <a:xfrm>
            <a:off x="166680" y="6167520"/>
            <a:ext cx="89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 задачи имеют наглядную физическую интерпретацию,  водяные хребты в виде шевронов встречаются на снимках со спутников поверхности Земли  и других планет (как облаков в атмосфере, так и течений в океане). Хребет в виде эллиптического кольца моделирует распространение волн при падении метеорита или другого крупного объекта в оке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fig_3"/>
          <p:cNvPicPr/>
          <p:nvPr/>
        </p:nvPicPr>
        <p:blipFill>
          <a:blip r:embed="rId1"/>
          <a:stretch/>
        </p:blipFill>
        <p:spPr>
          <a:xfrm>
            <a:off x="5219640" y="1484280"/>
            <a:ext cx="3522600" cy="3600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4"/>
          <p:cNvSpPr/>
          <p:nvPr/>
        </p:nvSpPr>
        <p:spPr>
          <a:xfrm>
            <a:off x="0" y="18900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Зональные теч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108000" y="2276640"/>
                <a:ext cx="50418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8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0</m:t>
                            </m:r>
                            <m:r>
                              <m:t xml:space="preserve">≤</m:t>
                            </m:r>
                            <m:r>
                              <m:t xml:space="preserve">θ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1" name="Text Box 6"/>
          <p:cNvSpPr/>
          <p:nvPr/>
        </p:nvSpPr>
        <p:spPr>
          <a:xfrm>
            <a:off x="179280" y="38606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имо состояния равновесия  существует класс точных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зональ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чений, в которых меридиональная скорос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скорость по параллелям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Течение направлено вдоль паралл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ествуют решения, сопрягающие состояние равновесия с такими течениями через контактный разры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7"/>
              <p:cNvSpPr txBox="1"/>
              <p:nvPr/>
            </p:nvSpPr>
            <p:spPr>
              <a:xfrm>
                <a:off x="2916360" y="4484520"/>
                <a:ext cx="4809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1619280" y="4773600"/>
                <a:ext cx="5144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Rectangle 9"/>
          <p:cNvSpPr/>
          <p:nvPr/>
        </p:nvSpPr>
        <p:spPr>
          <a:xfrm>
            <a:off x="5435640" y="4971960"/>
            <a:ext cx="381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ль свободной поверхности жидкости (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относительно вращающейс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феры (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 в стационарном решении с контактным разрывом 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0"/>
              <p:cNvSpPr txBox="1"/>
              <p:nvPr/>
            </p:nvSpPr>
            <p:spPr>
              <a:xfrm>
                <a:off x="5580000" y="6124680"/>
                <a:ext cx="2592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8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611280" y="0"/>
            <a:ext cx="7345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15f7b"/>
                </a:solidFill>
                <a:latin typeface="Times New Roman"/>
              </a:rPr>
              <a:t>Устойчивость зонального течения относительно периодического возмущения границ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9" name="Picture 7" descr=""/>
          <p:cNvPicPr/>
          <p:nvPr/>
        </p:nvPicPr>
        <p:blipFill>
          <a:blip r:embed="rId2"/>
          <a:stretch/>
        </p:blipFill>
        <p:spPr>
          <a:xfrm>
            <a:off x="0" y="2392200"/>
            <a:ext cx="2943360" cy="16099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"/>
          <p:cNvPicPr/>
          <p:nvPr/>
        </p:nvPicPr>
        <p:blipFill>
          <a:blip r:embed="rId3"/>
          <a:stretch/>
        </p:blipFill>
        <p:spPr>
          <a:xfrm>
            <a:off x="3240" y="4729320"/>
            <a:ext cx="3030480" cy="1601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4"/>
          <a:stretch/>
        </p:blipFill>
        <p:spPr>
          <a:xfrm>
            <a:off x="3033720" y="2359080"/>
            <a:ext cx="3027240" cy="1643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5"/>
          <a:stretch/>
        </p:blipFill>
        <p:spPr>
          <a:xfrm>
            <a:off x="2946240" y="4657680"/>
            <a:ext cx="3114720" cy="1650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6"/>
          <a:stretch/>
        </p:blipFill>
        <p:spPr>
          <a:xfrm>
            <a:off x="6095880" y="2359080"/>
            <a:ext cx="2940120" cy="16002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7"/>
          <a:stretch/>
        </p:blipFill>
        <p:spPr>
          <a:xfrm>
            <a:off x="5845320" y="4651200"/>
            <a:ext cx="3190680" cy="1657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" descr=""/>
          <p:cNvPicPr/>
          <p:nvPr/>
        </p:nvPicPr>
        <p:blipFill>
          <a:blip r:embed="rId8"/>
          <a:stretch/>
        </p:blipFill>
        <p:spPr>
          <a:xfrm>
            <a:off x="8432640" y="1479600"/>
            <a:ext cx="533520" cy="11048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Rectangle 9"/>
          <p:cNvSpPr/>
          <p:nvPr/>
        </p:nvSpPr>
        <p:spPr>
          <a:xfrm>
            <a:off x="241200" y="1832040"/>
            <a:ext cx="8931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филь глуб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=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t=10                                                      t=20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249120" y="4100760"/>
            <a:ext cx="8931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лготная компонента скорос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=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t=10                                                      t=20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V_long.wmv" descr=""/>
          <p:cNvPicPr/>
          <p:nvPr/>
        </p:nvPicPr>
        <p:blipFill>
          <a:blip r:embed="rId1"/>
          <a:stretch/>
        </p:blipFill>
        <p:spPr>
          <a:xfrm>
            <a:off x="1476360" y="2241720"/>
            <a:ext cx="6191280" cy="46432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2"/>
          <p:cNvSpPr/>
          <p:nvPr/>
        </p:nvSpPr>
        <p:spPr>
          <a:xfrm>
            <a:off x="433440" y="-27000"/>
            <a:ext cx="70912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15f7b"/>
                </a:solidFill>
                <a:latin typeface="Times New Roman"/>
              </a:rPr>
              <a:t>Устойчивость зонального течения относительно периодического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15f7b"/>
                </a:solidFill>
                <a:latin typeface="Times New Roman"/>
              </a:rPr>
              <a:t>возмущения границ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3132000" y="1959120"/>
            <a:ext cx="309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V 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олготная скорость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240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920" y="213840"/>
            <a:ext cx="60134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Струйные течения и шевроны на Юпитере</a:t>
            </a:r>
            <a:endParaRPr b="0" lang="en-US" sz="4000" spc="-1" strike="noStrike">
              <a:solidFill>
                <a:srgbClr val="515f7b"/>
              </a:solidFill>
              <a:latin typeface="Tahom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547640" y="5013360"/>
          <a:ext cx="6553440" cy="426960"/>
        </p:xfrm>
        <a:graphic>
          <a:graphicData uri="http://schemas.openxmlformats.org/drawingml/2006/table">
            <a:tbl>
              <a:tblPr/>
              <a:tblGrid>
                <a:gridCol w="6553440"/>
              </a:tblGrid>
              <a:tr h="426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нимке «Кассини» выделены «шевроны» и антициклон South Equatorial Disturbance (SED). (Здесь и ниже изображения NASA / JPL / Space Science Institute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5" name="Picture 5" descr="На снимке «Кассини» выделены «шевроны» и антициклон South Equatorial Disturbance (SED). (Здесь и ниже изображения NASA / JPL / Space Science Institute.)"/>
          <p:cNvPicPr/>
          <p:nvPr/>
        </p:nvPicPr>
        <p:blipFill>
          <a:blip r:embed="rId1"/>
          <a:stretch/>
        </p:blipFill>
        <p:spPr>
          <a:xfrm>
            <a:off x="1692360" y="1844640"/>
            <a:ext cx="5715000" cy="31240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25"/>
          <p:cNvSpPr/>
          <p:nvPr/>
        </p:nvSpPr>
        <p:spPr>
          <a:xfrm>
            <a:off x="287280" y="5392800"/>
            <a:ext cx="88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тите внимание на линию маленьких тёмных V-образных «шевронов», которая сформировалась вдоль одного края течения и мечется то на запад, то на восток. Со временем относительно чёткая линия превращается в волну, и «шевроны» движутся вверх и вниз (то есть на север и юг) — точно так же, как на Земле.                    </a:t>
            </a:r>
            <a:r>
              <a:rPr b="0" lang="ru-RU" sz="1800" spc="-1" strike="noStrike" u="sng">
                <a:solidFill>
                  <a:srgbClr val="0000cc"/>
                </a:solidFill>
                <a:uFillTx/>
                <a:latin typeface="Tahoma"/>
              </a:rPr>
              <a:t>http://science.compulenta.ru/66652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7" name="Picture 29" descr="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4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11280" y="0"/>
            <a:ext cx="665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Шевроны с зональным течением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Фильм 045(2).wmv" descr=""/>
          <p:cNvPicPr/>
          <p:nvPr/>
        </p:nvPicPr>
        <p:blipFill>
          <a:blip r:embed="rId2"/>
          <a:stretch/>
        </p:blipFill>
        <p:spPr>
          <a:xfrm>
            <a:off x="770040" y="1389240"/>
            <a:ext cx="72547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8240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9292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Вихри в трехмерном виде</a:t>
            </a:r>
            <a:br>
              <a:rPr sz="3000"/>
            </a:b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при </a:t>
            </a:r>
            <a:r>
              <a:rPr b="1" lang="en-US" sz="3000" spc="-1" strike="noStrike">
                <a:solidFill>
                  <a:srgbClr val="515f7b"/>
                </a:solidFill>
                <a:latin typeface="Times New Roman"/>
              </a:rPr>
              <a:t>t=60</a:t>
            </a:r>
            <a:endParaRPr b="0" lang="en-US" sz="3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60"/>
          <p:cNvPicPr/>
          <p:nvPr/>
        </p:nvPicPr>
        <p:blipFill>
          <a:blip r:embed="rId2"/>
          <a:stretch/>
        </p:blipFill>
        <p:spPr>
          <a:xfrm>
            <a:off x="250920" y="1916280"/>
            <a:ext cx="4924440" cy="4381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60 max"/>
          <p:cNvPicPr/>
          <p:nvPr/>
        </p:nvPicPr>
        <p:blipFill>
          <a:blip r:embed="rId3"/>
          <a:stretch/>
        </p:blipFill>
        <p:spPr>
          <a:xfrm>
            <a:off x="5219640" y="2421000"/>
            <a:ext cx="3700440" cy="32925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9"/>
          <p:cNvSpPr/>
          <p:nvPr/>
        </p:nvSpPr>
        <p:spPr>
          <a:xfrm>
            <a:off x="1908000" y="3357720"/>
            <a:ext cx="1079640" cy="1079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Line 10"/>
          <p:cNvSpPr/>
          <p:nvPr/>
        </p:nvSpPr>
        <p:spPr>
          <a:xfrm>
            <a:off x="2987640" y="4149720"/>
            <a:ext cx="223200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0" y="33336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Физическа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остановка задач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84360" y="1844640"/>
            <a:ext cx="84596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вижение сплошной среды  (газ, жидкость) на вращающейся притягивающейся сфере (атмосфера планет, Мировой океан)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Гравитация и вращение, действуя в различных направлениях,  обеспечивают глобальный баланс среды. На этом фоне развиваются движения среды различных масштабов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Simulation_of_Debris_from_March_11_2011_Japan_tsunami"/>
          <p:cNvPicPr/>
          <p:nvPr/>
        </p:nvPicPr>
        <p:blipFill>
          <a:blip r:embed="rId2"/>
          <a:stretch/>
        </p:blipFill>
        <p:spPr>
          <a:xfrm>
            <a:off x="179280" y="3716280"/>
            <a:ext cx="4854600" cy="3141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1"/>
          <p:cNvSpPr/>
          <p:nvPr/>
        </p:nvSpPr>
        <p:spPr>
          <a:xfrm>
            <a:off x="684360" y="3141720"/>
            <a:ext cx="4174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емещение потока, несущего обломки деревьев, домов и т.д., смытые в океан во время цунами в Японии (концентрация примеси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824360" y="5660280"/>
            <a:ext cx="39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еждународ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тихоокеан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сследовательс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центр при университете штата Гавай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788000" y="3572640"/>
            <a:ext cx="403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еные работали под руководством россиянина Николая Максименко. Используя данные спутниковых наблюдений, а также информацию, полученную от 15 тысяч плавучих датчиков, специалисты попытались предсказать, как будет двигаться поток, несущий обломки деревьев, домов и так далее, смытые в океан во время цунами 11 марта 2011 год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к показала разработанная авторами модель, первое столкновение потока с Гавайями произойдет через два год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 второе - через пять лет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ведена система законов сохранения массы и полного импульса для уравнений мелкой воды на вращающейся притягивающей сфере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ыполнены численные расчеты задач о распаде разрыва в двумерном случае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)  Представлены результаты численного моделирования задачи о распаде разрыва в результате обрушения водяных «хребтов» различной геометрии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5f5f5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ные эффекты при распространении возмущений на сфере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ериодическое повторение основных этапов,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кумулятивный эффект (фокусировка) возмущений,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бразованием вихрей различных масштабов, взаимодействие их между собой: рождение и уничтожение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2) Представлены результаты численного моделирования распространения возмущений на контактном разрыве между состоянием равновесия и зональным течением с возмущение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казана устойчивость зонального течения относительно периодического возмущения границы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11280" y="54936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Заключе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0" y="404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250920" y="242100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еревкоА.А., Чупахин А.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равнения мелкой воды на вращающейся притягивающей сфере// ПМТФ. 2009. №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еревкоА.А., Чупахин А.П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равнения мелкой воды на вращающейся притягивающей сфер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ые стационарные волны и звуковые характеристики// ПМТФ. 2009. №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стапенко В.В., ЧеревкоА.А., Чупахин А.П.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О разрывных решениях уравнений мелкой воды на вращающейся притягивающей сфе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в. РАН. МЖГ. 2011. № 2. С. 33-51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ванова А.В., Остапенко В.В., Чупахин А.П.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исленное моделирование течений мелкой воды на вращающейся притягивающей сфер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 Вестник НГУ.  Серия: Математика, механика, информатика. 2010. Т.10, вып. 3. С. 30-45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0" y="40464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7" name="Picture 6" descr="Spasibo_za_vnivanie"/>
          <p:cNvPicPr/>
          <p:nvPr/>
        </p:nvPicPr>
        <p:blipFill>
          <a:blip r:embed="rId2"/>
          <a:stretch/>
        </p:blipFill>
        <p:spPr>
          <a:xfrm>
            <a:off x="1908000" y="1973160"/>
            <a:ext cx="52866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0" y="549360"/>
            <a:ext cx="85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Модель мелкой вод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2"/>
          <a:stretch/>
        </p:blipFill>
        <p:spPr>
          <a:xfrm>
            <a:off x="0" y="1989000"/>
            <a:ext cx="2843280" cy="280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2843280" y="1916280"/>
            <a:ext cx="58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ость параметра мелкой во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ссдвиговое  течение  по вертикальной перемен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3348000" y="3429000"/>
                <a:ext cx="14414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Ω</m:t>
                            </m:r>
                          </m:den>
                        </m:f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1"/>
              <p:cNvSpPr txBox="1"/>
              <p:nvPr/>
            </p:nvSpPr>
            <p:spPr>
              <a:xfrm>
                <a:off x="3348000" y="4365720"/>
                <a:ext cx="1440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3"/>
              <p:cNvSpPr txBox="1"/>
              <p:nvPr/>
            </p:nvSpPr>
            <p:spPr>
              <a:xfrm>
                <a:off x="3551400" y="6237360"/>
                <a:ext cx="18842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4"/>
              <p:cNvSpPr txBox="1"/>
              <p:nvPr/>
            </p:nvSpPr>
            <p:spPr>
              <a:xfrm>
                <a:off x="5580000" y="6165720"/>
                <a:ext cx="21463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15"/>
              <p:cNvSpPr txBox="1"/>
              <p:nvPr/>
            </p:nvSpPr>
            <p:spPr>
              <a:xfrm>
                <a:off x="7885080" y="1773360"/>
                <a:ext cx="9684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16"/>
          <p:cNvSpPr/>
          <p:nvPr/>
        </p:nvSpPr>
        <p:spPr>
          <a:xfrm>
            <a:off x="4933440" y="350028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число Россб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5004720" y="4581360"/>
            <a:ext cx="218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число Фру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40920" y="6237360"/>
            <a:ext cx="27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я для Зем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9"/>
              <p:cNvSpPr txBox="1"/>
              <p:nvPr/>
            </p:nvSpPr>
            <p:spPr>
              <a:xfrm>
                <a:off x="395280" y="4941720"/>
                <a:ext cx="365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20"/>
              <p:cNvSpPr txBox="1"/>
              <p:nvPr/>
            </p:nvSpPr>
            <p:spPr>
              <a:xfrm>
                <a:off x="395280" y="5734080"/>
                <a:ext cx="365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1"/>
              <p:cNvSpPr txBox="1"/>
              <p:nvPr/>
            </p:nvSpPr>
            <p:spPr>
              <a:xfrm>
                <a:off x="371520" y="5357880"/>
                <a:ext cx="490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Н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Text Box 22"/>
          <p:cNvSpPr/>
          <p:nvPr/>
        </p:nvSpPr>
        <p:spPr>
          <a:xfrm>
            <a:off x="826920" y="50133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радиус сфе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825480" y="539280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характерный вертикальный масшта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825840" y="580536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масштаб горизонтальной скор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0" y="31752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Дифференциальны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уравнения моде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47840" y="48848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79280" y="5157720"/>
            <a:ext cx="856944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Особенности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Гиперболическая система на компактном многообразии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аличие особенностей в решении (сильные и слабые разрывы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остроение решения в целом – склейка решений в различных областях, частях сферы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1332000" y="1844640"/>
                <a:ext cx="6629400" cy="22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Dυ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tg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θ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ctg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θ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ϕ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243000" y="3933720"/>
                <a:ext cx="23940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υ</m:t>
                    </m:r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V</m:t>
                    </m:r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ϕ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250920" y="4292640"/>
                <a:ext cx="86508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θ</m:t>
                    </m:r>
                    <m:r>
                      <m:t xml:space="preserve">&lt;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1"/>
              <p:cNvSpPr txBox="1"/>
              <p:nvPr/>
            </p:nvSpPr>
            <p:spPr>
              <a:xfrm>
                <a:off x="3768840" y="4336920"/>
                <a:ext cx="93636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ϕ</m:t>
                    </m:r>
                    <m:r>
                      <m:t xml:space="preserve">&lt;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2"/>
              <p:cNvSpPr txBox="1"/>
              <p:nvPr/>
            </p:nvSpPr>
            <p:spPr>
              <a:xfrm>
                <a:off x="239760" y="4576680"/>
                <a:ext cx="6001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13"/>
              <p:cNvSpPr txBox="1"/>
              <p:nvPr/>
            </p:nvSpPr>
            <p:spPr>
              <a:xfrm>
                <a:off x="252360" y="4954680"/>
                <a:ext cx="57456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4"/>
          <p:cNvSpPr/>
          <p:nvPr/>
        </p:nvSpPr>
        <p:spPr>
          <a:xfrm>
            <a:off x="2569680" y="3889080"/>
            <a:ext cx="4798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лная производная вдоль поверхности сферы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1124280" y="4246200"/>
            <a:ext cx="2635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ополнение до широты,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4250160"/>
            <a:ext cx="1257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долгота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7"/>
          <p:cNvSpPr/>
          <p:nvPr/>
        </p:nvSpPr>
        <p:spPr>
          <a:xfrm>
            <a:off x="1118520" y="4591440"/>
            <a:ext cx="510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- меридиональная,  долготная компоненты скор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1114200" y="4897800"/>
            <a:ext cx="1681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- глубина слоя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3"/>
          <p:cNvSpPr/>
          <p:nvPr/>
        </p:nvSpPr>
        <p:spPr>
          <a:xfrm>
            <a:off x="0" y="317520"/>
            <a:ext cx="8532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Интегральные</a:t>
            </a:r>
            <a:r>
              <a:rPr b="1" lang="ru-RU" sz="44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закон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сохран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3333600" y="2087640"/>
                <a:ext cx="39085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r>
                                  <m:t xml:space="preserve">∂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q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6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2486160" y="3260880"/>
                <a:ext cx="664524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</m:sSubSup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∮"/>
                                <m:supHide m:val="1"/>
                              </m:naryPr>
                              <m:sub>
                                <m:r>
                                  <m:t xml:space="preserve">∂</m:t>
                                </m:r>
                                <m:r>
                                  <m:t xml:space="preserve">S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n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h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∫"/>
                                    <m:supHide m:val="1"/>
                                  </m:naryPr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/>
                                  <m:e>
                                    <m:r>
                                      <m:t xml:space="preserve">hF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s</m:t>
                                    </m:r>
                                  </m:e>
                                </m:nary>
                              </m:e>
                            </m:nary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-1440" y="234936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он сохранения масс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0" y="33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23"/>
              <p:cNvSpPr txBox="1"/>
              <p:nvPr/>
            </p:nvSpPr>
            <p:spPr>
              <a:xfrm>
                <a:off x="250920" y="4971960"/>
                <a:ext cx="1753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Rectangle 24"/>
          <p:cNvSpPr/>
          <p:nvPr/>
        </p:nvSpPr>
        <p:spPr>
          <a:xfrm>
            <a:off x="1689480" y="5483880"/>
            <a:ext cx="1870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ила Кориолиса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2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6"/>
              <p:cNvSpPr txBox="1"/>
              <p:nvPr/>
            </p:nvSpPr>
            <p:spPr>
              <a:xfrm>
                <a:off x="309600" y="5477040"/>
                <a:ext cx="13129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80" name="Rectangle 2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8"/>
              <p:cNvSpPr txBox="1"/>
              <p:nvPr/>
            </p:nvSpPr>
            <p:spPr>
              <a:xfrm>
                <a:off x="289080" y="5880240"/>
                <a:ext cx="176184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×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29"/>
          <p:cNvSpPr/>
          <p:nvPr/>
        </p:nvSpPr>
        <p:spPr>
          <a:xfrm>
            <a:off x="0" y="33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2059200" y="5833800"/>
            <a:ext cx="2174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центробежная сила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39"/>
          <p:cNvSpPr/>
          <p:nvPr/>
        </p:nvSpPr>
        <p:spPr>
          <a:xfrm>
            <a:off x="-46080" y="329724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к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хранения полного импуль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40"/>
          <p:cNvSpPr/>
          <p:nvPr/>
        </p:nvSpPr>
        <p:spPr>
          <a:xfrm>
            <a:off x="-47880" y="428004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хра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ергии является выпуклым расшир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0" y="-147600"/>
            <a:ext cx="85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разрывных реше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Состояние равновес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046160" y="177336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стояние равновес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108000" y="2203560"/>
                <a:ext cx="11476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5657760" y="2133720"/>
                <a:ext cx="3084480" cy="14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8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θ</m:t>
                            </m:r>
                            <m:r>
                              <m:t xml:space="preserve">≤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1573200" y="1989000"/>
                <a:ext cx="254952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8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Text Box 8"/>
          <p:cNvSpPr/>
          <p:nvPr/>
        </p:nvSpPr>
        <p:spPr>
          <a:xfrm>
            <a:off x="4787280" y="1773360"/>
            <a:ext cx="34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ывное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стояние равновес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9"/>
              <p:cNvSpPr txBox="1"/>
              <p:nvPr/>
            </p:nvSpPr>
            <p:spPr>
              <a:xfrm>
                <a:off x="4284720" y="2706840"/>
                <a:ext cx="11476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Picture 10" descr=""/>
          <p:cNvPicPr/>
          <p:nvPr/>
        </p:nvPicPr>
        <p:blipFill>
          <a:blip r:embed="rId2"/>
          <a:stretch/>
        </p:blipFill>
        <p:spPr>
          <a:xfrm>
            <a:off x="755640" y="4797360"/>
            <a:ext cx="2592360" cy="2011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3"/>
          <a:stretch/>
        </p:blipFill>
        <p:spPr>
          <a:xfrm>
            <a:off x="395280" y="2724120"/>
            <a:ext cx="3168720" cy="2073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Копия-bulba_razrez"/>
          <p:cNvPicPr/>
          <p:nvPr/>
        </p:nvPicPr>
        <p:blipFill>
          <a:blip r:embed="rId4"/>
          <a:stretch/>
        </p:blipFill>
        <p:spPr>
          <a:xfrm>
            <a:off x="4694400" y="3459240"/>
            <a:ext cx="3549600" cy="2343240"/>
          </a:xfrm>
          <a:prstGeom prst="rect">
            <a:avLst/>
          </a:prstGeom>
          <a:ln w="0">
            <a:noFill/>
          </a:ln>
        </p:spPr>
      </p:pic>
      <p:sp>
        <p:nvSpPr>
          <p:cNvPr id="200" name="Line 13"/>
          <p:cNvSpPr/>
          <p:nvPr/>
        </p:nvSpPr>
        <p:spPr>
          <a:xfrm>
            <a:off x="4211640" y="1773360"/>
            <a:ext cx="0" cy="508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4335480" y="6021360"/>
            <a:ext cx="45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альнейшем они используются как начальные данные для нестационарных решени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15"/>
          <p:cNvSpPr/>
          <p:nvPr/>
        </p:nvSpPr>
        <p:spPr>
          <a:xfrm flipV="1">
            <a:off x="6419880" y="4005000"/>
            <a:ext cx="792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6"/>
              <p:cNvSpPr txBox="1"/>
              <p:nvPr/>
            </p:nvSpPr>
            <p:spPr>
              <a:xfrm>
                <a:off x="7170840" y="3751200"/>
                <a:ext cx="4888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0" y="260280"/>
            <a:ext cx="85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Разностная схема для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двумерной задач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902600" y="1766880"/>
            <a:ext cx="49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ностная схема, предложенная В.В. Остапенк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7"/>
              <p:cNvSpPr txBox="1"/>
              <p:nvPr/>
            </p:nvSpPr>
            <p:spPr>
              <a:xfrm>
                <a:off x="755640" y="2205000"/>
                <a:ext cx="24354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Δθ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ba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Δϕ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851280" y="1989000"/>
                <a:ext cx="342756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Δθ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βΔϕ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β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ba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1" name="Rectangle 9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22920" y="314172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сохранения мас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-82872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95280" y="42861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 сохранения импуль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0" y="299736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17"/>
              <p:cNvSpPr txBox="1"/>
              <p:nvPr/>
            </p:nvSpPr>
            <p:spPr>
              <a:xfrm>
                <a:off x="522360" y="3498840"/>
                <a:ext cx="74880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f>
                      <m:num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Δθ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Δϕ</m:t>
                        </m:r>
                        <m:r>
                          <m:t xml:space="preserve"> 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Rectangle 18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9"/>
              <p:cNvSpPr txBox="1"/>
              <p:nvPr/>
            </p:nvSpPr>
            <p:spPr>
              <a:xfrm>
                <a:off x="468360" y="4595760"/>
                <a:ext cx="81658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qυ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qυ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ϕ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Δθ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Rectangle 20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1"/>
              <p:cNvSpPr txBox="1"/>
              <p:nvPr/>
            </p:nvSpPr>
            <p:spPr>
              <a:xfrm>
                <a:off x="468360" y="5708520"/>
                <a:ext cx="819144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Qυ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Qυ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θ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QV</m:t>
                            </m:r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ϕ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g</m:t>
                        </m:r>
                        <m:f>
                          <m:num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Sup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Δϕ</m:t>
                            </m:r>
                          </m:den>
                        </m:f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q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611280" y="44280"/>
            <a:ext cx="6659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Примеры расчето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15f7b"/>
                </a:solidFill>
                <a:latin typeface="Times New Roman"/>
              </a:rPr>
              <a:t>Шеврон с углом на экваторе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085800" y="1938240"/>
            <a:ext cx="27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ад разрыва на сфер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6012000" y="2205000"/>
            <a:ext cx="3132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ффекты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умуляции для хребтов-шевронов или хребтов-колец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роизведение хребта в противоположной точке сферы ( в ослабле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роизведение хребта в начальной позиции (еще в более ослабленном виде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8" name="Фильм-шеврон.wmv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5689440" cy="42674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1332000" y="551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Text Box 8"/>
          <p:cNvSpPr/>
          <p:nvPr/>
        </p:nvSpPr>
        <p:spPr>
          <a:xfrm rot="18892800">
            <a:off x="667440" y="337392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9"/>
          <p:cNvSpPr/>
          <p:nvPr/>
        </p:nvSpPr>
        <p:spPr>
          <a:xfrm rot="18804000">
            <a:off x="3565080" y="45079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0"/>
          <p:cNvSpPr/>
          <p:nvPr/>
        </p:nvSpPr>
        <p:spPr>
          <a:xfrm flipV="1">
            <a:off x="1314360" y="2565000"/>
            <a:ext cx="2881440" cy="3024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1"/>
          <p:cNvSpPr/>
          <p:nvPr/>
        </p:nvSpPr>
        <p:spPr>
          <a:xfrm rot="18892800">
            <a:off x="670680" y="337068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12"/>
          <p:cNvSpPr/>
          <p:nvPr/>
        </p:nvSpPr>
        <p:spPr>
          <a:xfrm rot="18804000">
            <a:off x="3568320" y="45046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3"/>
          <p:cNvSpPr/>
          <p:nvPr/>
        </p:nvSpPr>
        <p:spPr>
          <a:xfrm>
            <a:off x="1332000" y="5516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вато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14"/>
          <p:cNvSpPr/>
          <p:nvPr/>
        </p:nvSpPr>
        <p:spPr>
          <a:xfrm rot="18892800">
            <a:off x="670680" y="337068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евер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15"/>
          <p:cNvSpPr/>
          <p:nvPr/>
        </p:nvSpPr>
        <p:spPr>
          <a:xfrm rot="18804000">
            <a:off x="3568320" y="45046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жный полю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306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8" descr=""/>
          <p:cNvPicPr/>
          <p:nvPr/>
        </p:nvPicPr>
        <p:blipFill>
          <a:blip r:embed="rId1"/>
          <a:stretch/>
        </p:blipFill>
        <p:spPr>
          <a:xfrm>
            <a:off x="1187280" y="1816200"/>
            <a:ext cx="3384720" cy="1973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384720" cy="1962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3"/>
          <a:stretch/>
        </p:blipFill>
        <p:spPr>
          <a:xfrm>
            <a:off x="331920" y="2521080"/>
            <a:ext cx="457200" cy="1104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4"/>
          <a:stretch/>
        </p:blipFill>
        <p:spPr>
          <a:xfrm>
            <a:off x="1258920" y="4172040"/>
            <a:ext cx="3313080" cy="1920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5"/>
          <a:stretch/>
        </p:blipFill>
        <p:spPr>
          <a:xfrm>
            <a:off x="5148360" y="4133880"/>
            <a:ext cx="3384360" cy="197496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9"/>
          <p:cNvSpPr/>
          <p:nvPr/>
        </p:nvSpPr>
        <p:spPr>
          <a:xfrm>
            <a:off x="0" y="-84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0" y="6912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5" name="Picture 13" descr=""/>
          <p:cNvPicPr/>
          <p:nvPr/>
        </p:nvPicPr>
        <p:blipFill>
          <a:blip r:embed="rId6"/>
          <a:stretch/>
        </p:blipFill>
        <p:spPr>
          <a:xfrm>
            <a:off x="7286760" y="0"/>
            <a:ext cx="1857240" cy="14860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4"/>
          <p:cNvSpPr/>
          <p:nvPr/>
        </p:nvSpPr>
        <p:spPr>
          <a:xfrm>
            <a:off x="611280" y="44280"/>
            <a:ext cx="66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15f7b"/>
                </a:solidFill>
                <a:latin typeface="Times New Roman"/>
              </a:rPr>
              <a:t>Линии то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2155680" y="3789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Rectangle 17"/>
          <p:cNvSpPr/>
          <p:nvPr/>
        </p:nvSpPr>
        <p:spPr>
          <a:xfrm>
            <a:off x="6117840" y="3789360"/>
            <a:ext cx="9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1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2509200" y="6122880"/>
            <a:ext cx="9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5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19"/>
          <p:cNvSpPr/>
          <p:nvPr/>
        </p:nvSpPr>
        <p:spPr>
          <a:xfrm>
            <a:off x="6535800" y="6129360"/>
            <a:ext cx="10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12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1:39Z</dcterms:created>
  <dc:creator>1</dc:creator>
  <dc:description/>
  <dc:language>en-US</dc:language>
  <cp:lastModifiedBy>Саша и Аня</cp:lastModifiedBy>
  <dcterms:modified xsi:type="dcterms:W3CDTF">2013-09-06T20:02:15Z</dcterms:modified>
  <cp:revision>67</cp:revision>
  <dc:subject/>
  <dc:title>Слайд 1</dc:title>
</cp:coreProperties>
</file>