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.gif" ContentType="image/gi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7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13E9-F26B-41E6-8018-13F616E607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B0B0-88F1-4E52-8E40-D54F92C234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A3DF-75EF-4A28-BDFF-FC6CBC631E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92E1-9372-4F64-A763-AADA57D5A4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9BA8-83D6-407B-9AA5-C469B19F21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B3DF-C287-41CB-929A-EEE72E757F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F06F-57B4-4A36-AB2D-2B430B5C54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7328-A72D-4DD9-853F-2DE5D44286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8246-344C-4B95-8E05-0AFDEAB31F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A832-323F-4DEC-8894-402A557AFD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459F-02B6-47B8-A439-E199373C6F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A534-E310-4790-904F-5BB711917E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EA20-873A-4BAA-A7EB-21157322E8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3918-A2F3-446F-B217-6015DFA790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F20D-E20F-4D36-AE9C-2F0510D45C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5086-80D9-464A-83B6-FEA4AF8C8F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5620-6CE7-4485-9856-96D013BBA8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B958-6D1A-45BF-A654-56F8F66063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EAEF-37DD-4757-973A-E568D69EB6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AC03-80E5-4F19-953F-8F9231A4A0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83ED-D53B-49EE-87CB-7CC018923E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A52A-A9CC-46DB-B00A-24054AFF02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DA71-5F12-4118-BBF1-CD5DB0740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CD40-0066-457E-8265-F45D963F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6F76-D484-4F1A-ADA2-8F176A87A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C7E5-A828-4CCD-81AD-321382E6C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E8F8-9D5E-4F9B-9ECB-F78089BB5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D5D7-62AF-41DA-9056-CD7C42F1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8C45-CD5C-4550-977E-39A263F8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55B2-2EA9-40E3-B430-39551618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6C1B-A2C1-4DD1-B200-0AD6779C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194B-A0E2-4E49-BBBA-FB020153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E4D0-1C76-47E5-8B1B-ECA63F84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0C4A-FE75-4A95-9A56-89359275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8563-0E21-421E-8F93-912764D9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09CA-F6B3-4AC1-A823-7FC6EA08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88EB-090C-4C32-88A6-6B914B9E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8BBA-4C76-4D3F-B95E-CADB24095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D7E0-71F0-4420-984D-43095B121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E58D-D8E0-479C-9391-30A17F0B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1745-E651-4AC2-A90E-CEE8F142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CF64-962F-46B8-8922-1D35121F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C2E6-010D-4324-928B-49057AA6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3680-CBD6-48C1-A1AF-D0570272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AE6C-BC68-4B3F-A8B8-9A9C8CF3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0A8E-3A39-4D2F-9BF1-BA158E51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eceaa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1afb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390F-2D31-4F22-8CB2-CE89799AE72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eceaa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1afb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CBA1-4CF6-4943-A0E8-3E32506B6BA1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0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838080" y="4425840"/>
            <a:ext cx="1501920" cy="12016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1042920" y="62326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15f7b"/>
                </a:solidFill>
                <a:latin typeface="Times New Roman"/>
              </a:rPr>
              <a:t>Институт математики им. С. Л. Соболева СО РАН, Новосибирск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15f7b"/>
                </a:solidFill>
                <a:latin typeface="Times New Roman"/>
              </a:rPr>
              <a:t>28 – 31 августа, 2013 г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2700360" y="43657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ванова Анна Владимиро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тапенко Владимир Викторович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ревко Александр Александрович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упахин Александр Павлович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2106360"/>
            <a:ext cx="896472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МЕЛКАЯ ВОДА НА СФЕРЕ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ТОЧНЫЕ РЕШЕНИЯ И КОМПЬЮТЕРНОЕ МОДЕЛИРОВАНИЕ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527120" y="282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Прямоугольник 1"/>
          <p:cNvSpPr/>
          <p:nvPr/>
        </p:nvSpPr>
        <p:spPr>
          <a:xfrm>
            <a:off x="1258920" y="465120"/>
            <a:ext cx="67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00"/>
                </a:solidFill>
                <a:latin typeface="Tahoma"/>
              </a:rPr>
              <a:t>Международная конференци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00"/>
                </a:solidFill>
                <a:latin typeface="Tahoma"/>
              </a:rPr>
              <a:t>«Дни геометрии в Новосибирске, 2013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14860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3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-82872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611280" y="0"/>
            <a:ext cx="6659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Примеры расчетов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15f7b"/>
                </a:solidFill>
                <a:latin typeface="Times New Roman"/>
              </a:rPr>
              <a:t>Два шеврона в разных местах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7" name="Фильм два шеврона.wmv" descr=""/>
          <p:cNvPicPr/>
          <p:nvPr/>
        </p:nvPicPr>
        <p:blipFill>
          <a:blip r:embed="rId2"/>
          <a:stretch/>
        </p:blipFill>
        <p:spPr>
          <a:xfrm>
            <a:off x="1403280" y="2133720"/>
            <a:ext cx="5832720" cy="43750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20"/>
          <p:cNvSpPr/>
          <p:nvPr/>
        </p:nvSpPr>
        <p:spPr>
          <a:xfrm rot="18768000">
            <a:off x="2323440" y="3518280"/>
            <a:ext cx="18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верный полю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Text Box 21"/>
          <p:cNvSpPr/>
          <p:nvPr/>
        </p:nvSpPr>
        <p:spPr>
          <a:xfrm>
            <a:off x="2628000" y="551664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вато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Line 22"/>
          <p:cNvSpPr/>
          <p:nvPr/>
        </p:nvSpPr>
        <p:spPr>
          <a:xfrm flipV="1">
            <a:off x="3276720" y="2565000"/>
            <a:ext cx="2519280" cy="2808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Text Box 23"/>
          <p:cNvSpPr/>
          <p:nvPr/>
        </p:nvSpPr>
        <p:spPr>
          <a:xfrm rot="18705000">
            <a:off x="4936680" y="450468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Южный полю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5173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9"/>
          <p:cNvSpPr/>
          <p:nvPr/>
        </p:nvSpPr>
        <p:spPr>
          <a:xfrm>
            <a:off x="0" y="-84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0" y="69120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4" name="Picture 13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148608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14"/>
          <p:cNvSpPr/>
          <p:nvPr/>
        </p:nvSpPr>
        <p:spPr>
          <a:xfrm>
            <a:off x="611280" y="44280"/>
            <a:ext cx="66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Линии ток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Rectangle 16"/>
          <p:cNvSpPr/>
          <p:nvPr/>
        </p:nvSpPr>
        <p:spPr>
          <a:xfrm>
            <a:off x="2155680" y="378936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5894640" y="3789360"/>
            <a:ext cx="93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5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Rectangle 18"/>
          <p:cNvSpPr/>
          <p:nvPr/>
        </p:nvSpPr>
        <p:spPr>
          <a:xfrm>
            <a:off x="2510280" y="6237360"/>
            <a:ext cx="10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12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Rectangle 19"/>
          <p:cNvSpPr/>
          <p:nvPr/>
        </p:nvSpPr>
        <p:spPr>
          <a:xfrm>
            <a:off x="6545880" y="6237360"/>
            <a:ext cx="102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225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2"/>
          <a:stretch/>
        </p:blipFill>
        <p:spPr>
          <a:xfrm>
            <a:off x="934920" y="1736640"/>
            <a:ext cx="3637080" cy="20718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"/>
          <p:cNvPicPr/>
          <p:nvPr/>
        </p:nvPicPr>
        <p:blipFill>
          <a:blip r:embed="rId3"/>
          <a:stretch/>
        </p:blipFill>
        <p:spPr>
          <a:xfrm>
            <a:off x="4878360" y="1714680"/>
            <a:ext cx="3438720" cy="20746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"/>
          <p:cNvPicPr/>
          <p:nvPr/>
        </p:nvPicPr>
        <p:blipFill>
          <a:blip r:embed="rId4"/>
          <a:stretch/>
        </p:blipFill>
        <p:spPr>
          <a:xfrm>
            <a:off x="382680" y="3584520"/>
            <a:ext cx="457200" cy="11048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5"/>
          <a:stretch/>
        </p:blipFill>
        <p:spPr>
          <a:xfrm>
            <a:off x="1116000" y="4264200"/>
            <a:ext cx="3425760" cy="2070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" descr=""/>
          <p:cNvPicPr/>
          <p:nvPr/>
        </p:nvPicPr>
        <p:blipFill>
          <a:blip r:embed="rId6"/>
          <a:stretch/>
        </p:blipFill>
        <p:spPr>
          <a:xfrm>
            <a:off x="4878360" y="4245120"/>
            <a:ext cx="3438720" cy="208908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148608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-82872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Rectangle 9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Rectangle 10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433440" y="44280"/>
            <a:ext cx="7091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Примеры расчетов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15f7b"/>
                </a:solidFill>
                <a:latin typeface="Times New Roman"/>
              </a:rPr>
              <a:t>Эллиптическое кольцо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Text Box 15"/>
          <p:cNvSpPr/>
          <p:nvPr/>
        </p:nvSpPr>
        <p:spPr>
          <a:xfrm rot="19336800">
            <a:off x="4860360" y="4149360"/>
            <a:ext cx="18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верный полю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Line 16"/>
          <p:cNvSpPr/>
          <p:nvPr/>
        </p:nvSpPr>
        <p:spPr>
          <a:xfrm flipV="1">
            <a:off x="1258920" y="2421000"/>
            <a:ext cx="3672000" cy="2952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 Box 17"/>
          <p:cNvSpPr/>
          <p:nvPr/>
        </p:nvSpPr>
        <p:spPr>
          <a:xfrm>
            <a:off x="1258560" y="6491160"/>
            <a:ext cx="43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муляция происходит в фокусах эллипс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6" name="Фильм кольцо.wmv" descr=""/>
          <p:cNvPicPr/>
          <p:nvPr/>
        </p:nvPicPr>
        <p:blipFill>
          <a:blip r:embed="rId2"/>
          <a:stretch/>
        </p:blipFill>
        <p:spPr>
          <a:xfrm>
            <a:off x="1332000" y="1844640"/>
            <a:ext cx="6234120" cy="467532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19"/>
          <p:cNvSpPr/>
          <p:nvPr/>
        </p:nvSpPr>
        <p:spPr>
          <a:xfrm>
            <a:off x="2196360" y="587700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вато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Text Box 20"/>
          <p:cNvSpPr/>
          <p:nvPr/>
        </p:nvSpPr>
        <p:spPr>
          <a:xfrm rot="18773400">
            <a:off x="2128320" y="335160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Южный полю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Text Box 21"/>
          <p:cNvSpPr/>
          <p:nvPr/>
        </p:nvSpPr>
        <p:spPr>
          <a:xfrm rot="18682800">
            <a:off x="5276520" y="4453200"/>
            <a:ext cx="18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верный полю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Line 22"/>
          <p:cNvSpPr/>
          <p:nvPr/>
        </p:nvSpPr>
        <p:spPr>
          <a:xfrm flipV="1">
            <a:off x="2627280" y="2420640"/>
            <a:ext cx="3024360" cy="3382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9285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6" descr=""/>
          <p:cNvPicPr/>
          <p:nvPr/>
        </p:nvPicPr>
        <p:blipFill>
          <a:blip r:embed="rId1"/>
          <a:stretch/>
        </p:blipFill>
        <p:spPr>
          <a:xfrm>
            <a:off x="228600" y="2462040"/>
            <a:ext cx="457200" cy="110520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9"/>
          <p:cNvSpPr/>
          <p:nvPr/>
        </p:nvSpPr>
        <p:spPr>
          <a:xfrm>
            <a:off x="0" y="-84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Rectangle 10"/>
          <p:cNvSpPr/>
          <p:nvPr/>
        </p:nvSpPr>
        <p:spPr>
          <a:xfrm>
            <a:off x="0" y="69120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4" name="Picture 13" descr=""/>
          <p:cNvPicPr/>
          <p:nvPr/>
        </p:nvPicPr>
        <p:blipFill>
          <a:blip r:embed="rId2"/>
          <a:stretch/>
        </p:blipFill>
        <p:spPr>
          <a:xfrm>
            <a:off x="7286760" y="0"/>
            <a:ext cx="1857240" cy="148608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4"/>
          <p:cNvSpPr/>
          <p:nvPr/>
        </p:nvSpPr>
        <p:spPr>
          <a:xfrm>
            <a:off x="611280" y="44280"/>
            <a:ext cx="66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Линии ток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2155680" y="334980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Rectangle 17"/>
          <p:cNvSpPr/>
          <p:nvPr/>
        </p:nvSpPr>
        <p:spPr>
          <a:xfrm>
            <a:off x="5896800" y="3343320"/>
            <a:ext cx="79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7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Rectangle 18"/>
          <p:cNvSpPr/>
          <p:nvPr/>
        </p:nvSpPr>
        <p:spPr>
          <a:xfrm>
            <a:off x="2512440" y="5830920"/>
            <a:ext cx="9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9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Rectangle 19"/>
          <p:cNvSpPr/>
          <p:nvPr/>
        </p:nvSpPr>
        <p:spPr>
          <a:xfrm>
            <a:off x="6545880" y="5830920"/>
            <a:ext cx="102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25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3"/>
          <a:stretch/>
        </p:blipFill>
        <p:spPr>
          <a:xfrm>
            <a:off x="1181160" y="1484280"/>
            <a:ext cx="3390840" cy="18795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" descr=""/>
          <p:cNvPicPr/>
          <p:nvPr/>
        </p:nvPicPr>
        <p:blipFill>
          <a:blip r:embed="rId4"/>
          <a:stretch/>
        </p:blipFill>
        <p:spPr>
          <a:xfrm>
            <a:off x="5199120" y="1487520"/>
            <a:ext cx="3247920" cy="185580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4355640" y="1761120"/>
            <a:ext cx="4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4" name="Picture 7" descr=""/>
          <p:cNvPicPr/>
          <p:nvPr/>
        </p:nvPicPr>
        <p:blipFill>
          <a:blip r:embed="rId5"/>
          <a:stretch/>
        </p:blipFill>
        <p:spPr>
          <a:xfrm>
            <a:off x="1403280" y="3772080"/>
            <a:ext cx="3344760" cy="19364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8" descr=""/>
          <p:cNvPicPr/>
          <p:nvPr/>
        </p:nvPicPr>
        <p:blipFill>
          <a:blip r:embed="rId6"/>
          <a:stretch/>
        </p:blipFill>
        <p:spPr>
          <a:xfrm>
            <a:off x="5249880" y="3772080"/>
            <a:ext cx="3227400" cy="185256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1"/>
          <p:cNvSpPr/>
          <p:nvPr/>
        </p:nvSpPr>
        <p:spPr>
          <a:xfrm>
            <a:off x="166680" y="6167520"/>
            <a:ext cx="89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и задачи имеют наглядную физическую интерпретацию,  водяные хребты в виде шевронов встречаются на снимках со спутников поверхности Земли  и других планет (как облаков в атмосфере, так и течений в океане). Хребет в виде эллиптического кольца моделирует распространение волн при падении метеорита или другого крупного объекта в океан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fig_3"/>
          <p:cNvPicPr/>
          <p:nvPr/>
        </p:nvPicPr>
        <p:blipFill>
          <a:blip r:embed="rId1"/>
          <a:stretch/>
        </p:blipFill>
        <p:spPr>
          <a:xfrm>
            <a:off x="5219640" y="1484280"/>
            <a:ext cx="3522600" cy="36003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"/>
          <p:cNvPicPr/>
          <p:nvPr/>
        </p:nvPicPr>
        <p:blipFill>
          <a:blip r:embed="rId2"/>
          <a:stretch/>
        </p:blipFill>
        <p:spPr>
          <a:xfrm>
            <a:off x="7286760" y="0"/>
            <a:ext cx="1857240" cy="148608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4"/>
          <p:cNvSpPr/>
          <p:nvPr/>
        </p:nvSpPr>
        <p:spPr>
          <a:xfrm>
            <a:off x="0" y="18900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Зональные течени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4"/>
              <p:cNvSpPr txBox="1"/>
              <p:nvPr/>
            </p:nvSpPr>
            <p:spPr>
              <a:xfrm>
                <a:off x="108000" y="2276640"/>
                <a:ext cx="504180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,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8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θ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0</m:t>
                            </m:r>
                            <m:r>
                              <m:t xml:space="preserve">≤</m:t>
                            </m:r>
                            <m:r>
                              <m:t xml:space="preserve">θ</m:t>
                            </m:r>
                            <m:r>
                              <m:t xml:space="preserve">&lt;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1" name="Text Box 6"/>
          <p:cNvSpPr/>
          <p:nvPr/>
        </p:nvSpPr>
        <p:spPr>
          <a:xfrm>
            <a:off x="179280" y="3860640"/>
            <a:ext cx="53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мимо состояния равновесия  существует класс точных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зональны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ечений, в которых меридиональная скорост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а скорость по параллелям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ечение направлено вдоль паралл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уществуют решения, сопрягающие состояние равновесия с такими течениями через контактный разры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7"/>
              <p:cNvSpPr txBox="1"/>
              <p:nvPr/>
            </p:nvSpPr>
            <p:spPr>
              <a:xfrm>
                <a:off x="2916360" y="4484520"/>
                <a:ext cx="48096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8"/>
              <p:cNvSpPr txBox="1"/>
              <p:nvPr/>
            </p:nvSpPr>
            <p:spPr>
              <a:xfrm>
                <a:off x="1619280" y="4773600"/>
                <a:ext cx="51444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4" name="Rectangle 9"/>
          <p:cNvSpPr/>
          <p:nvPr/>
        </p:nvSpPr>
        <p:spPr>
          <a:xfrm>
            <a:off x="5435640" y="4971960"/>
            <a:ext cx="381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филь свободной поверхности жидкости (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 относительно вращающейся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феры (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 в стационарном решении с контактным разрывом  пр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10"/>
              <p:cNvSpPr txBox="1"/>
              <p:nvPr/>
            </p:nvSpPr>
            <p:spPr>
              <a:xfrm>
                <a:off x="5580000" y="6124680"/>
                <a:ext cx="25923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f>
                      <m:num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8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148608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4"/>
          <p:cNvSpPr/>
          <p:nvPr/>
        </p:nvSpPr>
        <p:spPr>
          <a:xfrm>
            <a:off x="-82872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611280" y="0"/>
            <a:ext cx="73454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Примеры расчетов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15f7b"/>
                </a:solidFill>
                <a:latin typeface="Times New Roman"/>
              </a:rPr>
              <a:t>Устойчивость зонального течения относительно периодического возмущения границ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9" name="Picture 7" descr=""/>
          <p:cNvPicPr/>
          <p:nvPr/>
        </p:nvPicPr>
        <p:blipFill>
          <a:blip r:embed="rId2"/>
          <a:stretch/>
        </p:blipFill>
        <p:spPr>
          <a:xfrm>
            <a:off x="0" y="2392200"/>
            <a:ext cx="2943360" cy="16099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"/>
          <p:cNvPicPr/>
          <p:nvPr/>
        </p:nvPicPr>
        <p:blipFill>
          <a:blip r:embed="rId3"/>
          <a:stretch/>
        </p:blipFill>
        <p:spPr>
          <a:xfrm>
            <a:off x="3240" y="4729320"/>
            <a:ext cx="3030480" cy="16016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5" descr=""/>
          <p:cNvPicPr/>
          <p:nvPr/>
        </p:nvPicPr>
        <p:blipFill>
          <a:blip r:embed="rId4"/>
          <a:stretch/>
        </p:blipFill>
        <p:spPr>
          <a:xfrm>
            <a:off x="3033720" y="2359080"/>
            <a:ext cx="3027240" cy="16430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"/>
          <p:cNvPicPr/>
          <p:nvPr/>
        </p:nvPicPr>
        <p:blipFill>
          <a:blip r:embed="rId5"/>
          <a:stretch/>
        </p:blipFill>
        <p:spPr>
          <a:xfrm>
            <a:off x="2946240" y="4657680"/>
            <a:ext cx="3114720" cy="16509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"/>
          <p:cNvPicPr/>
          <p:nvPr/>
        </p:nvPicPr>
        <p:blipFill>
          <a:blip r:embed="rId6"/>
          <a:stretch/>
        </p:blipFill>
        <p:spPr>
          <a:xfrm>
            <a:off x="6095880" y="2359080"/>
            <a:ext cx="2940120" cy="16002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" descr=""/>
          <p:cNvPicPr/>
          <p:nvPr/>
        </p:nvPicPr>
        <p:blipFill>
          <a:blip r:embed="rId7"/>
          <a:stretch/>
        </p:blipFill>
        <p:spPr>
          <a:xfrm>
            <a:off x="5845320" y="4651200"/>
            <a:ext cx="3190680" cy="16574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" descr=""/>
          <p:cNvPicPr/>
          <p:nvPr/>
        </p:nvPicPr>
        <p:blipFill>
          <a:blip r:embed="rId8"/>
          <a:stretch/>
        </p:blipFill>
        <p:spPr>
          <a:xfrm>
            <a:off x="8432640" y="1479600"/>
            <a:ext cx="533520" cy="110484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Rectangle 9"/>
          <p:cNvSpPr/>
          <p:nvPr/>
        </p:nvSpPr>
        <p:spPr>
          <a:xfrm>
            <a:off x="241200" y="1832040"/>
            <a:ext cx="893124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филь глубин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=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t=10                                                      t=200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9"/>
          <p:cNvSpPr/>
          <p:nvPr/>
        </p:nvSpPr>
        <p:spPr>
          <a:xfrm>
            <a:off x="249120" y="4100760"/>
            <a:ext cx="893124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лготная компонента скорост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=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t=10                                                      t=200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V_long.wmv" descr=""/>
          <p:cNvPicPr/>
          <p:nvPr/>
        </p:nvPicPr>
        <p:blipFill>
          <a:blip r:embed="rId1"/>
          <a:stretch/>
        </p:blipFill>
        <p:spPr>
          <a:xfrm>
            <a:off x="1476360" y="2241720"/>
            <a:ext cx="6191280" cy="46432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"/>
          <p:cNvPicPr/>
          <p:nvPr/>
        </p:nvPicPr>
        <p:blipFill>
          <a:blip r:embed="rId2"/>
          <a:stretch/>
        </p:blipFill>
        <p:spPr>
          <a:xfrm>
            <a:off x="7286760" y="0"/>
            <a:ext cx="1857240" cy="148608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12"/>
          <p:cNvSpPr/>
          <p:nvPr/>
        </p:nvSpPr>
        <p:spPr>
          <a:xfrm>
            <a:off x="433440" y="-27000"/>
            <a:ext cx="709128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Примеры расчетов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15f7b"/>
                </a:solidFill>
                <a:latin typeface="Times New Roman"/>
              </a:rPr>
              <a:t>Устойчивость зонального течения относительно периодического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15f7b"/>
                </a:solidFill>
                <a:latin typeface="Times New Roman"/>
              </a:rPr>
              <a:t>возмущения границ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TextBox 4"/>
          <p:cNvSpPr/>
          <p:nvPr/>
        </p:nvSpPr>
        <p:spPr>
          <a:xfrm>
            <a:off x="3132000" y="1959120"/>
            <a:ext cx="3095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V –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долготная скорость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5240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601344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Струйные течения и шевроны на Юпитере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547640" y="5013360"/>
          <a:ext cx="6553440" cy="426960"/>
        </p:xfrm>
        <a:graphic>
          <a:graphicData uri="http://schemas.openxmlformats.org/drawingml/2006/table">
            <a:tbl>
              <a:tblPr/>
              <a:tblGrid>
                <a:gridCol w="6553440"/>
              </a:tblGrid>
              <a:tr h="426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снимке «Кассини» выделены «шевроны» и антициклон South Equatorial Disturbance (SED). (Здесь и ниже изображения NASA / JPL / Space Science Institute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5" name="Picture 5" descr="На снимке «Кассини» выделены «шевроны» и антициклон South Equatorial Disturbance (SED). (Здесь и ниже изображения NASA / JPL / Space Science Institute.)"/>
          <p:cNvPicPr/>
          <p:nvPr/>
        </p:nvPicPr>
        <p:blipFill>
          <a:blip r:embed="rId1"/>
          <a:stretch/>
        </p:blipFill>
        <p:spPr>
          <a:xfrm>
            <a:off x="1692360" y="1844640"/>
            <a:ext cx="5715000" cy="31240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25"/>
          <p:cNvSpPr/>
          <p:nvPr/>
        </p:nvSpPr>
        <p:spPr>
          <a:xfrm>
            <a:off x="287280" y="5392800"/>
            <a:ext cx="885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ратите внимание на линию маленьких тёмных V-образных «шевронов», которая сформировалась вдоль одного края течения и мечется то на запад, то на восток. Со временем относительно чёткая линия превращается в волну, и «шевроны» движутся вверх и вниз (то есть на север и юг) — точно так же, как на Земле.                    </a:t>
            </a:r>
            <a:r>
              <a:rPr b="0" lang="ru-RU" sz="1800" spc="-1" strike="noStrike" u="sng">
                <a:solidFill>
                  <a:srgbClr val="0000cc"/>
                </a:solidFill>
                <a:uFillTx/>
                <a:latin typeface="Tahoma"/>
              </a:rPr>
              <a:t>http://science.compulenta.ru/666521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7" name="Picture 29" descr=""/>
          <p:cNvPicPr/>
          <p:nvPr/>
        </p:nvPicPr>
        <p:blipFill>
          <a:blip r:embed="rId2"/>
          <a:stretch/>
        </p:blipFill>
        <p:spPr>
          <a:xfrm>
            <a:off x="7286760" y="0"/>
            <a:ext cx="185724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148608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4"/>
          <p:cNvSpPr/>
          <p:nvPr/>
        </p:nvSpPr>
        <p:spPr>
          <a:xfrm>
            <a:off x="-82872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611280" y="0"/>
            <a:ext cx="6659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Примеры расчетов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15f7b"/>
                </a:solidFill>
                <a:latin typeface="Times New Roman"/>
              </a:rPr>
              <a:t>Шевроны с зональным течением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2" name="Фильм 045(2).wmv" descr=""/>
          <p:cNvPicPr/>
          <p:nvPr/>
        </p:nvPicPr>
        <p:blipFill>
          <a:blip r:embed="rId2"/>
          <a:stretch/>
        </p:blipFill>
        <p:spPr>
          <a:xfrm>
            <a:off x="770040" y="1389240"/>
            <a:ext cx="72547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8240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792920" cy="10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15f7b"/>
                </a:solidFill>
                <a:latin typeface="Times New Roman"/>
              </a:rPr>
              <a:t>Вихри в трехмерном виде</a:t>
            </a:r>
            <a:br>
              <a:rPr sz="3000"/>
            </a:br>
            <a:r>
              <a:rPr b="1" lang="ru-RU" sz="3000" spc="-1" strike="noStrike">
                <a:solidFill>
                  <a:srgbClr val="515f7b"/>
                </a:solidFill>
                <a:latin typeface="Times New Roman"/>
              </a:rPr>
              <a:t>при </a:t>
            </a:r>
            <a:r>
              <a:rPr b="1" lang="en-US" sz="3000" spc="-1" strike="noStrike">
                <a:solidFill>
                  <a:srgbClr val="515f7b"/>
                </a:solidFill>
                <a:latin typeface="Times New Roman"/>
              </a:rPr>
              <a:t>t=60</a:t>
            </a:r>
            <a:endParaRPr b="0" lang="en-US" sz="30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14860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6" descr="60"/>
          <p:cNvPicPr/>
          <p:nvPr/>
        </p:nvPicPr>
        <p:blipFill>
          <a:blip r:embed="rId2"/>
          <a:stretch/>
        </p:blipFill>
        <p:spPr>
          <a:xfrm>
            <a:off x="250920" y="1916280"/>
            <a:ext cx="4924440" cy="43812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7" descr="60 max"/>
          <p:cNvPicPr/>
          <p:nvPr/>
        </p:nvPicPr>
        <p:blipFill>
          <a:blip r:embed="rId3"/>
          <a:stretch/>
        </p:blipFill>
        <p:spPr>
          <a:xfrm>
            <a:off x="5219640" y="2421000"/>
            <a:ext cx="3700440" cy="329256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9"/>
          <p:cNvSpPr/>
          <p:nvPr/>
        </p:nvSpPr>
        <p:spPr>
          <a:xfrm>
            <a:off x="1908000" y="3357720"/>
            <a:ext cx="1079640" cy="1079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10"/>
          <p:cNvSpPr/>
          <p:nvPr/>
        </p:nvSpPr>
        <p:spPr>
          <a:xfrm>
            <a:off x="2987640" y="4149720"/>
            <a:ext cx="223200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14860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0" y="333360"/>
            <a:ext cx="85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Физическа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постановка задач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684360" y="1844640"/>
            <a:ext cx="845964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Движение сплошной среды  (газ, жидкость) на вращающейся притягивающейся сфере (атмосфера планет, Мировой океан)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Гравитация и вращение, действуя в различных направлениях,  обеспечивают глобальный баланс среды. На этом фоне развиваются движения среды различных масштабов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10" descr="Simulation_of_Debris_from_March_11_2011_Japan_tsunami"/>
          <p:cNvPicPr/>
          <p:nvPr/>
        </p:nvPicPr>
        <p:blipFill>
          <a:blip r:embed="rId2"/>
          <a:stretch/>
        </p:blipFill>
        <p:spPr>
          <a:xfrm>
            <a:off x="179280" y="3716280"/>
            <a:ext cx="4854600" cy="31417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1"/>
          <p:cNvSpPr/>
          <p:nvPr/>
        </p:nvSpPr>
        <p:spPr>
          <a:xfrm>
            <a:off x="684360" y="3141720"/>
            <a:ext cx="417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еремещение потока, несущего обломки деревьев, домов и т.д., смытые в океан во время цунами в Японии (концентрация примеси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4824360" y="5660280"/>
            <a:ext cx="39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еждународ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ы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тихоокеанс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исследовательс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центр при университете штата Гавай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4788000" y="3572640"/>
            <a:ext cx="40320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ченые работали под руководством россиянина Николая Максименко. Используя данные спутниковых наблюдений, а также информацию, полученную от 15 тысяч плавучих датчиков, специалисты попытались предсказать, как будет двигаться поток, несущий обломки деревьев, домов и так далее, смытые в океан во время цунами 11 марта 2011 года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ак показала разработанная авторами модель, первое столкновение потока с Гавайями произойдет через два год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 второе - через пять лет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755640" y="184428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риведена система законов сохранения массы и полного импульса для уравнений мелкой воды на вращающейся притягивающей сфере.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Выполнены численные расчеты задач о распаде разрыва в двумерном случае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1)  Представлены результаты численного моделирования задачи о распаде разрыва в результате обрушения водяных «хребтов» различной геометрии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5f5f5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Основные эффекты при распространении возмущений на сфере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ериодическое повторение основных этапов,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кумулятивный эффект (фокусировка) возмущений,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образованием вихрей различных масштабов, взаимодействие их между собой: рождение и уничтожение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2) Представлены результаты численного моделирования распространения возмущений на контактном разрыве между состоянием равновесия и зональным течением с возмущением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оказана устойчивость зонального течения относительно периодического возмущения границы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611280" y="549360"/>
            <a:ext cx="66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Заключени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1" name="Picture 5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148608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3"/>
          <p:cNvSpPr/>
          <p:nvPr/>
        </p:nvSpPr>
        <p:spPr>
          <a:xfrm>
            <a:off x="0" y="40464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250920" y="2421000"/>
            <a:ext cx="871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ЧеревкоА.А., Чупахин А.П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Уравнения мелкой воды на вращающейся притягивающей сфере// ПМТФ. 2009. №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ЧеревкоА.А., Чупахин А.П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Уравнения мелкой воды на вращающейся притягивающей сфер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стые стационарные волны и звуковые характеристики// ПМТФ. 2009. №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стапенко В.В., ЧеревкоА.А., Чупахин А.П.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 разрывных решениях уравнений мелкой воды на вращающейся притягивающей сфер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в. РАН. МЖГ. 2011. № 2. С. 33-51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Иванова А.В., Остапенко В.В., Чупахин А.П.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Численное моделирование течений мелкой воды на вращающейся притягивающей сфер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/ Вестник НГУ.  Серия: Математика, механика, информатика. 2010. Т.10, вып. 3. С. 30-45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148608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3"/>
          <p:cNvSpPr/>
          <p:nvPr/>
        </p:nvSpPr>
        <p:spPr>
          <a:xfrm>
            <a:off x="0" y="40464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7" name="Picture 6" descr="Spasibo_za_vnivanie"/>
          <p:cNvPicPr/>
          <p:nvPr/>
        </p:nvPicPr>
        <p:blipFill>
          <a:blip r:embed="rId2"/>
          <a:stretch/>
        </p:blipFill>
        <p:spPr>
          <a:xfrm>
            <a:off x="1908000" y="1973160"/>
            <a:ext cx="528660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14860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0" y="54936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Модель мелкой вод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2"/>
          <a:stretch/>
        </p:blipFill>
        <p:spPr>
          <a:xfrm>
            <a:off x="0" y="1989000"/>
            <a:ext cx="2843280" cy="28083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2843280" y="1916280"/>
            <a:ext cx="58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ость параметра мелкой воды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ссдвиговое  течение  по вертикальной переменно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9"/>
              <p:cNvSpPr txBox="1"/>
              <p:nvPr/>
            </p:nvSpPr>
            <p:spPr>
              <a:xfrm>
                <a:off x="3348000" y="3429000"/>
                <a:ext cx="144144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Ω</m:t>
                            </m:r>
                          </m:den>
                        </m:f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2" name="Rectangle 10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11"/>
              <p:cNvSpPr txBox="1"/>
              <p:nvPr/>
            </p:nvSpPr>
            <p:spPr>
              <a:xfrm>
                <a:off x="3348000" y="4365720"/>
                <a:ext cx="14400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H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Rectangle 12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3"/>
              <p:cNvSpPr txBox="1"/>
              <p:nvPr/>
            </p:nvSpPr>
            <p:spPr>
              <a:xfrm>
                <a:off x="3551400" y="6237360"/>
                <a:ext cx="18842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4"/>
              <p:cNvSpPr txBox="1"/>
              <p:nvPr/>
            </p:nvSpPr>
            <p:spPr>
              <a:xfrm>
                <a:off x="5580000" y="6165720"/>
                <a:ext cx="214632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~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15"/>
              <p:cNvSpPr txBox="1"/>
              <p:nvPr/>
            </p:nvSpPr>
            <p:spPr>
              <a:xfrm>
                <a:off x="7885080" y="1773360"/>
                <a:ext cx="9684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" name="Text Box 16"/>
          <p:cNvSpPr/>
          <p:nvPr/>
        </p:nvSpPr>
        <p:spPr>
          <a:xfrm>
            <a:off x="4933440" y="3500280"/>
            <a:ext cx="22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число Россби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5004720" y="4581360"/>
            <a:ext cx="21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число Фру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340920" y="6237360"/>
            <a:ext cx="27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чения для Зем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19"/>
              <p:cNvSpPr txBox="1"/>
              <p:nvPr/>
            </p:nvSpPr>
            <p:spPr>
              <a:xfrm>
                <a:off x="395280" y="4941720"/>
                <a:ext cx="3650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20"/>
              <p:cNvSpPr txBox="1"/>
              <p:nvPr/>
            </p:nvSpPr>
            <p:spPr>
              <a:xfrm>
                <a:off x="395280" y="5734080"/>
                <a:ext cx="3650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21"/>
              <p:cNvSpPr txBox="1"/>
              <p:nvPr/>
            </p:nvSpPr>
            <p:spPr>
              <a:xfrm>
                <a:off x="371520" y="5357880"/>
                <a:ext cx="4903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Н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4" name="Text Box 22"/>
          <p:cNvSpPr/>
          <p:nvPr/>
        </p:nvSpPr>
        <p:spPr>
          <a:xfrm>
            <a:off x="826920" y="501336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радиус сфер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23"/>
          <p:cNvSpPr/>
          <p:nvPr/>
        </p:nvSpPr>
        <p:spPr>
          <a:xfrm>
            <a:off x="825480" y="5392800"/>
            <a:ext cx="39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характерный вертикальный масшта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24"/>
          <p:cNvSpPr/>
          <p:nvPr/>
        </p:nvSpPr>
        <p:spPr>
          <a:xfrm>
            <a:off x="825840" y="5805360"/>
            <a:ext cx="37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масштаб горизонтальной скор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14860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"/>
          <p:cNvSpPr/>
          <p:nvPr/>
        </p:nvSpPr>
        <p:spPr>
          <a:xfrm>
            <a:off x="0" y="317520"/>
            <a:ext cx="85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Дифференциальны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уравнения модел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47840" y="4884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79280" y="5157720"/>
            <a:ext cx="856944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Особенности: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Гиперболическая система на компактном многообразии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Наличие особенностей в решении (сильные и слабые разрывы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остроение решения в целом – склейка решений в различных областях, частях сферы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8"/>
              <p:cNvSpPr txBox="1"/>
              <p:nvPr/>
            </p:nvSpPr>
            <p:spPr>
              <a:xfrm>
                <a:off x="1332000" y="1844640"/>
                <a:ext cx="6629400" cy="22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Dυ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ctg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0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θ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ctg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ϕ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9"/>
              <p:cNvSpPr txBox="1"/>
              <p:nvPr/>
            </p:nvSpPr>
            <p:spPr>
              <a:xfrm>
                <a:off x="243000" y="3933720"/>
                <a:ext cx="239400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∂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υ</m:t>
                    </m:r>
                    <m:sSub>
                      <m:e>
                        <m:r>
                          <m:t xml:space="preserve">∂</m:t>
                        </m:r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V</m:t>
                    </m:r>
                    <m:sSub>
                      <m:e>
                        <m:r>
                          <m:t xml:space="preserve">∂</m:t>
                        </m:r>
                      </m:e>
                      <m:sub>
                        <m:r>
                          <m:t xml:space="preserve">ϕ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10"/>
              <p:cNvSpPr txBox="1"/>
              <p:nvPr/>
            </p:nvSpPr>
            <p:spPr>
              <a:xfrm>
                <a:off x="250920" y="4292640"/>
                <a:ext cx="86508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θ</m:t>
                    </m:r>
                    <m:r>
                      <m:t xml:space="preserve">&lt;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1"/>
              <p:cNvSpPr txBox="1"/>
              <p:nvPr/>
            </p:nvSpPr>
            <p:spPr>
              <a:xfrm>
                <a:off x="3768840" y="4336920"/>
                <a:ext cx="93636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ϕ</m:t>
                    </m:r>
                    <m:r>
                      <m:t xml:space="preserve">&lt;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2"/>
              <p:cNvSpPr txBox="1"/>
              <p:nvPr/>
            </p:nvSpPr>
            <p:spPr>
              <a:xfrm>
                <a:off x="239760" y="4576680"/>
                <a:ext cx="60012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3"/>
              <p:cNvSpPr txBox="1"/>
              <p:nvPr/>
            </p:nvSpPr>
            <p:spPr>
              <a:xfrm>
                <a:off x="252360" y="4954680"/>
                <a:ext cx="574560" cy="29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Rectangle 14"/>
          <p:cNvSpPr/>
          <p:nvPr/>
        </p:nvSpPr>
        <p:spPr>
          <a:xfrm>
            <a:off x="2569680" y="3889080"/>
            <a:ext cx="4798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олная производная вдоль поверхности сферы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1124280" y="4246200"/>
            <a:ext cx="2635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дополнение до широты,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16"/>
          <p:cNvSpPr/>
          <p:nvPr/>
        </p:nvSpPr>
        <p:spPr>
          <a:xfrm>
            <a:off x="4716360" y="4250160"/>
            <a:ext cx="12574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долгота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17"/>
          <p:cNvSpPr/>
          <p:nvPr/>
        </p:nvSpPr>
        <p:spPr>
          <a:xfrm>
            <a:off x="1118520" y="4591440"/>
            <a:ext cx="5105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- меридиональная,  долготная компоненты скорост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18"/>
          <p:cNvSpPr/>
          <p:nvPr/>
        </p:nvSpPr>
        <p:spPr>
          <a:xfrm>
            <a:off x="1114200" y="4897800"/>
            <a:ext cx="1681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- глубина слоя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14860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"/>
          <p:cNvSpPr/>
          <p:nvPr/>
        </p:nvSpPr>
        <p:spPr>
          <a:xfrm>
            <a:off x="0" y="317520"/>
            <a:ext cx="85327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Интегральные</a:t>
            </a:r>
            <a:r>
              <a:rPr b="1" lang="ru-RU" sz="4400" spc="-1" strike="noStrike">
                <a:solidFill>
                  <a:srgbClr val="515f7b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закон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сохранени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5"/>
              <p:cNvSpPr txBox="1"/>
              <p:nvPr/>
            </p:nvSpPr>
            <p:spPr>
              <a:xfrm>
                <a:off x="3333600" y="2087640"/>
                <a:ext cx="39085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</m:sSubSup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∮"/>
                                <m:supHide m:val="1"/>
                              </m:naryPr>
                              <m:sub>
                                <m:r>
                                  <m:t xml:space="preserve">∂</m:t>
                                </m:r>
                                <m:r>
                                  <m:t xml:space="preserve">S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l</m:t>
                                </m:r>
                              </m:e>
                            </m:nary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Rectangle 6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7"/>
              <p:cNvSpPr txBox="1"/>
              <p:nvPr/>
            </p:nvSpPr>
            <p:spPr>
              <a:xfrm>
                <a:off x="2486160" y="3260880"/>
                <a:ext cx="664524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</m:sSubSup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∮"/>
                                <m:supHide m:val="1"/>
                              </m:naryPr>
                              <m:sub>
                                <m:r>
                                  <m:t xml:space="preserve">∂</m:t>
                                </m:r>
                                <m:r>
                                  <m:t xml:space="preserve">S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vn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gh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l</m:t>
                                </m:r>
                                <m:r>
                                  <m:t xml:space="preserve">+</m:t>
                                </m:r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S</m:t>
                                    </m:r>
                                  </m:sub>
                                  <m:sup/>
                                  <m:e>
                                    <m:r>
                                      <m:t xml:space="preserve">hF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</m:t>
                                    </m:r>
                                  </m:e>
                                </m:nary>
                              </m:e>
                            </m:nary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Text Box 8"/>
          <p:cNvSpPr/>
          <p:nvPr/>
        </p:nvSpPr>
        <p:spPr>
          <a:xfrm>
            <a:off x="-1440" y="2349360"/>
            <a:ext cx="33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кон сохранения масс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0" y="336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16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18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2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23"/>
              <p:cNvSpPr txBox="1"/>
              <p:nvPr/>
            </p:nvSpPr>
            <p:spPr>
              <a:xfrm>
                <a:off x="250920" y="4971960"/>
                <a:ext cx="17539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7" name="Rectangle 24"/>
          <p:cNvSpPr/>
          <p:nvPr/>
        </p:nvSpPr>
        <p:spPr>
          <a:xfrm>
            <a:off x="1689480" y="5483880"/>
            <a:ext cx="1870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сила Кориолиса,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2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26"/>
              <p:cNvSpPr txBox="1"/>
              <p:nvPr/>
            </p:nvSpPr>
            <p:spPr>
              <a:xfrm>
                <a:off x="309600" y="5477040"/>
                <a:ext cx="131292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80" name="Rectangle 2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28"/>
              <p:cNvSpPr txBox="1"/>
              <p:nvPr/>
            </p:nvSpPr>
            <p:spPr>
              <a:xfrm>
                <a:off x="289080" y="5880240"/>
                <a:ext cx="176184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×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Rectangle 29"/>
          <p:cNvSpPr/>
          <p:nvPr/>
        </p:nvSpPr>
        <p:spPr>
          <a:xfrm>
            <a:off x="0" y="336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31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33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35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37"/>
          <p:cNvSpPr/>
          <p:nvPr/>
        </p:nvSpPr>
        <p:spPr>
          <a:xfrm>
            <a:off x="2059200" y="5833800"/>
            <a:ext cx="2174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центробежная сила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39"/>
          <p:cNvSpPr/>
          <p:nvPr/>
        </p:nvSpPr>
        <p:spPr>
          <a:xfrm>
            <a:off x="-46080" y="3297240"/>
            <a:ext cx="27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ко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хранения полного импульс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40"/>
          <p:cNvSpPr/>
          <p:nvPr/>
        </p:nvSpPr>
        <p:spPr>
          <a:xfrm>
            <a:off x="-47880" y="4280040"/>
            <a:ext cx="81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о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хранен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нергии является выпуклым расширение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14860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0" y="-147600"/>
            <a:ext cx="85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Пример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разрывных решени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Состояние равновеси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046160" y="177336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остояние равновес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5"/>
              <p:cNvSpPr txBox="1"/>
              <p:nvPr/>
            </p:nvSpPr>
            <p:spPr>
              <a:xfrm>
                <a:off x="108000" y="2203560"/>
                <a:ext cx="114768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6"/>
              <p:cNvSpPr txBox="1"/>
              <p:nvPr/>
            </p:nvSpPr>
            <p:spPr>
              <a:xfrm>
                <a:off x="5657760" y="2133720"/>
                <a:ext cx="3084480" cy="14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8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θ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θ</m:t>
                            </m:r>
                            <m:r>
                              <m:t xml:space="preserve">≤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7"/>
              <p:cNvSpPr txBox="1"/>
              <p:nvPr/>
            </p:nvSpPr>
            <p:spPr>
              <a:xfrm>
                <a:off x="1573200" y="1989000"/>
                <a:ext cx="2549520" cy="77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8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θ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Text Box 8"/>
          <p:cNvSpPr/>
          <p:nvPr/>
        </p:nvSpPr>
        <p:spPr>
          <a:xfrm>
            <a:off x="4787280" y="1773360"/>
            <a:ext cx="34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рывное 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стояние равновес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9"/>
              <p:cNvSpPr txBox="1"/>
              <p:nvPr/>
            </p:nvSpPr>
            <p:spPr>
              <a:xfrm>
                <a:off x="4284720" y="2706840"/>
                <a:ext cx="114768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7" name="Picture 10" descr=""/>
          <p:cNvPicPr/>
          <p:nvPr/>
        </p:nvPicPr>
        <p:blipFill>
          <a:blip r:embed="rId2"/>
          <a:stretch/>
        </p:blipFill>
        <p:spPr>
          <a:xfrm>
            <a:off x="755640" y="4797360"/>
            <a:ext cx="2592360" cy="20113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1" descr=""/>
          <p:cNvPicPr/>
          <p:nvPr/>
        </p:nvPicPr>
        <p:blipFill>
          <a:blip r:embed="rId3"/>
          <a:stretch/>
        </p:blipFill>
        <p:spPr>
          <a:xfrm>
            <a:off x="395280" y="2724120"/>
            <a:ext cx="3168720" cy="2073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2" descr="Копия-bulba_razrez"/>
          <p:cNvPicPr/>
          <p:nvPr/>
        </p:nvPicPr>
        <p:blipFill>
          <a:blip r:embed="rId4"/>
          <a:stretch/>
        </p:blipFill>
        <p:spPr>
          <a:xfrm>
            <a:off x="4694400" y="3459240"/>
            <a:ext cx="3549600" cy="2343240"/>
          </a:xfrm>
          <a:prstGeom prst="rect">
            <a:avLst/>
          </a:prstGeom>
          <a:ln w="0">
            <a:noFill/>
          </a:ln>
        </p:spPr>
      </p:pic>
      <p:sp>
        <p:nvSpPr>
          <p:cNvPr id="200" name="Line 13"/>
          <p:cNvSpPr/>
          <p:nvPr/>
        </p:nvSpPr>
        <p:spPr>
          <a:xfrm>
            <a:off x="4211640" y="1773360"/>
            <a:ext cx="0" cy="508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4335480" y="6021360"/>
            <a:ext cx="45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дальнейшем они используются как начальные данные для нестационарных решений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15"/>
          <p:cNvSpPr/>
          <p:nvPr/>
        </p:nvSpPr>
        <p:spPr>
          <a:xfrm flipV="1">
            <a:off x="6419880" y="4005000"/>
            <a:ext cx="79200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6"/>
              <p:cNvSpPr txBox="1"/>
              <p:nvPr/>
            </p:nvSpPr>
            <p:spPr>
              <a:xfrm>
                <a:off x="7170840" y="3751200"/>
                <a:ext cx="48888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148608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3"/>
          <p:cNvSpPr/>
          <p:nvPr/>
        </p:nvSpPr>
        <p:spPr>
          <a:xfrm>
            <a:off x="0" y="260280"/>
            <a:ext cx="85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Разностная схема для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двумерной задач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1902600" y="1766880"/>
            <a:ext cx="49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ностная схема, предложенная В.В. Остапенк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7"/>
              <p:cNvSpPr txBox="1"/>
              <p:nvPr/>
            </p:nvSpPr>
            <p:spPr>
              <a:xfrm>
                <a:off x="755640" y="2205000"/>
                <a:ext cx="24354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Δθ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ba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Δϕ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bar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8"/>
              <p:cNvSpPr txBox="1"/>
              <p:nvPr/>
            </p:nvSpPr>
            <p:spPr>
              <a:xfrm>
                <a:off x="3851280" y="1989000"/>
                <a:ext cx="342756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Δθ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ba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βΔϕ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bar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1" name="Rectangle 9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322920" y="3141720"/>
            <a:ext cx="26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он сохранения масс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-82872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395280" y="428616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он сохранения импульс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1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Rectangle 15"/>
          <p:cNvSpPr/>
          <p:nvPr/>
        </p:nvSpPr>
        <p:spPr>
          <a:xfrm>
            <a:off x="0" y="299736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Rectangle 16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17"/>
              <p:cNvSpPr txBox="1"/>
              <p:nvPr/>
            </p:nvSpPr>
            <p:spPr>
              <a:xfrm>
                <a:off x="522360" y="3498840"/>
                <a:ext cx="74880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f>
                      <m:num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α</m:t>
                            </m:r>
                            <m:r>
                              <m:t xml:space="preserve">,</m:t>
                            </m:r>
                            <m:r>
                              <m:t xml:space="preserve">β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α</m:t>
                            </m:r>
                            <m:r>
                              <m:t xml:space="preserve">,</m:t>
                            </m:r>
                            <m:r>
                              <m:t xml:space="preserve">β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β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β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Δθ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α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α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Δϕ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Rectangle 18"/>
          <p:cNvSpPr/>
          <p:nvPr/>
        </p:nvSpPr>
        <p:spPr>
          <a:xfrm>
            <a:off x="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19"/>
              <p:cNvSpPr txBox="1"/>
              <p:nvPr/>
            </p:nvSpPr>
            <p:spPr>
              <a:xfrm>
                <a:off x="468360" y="4595760"/>
                <a:ext cx="816588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qυ</m:t>
                            </m:r>
                            <m:sSubSup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qυ</m:t>
                            </m:r>
                            <m:sSubSup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Δθ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qV</m:t>
                            </m:r>
                            <m:sSubSup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qV</m:t>
                            </m:r>
                            <m:sSubSup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Δϕ</m:t>
                            </m:r>
                          </m:den>
                        </m:f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Sup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Sup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Δθ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Q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Rectangle 20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21"/>
              <p:cNvSpPr txBox="1"/>
              <p:nvPr/>
            </p:nvSpPr>
            <p:spPr>
              <a:xfrm>
                <a:off x="468360" y="5708520"/>
                <a:ext cx="819144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Qυ</m:t>
                            </m:r>
                            <m:sSubSup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Qυ</m:t>
                            </m:r>
                            <m:sSubSup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Δθ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QV</m:t>
                            </m:r>
                            <m:sSubSup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QV</m:t>
                            </m:r>
                            <m:sSubSup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Δϕ</m:t>
                            </m:r>
                          </m:den>
                        </m:f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t xml:space="preserve">g</m:t>
                        </m:r>
                        <m:f>
                          <m:num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Sup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β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Sup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Δϕ</m:t>
                            </m:r>
                          </m:den>
                        </m:f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q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14860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3"/>
          <p:cNvSpPr/>
          <p:nvPr/>
        </p:nvSpPr>
        <p:spPr>
          <a:xfrm>
            <a:off x="611280" y="44280"/>
            <a:ext cx="6659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Примеры расчетов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15f7b"/>
                </a:solidFill>
                <a:latin typeface="Times New Roman"/>
              </a:rPr>
              <a:t>Шеврон с углом на экваторе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6085800" y="1938240"/>
            <a:ext cx="27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пад разрыва на сфер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6012000" y="2205000"/>
            <a:ext cx="3132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ффекты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умуляции для хребтов-шевронов или хребтов-колец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спроизведение хребта в противоположной точке сферы ( в ослабленном виде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спроизведение хребта в начальной позиции (еще в более ослабленном виде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8" name="Фильм-шеврон.wmv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5689440" cy="426744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7"/>
          <p:cNvSpPr/>
          <p:nvPr/>
        </p:nvSpPr>
        <p:spPr>
          <a:xfrm>
            <a:off x="1332000" y="551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вато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Text Box 8"/>
          <p:cNvSpPr/>
          <p:nvPr/>
        </p:nvSpPr>
        <p:spPr>
          <a:xfrm rot="18892800">
            <a:off x="667440" y="3373920"/>
            <a:ext cx="18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верный полю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Text Box 9"/>
          <p:cNvSpPr/>
          <p:nvPr/>
        </p:nvSpPr>
        <p:spPr>
          <a:xfrm rot="18804000">
            <a:off x="3565080" y="450792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Южный полю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10"/>
          <p:cNvSpPr/>
          <p:nvPr/>
        </p:nvSpPr>
        <p:spPr>
          <a:xfrm flipV="1">
            <a:off x="1314360" y="2565000"/>
            <a:ext cx="2881440" cy="3024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11"/>
          <p:cNvSpPr/>
          <p:nvPr/>
        </p:nvSpPr>
        <p:spPr>
          <a:xfrm rot="18892800">
            <a:off x="670680" y="3370680"/>
            <a:ext cx="18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верный полю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Text Box 12"/>
          <p:cNvSpPr/>
          <p:nvPr/>
        </p:nvSpPr>
        <p:spPr>
          <a:xfrm rot="18804000">
            <a:off x="3568320" y="450468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Южный полю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1332000" y="551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вато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14"/>
          <p:cNvSpPr/>
          <p:nvPr/>
        </p:nvSpPr>
        <p:spPr>
          <a:xfrm rot="18892800">
            <a:off x="670680" y="3370680"/>
            <a:ext cx="18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верный полю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Text Box 15"/>
          <p:cNvSpPr/>
          <p:nvPr/>
        </p:nvSpPr>
        <p:spPr>
          <a:xfrm rot="18804000">
            <a:off x="3568320" y="450468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Южный полю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5306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8" descr=""/>
          <p:cNvPicPr/>
          <p:nvPr/>
        </p:nvPicPr>
        <p:blipFill>
          <a:blip r:embed="rId1"/>
          <a:stretch/>
        </p:blipFill>
        <p:spPr>
          <a:xfrm>
            <a:off x="1187280" y="1816200"/>
            <a:ext cx="3384720" cy="19731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"/>
          <p:cNvPicPr/>
          <p:nvPr/>
        </p:nvPicPr>
        <p:blipFill>
          <a:blip r:embed="rId2"/>
          <a:stretch/>
        </p:blipFill>
        <p:spPr>
          <a:xfrm>
            <a:off x="5219640" y="1844640"/>
            <a:ext cx="3384720" cy="19623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"/>
          <p:cNvPicPr/>
          <p:nvPr/>
        </p:nvPicPr>
        <p:blipFill>
          <a:blip r:embed="rId3"/>
          <a:stretch/>
        </p:blipFill>
        <p:spPr>
          <a:xfrm>
            <a:off x="331920" y="2521080"/>
            <a:ext cx="457200" cy="11048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"/>
          <p:cNvPicPr/>
          <p:nvPr/>
        </p:nvPicPr>
        <p:blipFill>
          <a:blip r:embed="rId4"/>
          <a:stretch/>
        </p:blipFill>
        <p:spPr>
          <a:xfrm>
            <a:off x="1258920" y="4172040"/>
            <a:ext cx="3313080" cy="1920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"/>
          <p:cNvPicPr/>
          <p:nvPr/>
        </p:nvPicPr>
        <p:blipFill>
          <a:blip r:embed="rId5"/>
          <a:stretch/>
        </p:blipFill>
        <p:spPr>
          <a:xfrm>
            <a:off x="5148360" y="4133880"/>
            <a:ext cx="3384360" cy="197496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9"/>
          <p:cNvSpPr/>
          <p:nvPr/>
        </p:nvSpPr>
        <p:spPr>
          <a:xfrm>
            <a:off x="0" y="-84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0" y="69120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5" name="Picture 13" descr=""/>
          <p:cNvPicPr/>
          <p:nvPr/>
        </p:nvPicPr>
        <p:blipFill>
          <a:blip r:embed="rId6"/>
          <a:stretch/>
        </p:blipFill>
        <p:spPr>
          <a:xfrm>
            <a:off x="7286760" y="0"/>
            <a:ext cx="1857240" cy="148608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14"/>
          <p:cNvSpPr/>
          <p:nvPr/>
        </p:nvSpPr>
        <p:spPr>
          <a:xfrm>
            <a:off x="611280" y="44280"/>
            <a:ext cx="66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Линии ток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Rectangle 16"/>
          <p:cNvSpPr/>
          <p:nvPr/>
        </p:nvSpPr>
        <p:spPr>
          <a:xfrm>
            <a:off x="2155680" y="378936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Rectangle 17"/>
          <p:cNvSpPr/>
          <p:nvPr/>
        </p:nvSpPr>
        <p:spPr>
          <a:xfrm>
            <a:off x="6117840" y="3789360"/>
            <a:ext cx="93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1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2509200" y="6122880"/>
            <a:ext cx="9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5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Rectangle 19"/>
          <p:cNvSpPr/>
          <p:nvPr/>
        </p:nvSpPr>
        <p:spPr>
          <a:xfrm>
            <a:off x="6535800" y="6129360"/>
            <a:ext cx="102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12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7:51:39Z</dcterms:created>
  <dc:creator>1</dc:creator>
  <dc:description/>
  <dc:language>en-US</dc:language>
  <cp:lastModifiedBy>Саша и Аня</cp:lastModifiedBy>
  <dcterms:modified xsi:type="dcterms:W3CDTF">2013-09-06T20:02:15Z</dcterms:modified>
  <cp:revision>67</cp:revision>
  <dc:subject/>
  <dc:title>Слайд 1</dc:title>
</cp:coreProperties>
</file>