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5.png" ContentType="image/png"/>
  <Override PartName="/ppt/media/image1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83480" cy="9925200"/>
          </a:xfrm>
          <a:custGeom>
            <a:avLst/>
            <a:gdLst>
              <a:gd name="textAreaLeft" fmla="*/ 360 w 6783480"/>
              <a:gd name="textAreaRight" fmla="*/ 6783120 w 67834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603">
                <a:moveTo>
                  <a:pt x="5" y="0"/>
                </a:moveTo>
                <a:arcTo wR="5" hR="5" stAng="16200000" swAng="-5400000"/>
                <a:lnTo>
                  <a:pt x="0" y="31598"/>
                </a:lnTo>
                <a:arcTo wR="5" hR="5" stAng="10800000" swAng="-5400000"/>
                <a:lnTo>
                  <a:pt x="21595" y="3160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83480" cy="9925200"/>
          </a:xfrm>
          <a:custGeom>
            <a:avLst/>
            <a:gdLst>
              <a:gd name="textAreaLeft" fmla="*/ 360 w 6783480"/>
              <a:gd name="textAreaRight" fmla="*/ 6783120 w 67834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603">
                <a:moveTo>
                  <a:pt x="5" y="0"/>
                </a:moveTo>
                <a:arcTo wR="5" hR="5" stAng="16200000" swAng="-5400000"/>
                <a:lnTo>
                  <a:pt x="0" y="31598"/>
                </a:lnTo>
                <a:arcTo wR="5" hR="5" stAng="10800000" swAng="-5400000"/>
                <a:lnTo>
                  <a:pt x="21595" y="3160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-360" y="-11398680"/>
            <a:ext cx="360" cy="243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7520" y="4714920"/>
            <a:ext cx="54212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1"/>
          <p:cNvSpPr/>
          <p:nvPr/>
        </p:nvSpPr>
        <p:spPr>
          <a:xfrm>
            <a:off x="2119320" y="754200"/>
            <a:ext cx="254304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677880" y="4714920"/>
            <a:ext cx="54230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2119320" y="754200"/>
            <a:ext cx="254304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77880" y="4714920"/>
            <a:ext cx="54230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1"/>
          <p:cNvSpPr/>
          <p:nvPr/>
        </p:nvSpPr>
        <p:spPr>
          <a:xfrm>
            <a:off x="2119320" y="754200"/>
            <a:ext cx="254304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677880" y="4714920"/>
            <a:ext cx="54230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E1FF-670C-4A5B-882A-DA339A246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347E-45CC-44D7-A462-DDE4A7C1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4423-0BD5-401D-90D8-032C4D5C9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3F99-322F-4E51-8984-114ADCF7D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2E6A-ACE3-4DD2-BBA2-B2F19F61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CD02-B778-4CA8-91FF-87E6E378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FDDC-7957-414C-B4F3-89FB6235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FE6D-0532-4691-B0FA-751F7429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8A7E-3996-4A0A-8776-806890E5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290A-192A-4A09-A8B7-2A0C3D8A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5638-430C-4E9C-9F79-CE3CD712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B78F-16CD-439D-BED0-02691AE5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852B736-F3B0-4852-A3D8-55B4976E26D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9B65237-BA28-43C5-9DA8-3C308F2347BB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0676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300"/>
            </a:br>
            <a:br>
              <a:rPr sz="4300"/>
            </a:br>
            <a:r>
              <a:rPr b="1" lang="en-US" sz="63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A model of one </a:t>
            </a:r>
            <a:br>
              <a:rPr sz="6300"/>
            </a:br>
            <a:r>
              <a:rPr b="1" lang="en-US" sz="63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biological 2-cells complex</a:t>
            </a:r>
            <a:br>
              <a:rPr sz="6000"/>
            </a:br>
            <a:br>
              <a:rPr sz="6000"/>
            </a:b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342900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kinshin A.A., Golubyatnikov V.P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bolev Institute of Mathematics SB RA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ukharina T.A., Furman D.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itute of Cytology and Genetics SB 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900" spc="-1" strike="noStrike">
                <a:solidFill>
                  <a:srgbClr val="0033cc"/>
                </a:solidFill>
                <a:latin typeface="Script MT Bold"/>
                <a:ea typeface="Times New Roman"/>
              </a:rPr>
              <a:t>Novosibirsk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, 24 </a:t>
            </a:r>
            <a:r>
              <a:rPr b="1" lang="en-US" sz="2900" spc="-1" strike="noStrike">
                <a:solidFill>
                  <a:srgbClr val="0033cc"/>
                </a:solidFill>
                <a:latin typeface="Script MT Bold"/>
                <a:ea typeface="Times New Roman"/>
              </a:rPr>
              <a:t>September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,  </a:t>
            </a:r>
            <a:r>
              <a:rPr b="1" lang="en-US" sz="2900" spc="-1" strike="noStrike">
                <a:solidFill>
                  <a:srgbClr val="0033cc"/>
                </a:solidFill>
                <a:latin typeface="Script MT Bold"/>
                <a:ea typeface="Times New Roman"/>
              </a:rPr>
              <a:t>Geometry Days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-2014 </a:t>
            </a:r>
            <a:r>
              <a:rPr b="1" i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  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омер слайда 3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A8F890E-2143-437C-B341-08E83AB7AE59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27D0141-DBD4-4C73-BB93-6FF8B9AE8328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2"/>
          <p:cNvSpPr/>
          <p:nvPr/>
        </p:nvSpPr>
        <p:spPr>
          <a:xfrm>
            <a:off x="2453400" y="457200"/>
            <a:ext cx="314640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PPENDIX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Объект 8"/>
              <p:cNvSpPr txBox="1"/>
              <p:nvPr/>
            </p:nvSpPr>
            <p:spPr>
              <a:xfrm>
                <a:off x="106200" y="3917880"/>
                <a:ext cx="89614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Объект 9"/>
              <p:cNvSpPr txBox="1"/>
              <p:nvPr/>
            </p:nvSpPr>
            <p:spPr>
              <a:xfrm>
                <a:off x="106200" y="2541600"/>
                <a:ext cx="90378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Прямоугольник 10"/>
          <p:cNvSpPr/>
          <p:nvPr/>
        </p:nvSpPr>
        <p:spPr>
          <a:xfrm>
            <a:off x="128520" y="1498680"/>
            <a:ext cx="79758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en-GB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shold” functions describing positive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backs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11"/>
          <p:cNvSpPr/>
          <p:nvPr/>
        </p:nvSpPr>
        <p:spPr>
          <a:xfrm>
            <a:off x="2412720" y="3208320"/>
            <a:ext cx="4728240" cy="5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negative feedbacks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12"/>
          <p:cNvSpPr/>
          <p:nvPr/>
        </p:nvSpPr>
        <p:spPr>
          <a:xfrm>
            <a:off x="109080" y="4919760"/>
            <a:ext cx="879120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imes we consider their smooth analogues.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Объект 1"/>
              <p:cNvSpPr txBox="1"/>
              <p:nvPr/>
            </p:nvSpPr>
            <p:spPr>
              <a:xfrm>
                <a:off x="380880" y="3178080"/>
                <a:ext cx="17528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2B8B3FE-2E8C-4134-9BCC-183352192416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Объект 3"/>
              <p:cNvSpPr txBox="1"/>
              <p:nvPr/>
            </p:nvSpPr>
            <p:spPr>
              <a:xfrm>
                <a:off x="331920" y="1295280"/>
                <a:ext cx="26398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Прямоугольник 4"/>
          <p:cNvSpPr/>
          <p:nvPr/>
        </p:nvSpPr>
        <p:spPr>
          <a:xfrm>
            <a:off x="2514600" y="92160"/>
            <a:ext cx="31240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Объект 6"/>
              <p:cNvSpPr txBox="1"/>
              <p:nvPr/>
            </p:nvSpPr>
            <p:spPr>
              <a:xfrm>
                <a:off x="3124080" y="1295280"/>
                <a:ext cx="43102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Прямоугольник 7"/>
          <p:cNvSpPr/>
          <p:nvPr/>
        </p:nvSpPr>
        <p:spPr>
          <a:xfrm>
            <a:off x="7676280" y="1463760"/>
            <a:ext cx="85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A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Объект 8"/>
              <p:cNvSpPr txBox="1"/>
              <p:nvPr/>
            </p:nvSpPr>
            <p:spPr>
              <a:xfrm>
                <a:off x="457200" y="2590920"/>
                <a:ext cx="263988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Объект 10"/>
              <p:cNvSpPr txBox="1"/>
              <p:nvPr/>
            </p:nvSpPr>
            <p:spPr>
              <a:xfrm>
                <a:off x="3247920" y="2590920"/>
                <a:ext cx="40863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Γ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Прямоугольник 11"/>
          <p:cNvSpPr/>
          <p:nvPr/>
        </p:nvSpPr>
        <p:spPr>
          <a:xfrm>
            <a:off x="7752240" y="2819520"/>
            <a:ext cx="8528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A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Объект 13"/>
              <p:cNvSpPr txBox="1"/>
              <p:nvPr/>
            </p:nvSpPr>
            <p:spPr>
              <a:xfrm>
                <a:off x="1204920" y="3733920"/>
                <a:ext cx="5241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r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Прямоугольник 14"/>
          <p:cNvSpPr/>
          <p:nvPr/>
        </p:nvSpPr>
        <p:spPr>
          <a:xfrm>
            <a:off x="200160" y="4587840"/>
            <a:ext cx="9051480" cy="19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llelepiped                                                         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vely invariant for both systems (A1) and (A2)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ontains a unique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librium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int </a:t>
            </a:r>
            <a:r>
              <a:rPr b="1" i="1" lang="en-GB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(A2)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ll </a:t>
            </a:r>
            <a:r>
              <a:rPr b="1" i="1" lang="en-GB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n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For odd</a:t>
            </a:r>
            <a:r>
              <a:rPr b="1" lang="en-GB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i="1" lang="en-GB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n</a:t>
            </a:r>
            <a:r>
              <a:rPr b="1" lang="en-GB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ontains a unique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librium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</a:t>
            </a:r>
            <a:r>
              <a:rPr b="1" i="1" lang="en-GB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(A1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Объект 16"/>
              <p:cNvSpPr txBox="1"/>
              <p:nvPr/>
            </p:nvSpPr>
            <p:spPr>
              <a:xfrm>
                <a:off x="2909880" y="4419720"/>
                <a:ext cx="4710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×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Прямоугольник 1"/>
          <p:cNvSpPr/>
          <p:nvPr/>
        </p:nvSpPr>
        <p:spPr>
          <a:xfrm>
            <a:off x="93960" y="152280"/>
            <a:ext cx="872424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A2) is the Glass-Tyson (et al) dynamical system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A1) was considered in our previous pap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E81EAEF-6C24-4A81-9444-793C6107B855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2" descr="D:\Father\2013\Akinshin\SobolevPresentation\Presentation\images\odd-plot.jpg"/>
          <p:cNvPicPr/>
          <p:nvPr/>
        </p:nvPicPr>
        <p:blipFill>
          <a:blip r:embed="rId1"/>
          <a:stretch/>
        </p:blipFill>
        <p:spPr>
          <a:xfrm>
            <a:off x="76320" y="1219320"/>
            <a:ext cx="4038480" cy="5486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D:\Father\2013\Akinshin\SobolevPresentation\Presentation\images\even-plot.jpg"/>
          <p:cNvPicPr/>
          <p:nvPr/>
        </p:nvPicPr>
        <p:blipFill>
          <a:blip r:embed="rId2"/>
          <a:stretch/>
        </p:blipFill>
        <p:spPr>
          <a:xfrm>
            <a:off x="4114800" y="685800"/>
            <a:ext cx="5029200" cy="61722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76320" y="152280"/>
            <a:ext cx="426708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A2); (A1)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2k+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ne equilibrium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4724280" y="152280"/>
            <a:ext cx="411480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A1)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2k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 “many” equilibrium point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CC2E76F-D5F9-4F80-AE6B-559D2A94C805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n-convex invariant domain of the</a:t>
            </a:r>
            <a:r>
              <a:rPr b="1" lang="ru-RU" sz="3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3</a:t>
            </a:r>
            <a:r>
              <a:rPr b="1" lang="en-US" sz="3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D system (A1) </a:t>
            </a:r>
            <a:r>
              <a:rPr b="1" lang="ru-RU" sz="3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3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mposed by six triangle prisms</a:t>
            </a:r>
            <a:r>
              <a:rPr b="1" lang="ru-RU" sz="3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r>
              <a:rPr b="1" lang="ru-RU" sz="3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220320" y="6095880"/>
            <a:ext cx="38088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4"/>
              <p:cNvSpPr txBox="1"/>
              <p:nvPr/>
            </p:nvSpPr>
            <p:spPr>
              <a:xfrm>
                <a:off x="4968720" y="1374840"/>
                <a:ext cx="8226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1" name="Rectangle 5"/>
          <p:cNvSpPr/>
          <p:nvPr/>
        </p:nvSpPr>
        <p:spPr>
          <a:xfrm>
            <a:off x="0" y="33148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6"/>
              <p:cNvSpPr txBox="1"/>
              <p:nvPr/>
            </p:nvSpPr>
            <p:spPr>
              <a:xfrm>
                <a:off x="7696080" y="1268280"/>
                <a:ext cx="82548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3" name="Rectangle 7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8"/>
              <p:cNvSpPr txBox="1"/>
              <p:nvPr/>
            </p:nvSpPr>
            <p:spPr>
              <a:xfrm>
                <a:off x="6294600" y="2895480"/>
                <a:ext cx="25848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5" name="Rectangle 9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0" y="33148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4"/>
              <p:cNvSpPr txBox="1"/>
              <p:nvPr/>
            </p:nvSpPr>
            <p:spPr>
              <a:xfrm>
                <a:off x="8364600" y="3684600"/>
                <a:ext cx="779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9" name="Rectangle 15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6"/>
              <p:cNvSpPr txBox="1"/>
              <p:nvPr/>
            </p:nvSpPr>
            <p:spPr>
              <a:xfrm>
                <a:off x="5257800" y="5334120"/>
                <a:ext cx="779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51" name="Picture 17" descr=""/>
          <p:cNvPicPr/>
          <p:nvPr/>
        </p:nvPicPr>
        <p:blipFill>
          <a:blip r:embed="rId1"/>
          <a:stretch/>
        </p:blipFill>
        <p:spPr>
          <a:xfrm>
            <a:off x="4983120" y="1523880"/>
            <a:ext cx="3855960" cy="4191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2" name="Object 20"/>
              <p:cNvSpPr txBox="1"/>
              <p:nvPr/>
            </p:nvSpPr>
            <p:spPr>
              <a:xfrm>
                <a:off x="76320" y="5867280"/>
                <a:ext cx="899136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1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1"/>
              <p:cNvSpPr txBox="1"/>
              <p:nvPr/>
            </p:nvSpPr>
            <p:spPr>
              <a:xfrm>
                <a:off x="344520" y="1752480"/>
                <a:ext cx="411156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d>
                    <m:r>
                      <m:t xml:space="preserve">→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9"/>
              <p:cNvSpPr txBox="1"/>
              <p:nvPr/>
            </p:nvSpPr>
            <p:spPr>
              <a:xfrm>
                <a:off x="304920" y="2362320"/>
                <a:ext cx="4170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d>
                    <m:r>
                      <m:t xml:space="preserve">→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10"/>
              <p:cNvSpPr txBox="1"/>
              <p:nvPr/>
            </p:nvSpPr>
            <p:spPr>
              <a:xfrm>
                <a:off x="272880" y="4079880"/>
                <a:ext cx="33084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1</m:t>
                        </m:r>
                      </m:e>
                    </m:d>
                    <m:r>
                      <m:t xml:space="preserve">intersect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</m:e>
                    </m:d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2"/>
              <p:cNvSpPr txBox="1"/>
              <p:nvPr/>
            </p:nvSpPr>
            <p:spPr>
              <a:xfrm>
                <a:off x="270000" y="4816440"/>
                <a:ext cx="30495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</m:e>
                    </m:d>
                    <m:r>
                      <m:t xml:space="preserve">intersect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4377944-AA28-4982-A738-A29EB0417B54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Прямоугольник 2"/>
          <p:cNvSpPr/>
          <p:nvPr/>
        </p:nvSpPr>
        <p:spPr>
          <a:xfrm>
            <a:off x="380880" y="380880"/>
            <a:ext cx="8763120" cy="56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tential level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of a block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How many faces of the block are intersected by outgoing trajectories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How many arrows come out of the corresponding vertex of th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te transition diagram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of the dynamical system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F7B4EFE-7093-4753-B137-E0F8151F0A37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219320" y="1254240"/>
            <a:ext cx="5562360" cy="560376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0" y="374760"/>
                <a:ext cx="21956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Rectangle 5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6"/>
              <p:cNvSpPr txBox="1"/>
              <p:nvPr/>
            </p:nvSpPr>
            <p:spPr>
              <a:xfrm>
                <a:off x="3780000" y="338040"/>
                <a:ext cx="216036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Rectangle 7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8"/>
              <p:cNvSpPr txBox="1"/>
              <p:nvPr/>
            </p:nvSpPr>
            <p:spPr>
              <a:xfrm>
                <a:off x="6699240" y="347760"/>
                <a:ext cx="198756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7" name="Rectangle 9"/>
          <p:cNvSpPr/>
          <p:nvPr/>
        </p:nvSpPr>
        <p:spPr>
          <a:xfrm>
            <a:off x="1123920" y="1468440"/>
            <a:ext cx="6877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 trajectory and a limit cycle</a:t>
            </a:r>
            <a:r>
              <a:rPr b="1" lang="en-GB" sz="3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15"/>
          <p:cNvSpPr/>
          <p:nvPr/>
        </p:nvSpPr>
        <p:spPr>
          <a:xfrm>
            <a:off x="4422960" y="2743200"/>
            <a:ext cx="2995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16"/>
          <p:cNvSpPr/>
          <p:nvPr/>
        </p:nvSpPr>
        <p:spPr>
          <a:xfrm>
            <a:off x="2594160" y="4648320"/>
            <a:ext cx="2995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2"/>
          <p:cNvSpPr/>
          <p:nvPr/>
        </p:nvSpPr>
        <p:spPr>
          <a:xfrm>
            <a:off x="380880" y="358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rajectories and bifurcation cycles</a:t>
            </a:r>
            <a:r>
              <a:rPr b="1" lang="en-GB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2" descr="D:\Father\2011\Akinshin\071011.jpg"/>
          <p:cNvPicPr/>
          <p:nvPr/>
        </p:nvPicPr>
        <p:blipFill>
          <a:blip r:embed="rId1"/>
          <a:stretch/>
        </p:blipFill>
        <p:spPr>
          <a:xfrm>
            <a:off x="0" y="1523880"/>
            <a:ext cx="4317840" cy="533412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1" descr=""/>
          <p:cNvPicPr/>
          <p:nvPr/>
        </p:nvPicPr>
        <p:blipFill>
          <a:blip r:embed="rId2"/>
          <a:stretch/>
        </p:blipFill>
        <p:spPr>
          <a:xfrm>
            <a:off x="4317840" y="1295280"/>
            <a:ext cx="48261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3846EB-A18F-4687-9C14-B61D90573A17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Прямоугольник 1"/>
          <p:cNvSpPr/>
          <p:nvPr/>
        </p:nvSpPr>
        <p:spPr>
          <a:xfrm>
            <a:off x="3135240" y="152280"/>
            <a:ext cx="255384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5" descr="G:\2014\NSUpictures\hill105a-e89.png"/>
          <p:cNvPicPr/>
          <p:nvPr/>
        </p:nvPicPr>
        <p:blipFill>
          <a:blip r:embed="rId1"/>
          <a:stretch/>
        </p:blipFill>
        <p:spPr>
          <a:xfrm>
            <a:off x="4489560" y="1181160"/>
            <a:ext cx="4578120" cy="5499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G:\2014\NSUpictures\hill105a-e24.png"/>
          <p:cNvPicPr/>
          <p:nvPr/>
        </p:nvPicPr>
        <p:blipFill>
          <a:blip r:embed="rId2"/>
          <a:stretch/>
        </p:blipFill>
        <p:spPr>
          <a:xfrm>
            <a:off x="0" y="1154160"/>
            <a:ext cx="502920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FE60ECD-C9C0-444C-AD78-72DC0C74141C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оугольник 2"/>
          <p:cNvSpPr/>
          <p:nvPr/>
        </p:nvSpPr>
        <p:spPr>
          <a:xfrm>
            <a:off x="228600" y="152280"/>
            <a:ext cx="876312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the system (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or </a:t>
            </a:r>
            <a:r>
              <a:rPr b="1" i="1" lang="en-GB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n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 and i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tate transition diagram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3) (J.Tyson, L.Glass et al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Объект 4"/>
              <p:cNvSpPr txBox="1"/>
              <p:nvPr/>
            </p:nvSpPr>
            <p:spPr>
              <a:xfrm>
                <a:off x="4462560" y="5638680"/>
                <a:ext cx="2563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≈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1" name="Прямоугольник 5"/>
          <p:cNvSpPr/>
          <p:nvPr/>
        </p:nvSpPr>
        <p:spPr>
          <a:xfrm>
            <a:off x="0" y="5638680"/>
            <a:ext cx="899172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jectories of all points in                                (in (A4) )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approach </a:t>
            </a:r>
            <a:r>
              <a:rPr b="0" i="1" lang="en-GB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a fixed direction. </a:t>
            </a:r>
            <a:r>
              <a:rPr b="1" lang="en-GB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Объект 8"/>
              <p:cNvSpPr txBox="1"/>
              <p:nvPr/>
            </p:nvSpPr>
            <p:spPr>
              <a:xfrm>
                <a:off x="609480" y="1066680"/>
                <a:ext cx="6007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0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0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Объект 10"/>
              <p:cNvSpPr txBox="1"/>
              <p:nvPr/>
            </p:nvSpPr>
            <p:spPr>
              <a:xfrm>
                <a:off x="609480" y="2057400"/>
                <a:ext cx="60199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01</m:t>
                        </m:r>
                      </m:e>
                    </m:d>
                    <m:r>
                      <m:t xml:space="preserve">←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11</m:t>
                        </m:r>
                      </m:e>
                    </m:d>
                    <m:r>
                      <m:t xml:space="preserve">←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11</m:t>
                        </m:r>
                      </m:e>
                    </m:d>
                    <m:r>
                      <m:t xml:space="preserve">←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1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Объект 12"/>
              <p:cNvSpPr txBox="1"/>
              <p:nvPr/>
            </p:nvSpPr>
            <p:spPr>
              <a:xfrm>
                <a:off x="990720" y="1523880"/>
                <a:ext cx="380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Объект 13"/>
              <p:cNvSpPr txBox="1"/>
              <p:nvPr/>
            </p:nvSpPr>
            <p:spPr>
              <a:xfrm>
                <a:off x="5791320" y="1523880"/>
                <a:ext cx="380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Прямоугольник 14"/>
          <p:cNvSpPr/>
          <p:nvPr/>
        </p:nvSpPr>
        <p:spPr>
          <a:xfrm>
            <a:off x="7491240" y="1371600"/>
            <a:ext cx="138924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vel=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Объект 15"/>
              <p:cNvSpPr txBox="1"/>
              <p:nvPr/>
            </p:nvSpPr>
            <p:spPr>
              <a:xfrm>
                <a:off x="746280" y="3048120"/>
                <a:ext cx="60386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01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0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1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Объект 16"/>
              <p:cNvSpPr txBox="1"/>
              <p:nvPr/>
            </p:nvSpPr>
            <p:spPr>
              <a:xfrm>
                <a:off x="719280" y="4032360"/>
                <a:ext cx="59529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01</m:t>
                        </m:r>
                      </m:e>
                    </m:d>
                    <m:r>
                      <m:t xml:space="preserve">←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1</m:t>
                        </m:r>
                      </m:e>
                    </m:d>
                    <m:r>
                      <m:t xml:space="preserve">←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11</m:t>
                        </m:r>
                      </m:e>
                    </m:d>
                    <m:r>
                      <m:t xml:space="preserve">←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Объект 18"/>
              <p:cNvSpPr txBox="1"/>
              <p:nvPr/>
            </p:nvSpPr>
            <p:spPr>
              <a:xfrm>
                <a:off x="1066680" y="3429000"/>
                <a:ext cx="381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Объект 19"/>
              <p:cNvSpPr txBox="1"/>
              <p:nvPr/>
            </p:nvSpPr>
            <p:spPr>
              <a:xfrm>
                <a:off x="5943600" y="3429000"/>
                <a:ext cx="380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Прямоугольник 21"/>
          <p:cNvSpPr/>
          <p:nvPr/>
        </p:nvSpPr>
        <p:spPr>
          <a:xfrm>
            <a:off x="7602480" y="3581280"/>
            <a:ext cx="138924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vel=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рямоугольник 22"/>
          <p:cNvSpPr/>
          <p:nvPr/>
        </p:nvSpPr>
        <p:spPr>
          <a:xfrm>
            <a:off x="0" y="4572000"/>
            <a:ext cx="9345600" cy="11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as shown that the union      of the blocks listed in (A3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ontain a cycle, and conditions of its existence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re established.   </a:t>
            </a:r>
            <a:r>
              <a:rPr b="1" lang="en-GB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hat about its uniqueness?    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Объект 24"/>
              <p:cNvSpPr txBox="1"/>
              <p:nvPr/>
            </p:nvSpPr>
            <p:spPr>
              <a:xfrm>
                <a:off x="4495680" y="4511520"/>
                <a:ext cx="38124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Объект 26"/>
              <p:cNvSpPr txBox="1"/>
              <p:nvPr/>
            </p:nvSpPr>
            <p:spPr>
              <a:xfrm>
                <a:off x="6095880" y="6157800"/>
                <a:ext cx="228312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≈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4BEC52C-AA39-4304-905F-5CA028A9DF43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Прямоугольник 2"/>
          <p:cNvSpPr/>
          <p:nvPr/>
        </p:nvSpPr>
        <p:spPr>
          <a:xfrm>
            <a:off x="380880" y="457200"/>
            <a:ext cx="7543800" cy="51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OREM 2.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       of the blocks listed in (A4) contains a trajectory which remains ther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ll </a:t>
            </a:r>
            <a:r>
              <a:rPr b="1" i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0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is theorem holds for smooth analogues of the system (A2) as we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PL-case, there are infinitely many geometrically distinct trajectories in the diagram (A4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Объект 3"/>
              <p:cNvSpPr txBox="1"/>
              <p:nvPr/>
            </p:nvSpPr>
            <p:spPr>
              <a:xfrm>
                <a:off x="6095880" y="382680"/>
                <a:ext cx="53352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15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Smale   “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 mathematical model of two cells via Turing’s equati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, AMS,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s in Applied Mathematics, v. 6, 1977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4647960"/>
            <a:ext cx="8915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of these 4-</a:t>
            </a:r>
            <a:r>
              <a:rPr b="1" lang="en-US" sz="3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dim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iables describes one of two cells in a cell complex. Smale has shown that for some nice values of parameters this system can have non-trivial cycles, though its restriction to any cell has just a stable equilibrium point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105520" y="6095520"/>
            <a:ext cx="4521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415120" y="5304960"/>
            <a:ext cx="5284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5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7E68E79-AC9E-43E8-BEC4-C7CEEBE23EDF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Объект 2"/>
              <p:cNvSpPr txBox="1"/>
              <p:nvPr/>
            </p:nvSpPr>
            <p:spPr>
              <a:xfrm>
                <a:off x="457200" y="1828800"/>
                <a:ext cx="511488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</m:e>
                      <m:e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Объект 4"/>
              <p:cNvSpPr txBox="1"/>
              <p:nvPr/>
            </p:nvSpPr>
            <p:spPr>
              <a:xfrm>
                <a:off x="6183360" y="1981080"/>
                <a:ext cx="20462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∈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+</m:t>
                        </m:r>
                      </m:sub>
                      <m:sup>
                        <m:r>
                          <m:t xml:space="preserve">4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9"/>
              <p:cNvSpPr txBox="1"/>
              <p:nvPr/>
            </p:nvSpPr>
            <p:spPr>
              <a:xfrm>
                <a:off x="6172200" y="1981080"/>
                <a:ext cx="20462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∈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+</m:t>
                        </m:r>
                      </m:sub>
                      <m:sup>
                        <m:r>
                          <m:t xml:space="preserve">4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10"/>
              <p:cNvSpPr txBox="1"/>
              <p:nvPr/>
            </p:nvSpPr>
            <p:spPr>
              <a:xfrm>
                <a:off x="152280" y="3408480"/>
                <a:ext cx="1197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" name="Прямоугольник 3"/>
          <p:cNvSpPr/>
          <p:nvPr/>
        </p:nvSpPr>
        <p:spPr>
          <a:xfrm>
            <a:off x="1523880" y="3200400"/>
            <a:ext cx="723924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spond to concentrations of species in these two cell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odel is quite hypothetic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51D3B49-0F57-4DFB-BFFB-6BE39639751B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Прямоугольник 2"/>
          <p:cNvSpPr/>
          <p:nvPr/>
        </p:nvSpPr>
        <p:spPr>
          <a:xfrm>
            <a:off x="228600" y="152280"/>
            <a:ext cx="601992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the system (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1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or </a:t>
            </a:r>
            <a:r>
              <a:rPr b="1" i="1" lang="en-GB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n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GB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tate transition diagram: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Объект 8"/>
              <p:cNvSpPr txBox="1"/>
              <p:nvPr/>
            </p:nvSpPr>
            <p:spPr>
              <a:xfrm>
                <a:off x="658800" y="1066680"/>
                <a:ext cx="59086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1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0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01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0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Объект 10"/>
              <p:cNvSpPr txBox="1"/>
              <p:nvPr/>
            </p:nvSpPr>
            <p:spPr>
              <a:xfrm>
                <a:off x="593640" y="2057400"/>
                <a:ext cx="60534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10</m:t>
                        </m:r>
                      </m:e>
                    </m:d>
                    <m:r>
                      <m:t xml:space="preserve">←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11</m:t>
                        </m:r>
                      </m:e>
                    </m:d>
                    <m:r>
                      <m:t xml:space="preserve">←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11</m:t>
                        </m:r>
                      </m:e>
                    </m:d>
                    <m:r>
                      <m:t xml:space="preserve">←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1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Объект 12"/>
              <p:cNvSpPr txBox="1"/>
              <p:nvPr/>
            </p:nvSpPr>
            <p:spPr>
              <a:xfrm>
                <a:off x="990720" y="1523880"/>
                <a:ext cx="380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↑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Объект 13"/>
              <p:cNvSpPr txBox="1"/>
              <p:nvPr/>
            </p:nvSpPr>
            <p:spPr>
              <a:xfrm>
                <a:off x="5791320" y="1523880"/>
                <a:ext cx="380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Прямоугольник 14"/>
          <p:cNvSpPr/>
          <p:nvPr/>
        </p:nvSpPr>
        <p:spPr>
          <a:xfrm>
            <a:off x="7491240" y="1371600"/>
            <a:ext cx="138924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vel=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Объект 18"/>
              <p:cNvSpPr txBox="1"/>
              <p:nvPr/>
            </p:nvSpPr>
            <p:spPr>
              <a:xfrm>
                <a:off x="237960" y="3276720"/>
                <a:ext cx="1686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01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Объект 19"/>
              <p:cNvSpPr txBox="1"/>
              <p:nvPr/>
            </p:nvSpPr>
            <p:spPr>
              <a:xfrm>
                <a:off x="1828800" y="3276720"/>
                <a:ext cx="16128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1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6" name="Прямоугольник 21"/>
          <p:cNvSpPr/>
          <p:nvPr/>
        </p:nvSpPr>
        <p:spPr>
          <a:xfrm>
            <a:off x="3352680" y="3352680"/>
            <a:ext cx="44290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</a:t>
            </a:r>
            <a:r>
              <a:rPr b="1" lang="en-GB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zero potential level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2"/>
          <p:cNvSpPr/>
          <p:nvPr/>
        </p:nvSpPr>
        <p:spPr>
          <a:xfrm>
            <a:off x="122040" y="4267080"/>
            <a:ext cx="8888760" cy="19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show that in symmetric cases the union       of th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s listed in (A5) contains a cycle, conditions of it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nce were established. </a:t>
            </a:r>
            <a:r>
              <a:rPr b="1" lang="en-GB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t is unique in this union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an invariant 1-D manifold  </a:t>
            </a:r>
            <a:r>
              <a:rPr b="1" lang="el-G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ich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aches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fixed direction.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Объект 24"/>
              <p:cNvSpPr txBox="1"/>
              <p:nvPr/>
            </p:nvSpPr>
            <p:spPr>
              <a:xfrm>
                <a:off x="7238880" y="4191120"/>
                <a:ext cx="4572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0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Объект 1"/>
              <p:cNvSpPr txBox="1"/>
              <p:nvPr/>
            </p:nvSpPr>
            <p:spPr>
              <a:xfrm>
                <a:off x="609480" y="6248520"/>
                <a:ext cx="2597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≈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5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3448933-C41E-40AD-AA44-3B30056F6DB4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2492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D case for (A1)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3"/>
              <p:cNvSpPr txBox="1"/>
              <p:nvPr/>
            </p:nvSpPr>
            <p:spPr>
              <a:xfrm>
                <a:off x="5653080" y="2577960"/>
                <a:ext cx="2019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×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]</m:t>
                    </m:r>
                    <m:r>
                      <m:t xml:space="preserve">⊂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0" y="1219320"/>
            <a:ext cx="487692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variant piece-wise linear 2-D surfac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aining 2 cycles of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responding syste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ere constructed in </a:t>
            </a:r>
            <a:r>
              <a:rPr b="0" i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5: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8" descr="cycle5m"/>
          <p:cNvPicPr/>
          <p:nvPr/>
        </p:nvPicPr>
        <p:blipFill>
          <a:blip r:embed="rId1"/>
          <a:stretch/>
        </p:blipFill>
        <p:spPr>
          <a:xfrm>
            <a:off x="4648320" y="762120"/>
            <a:ext cx="4038480" cy="4103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8" name="Object 20"/>
              <p:cNvSpPr txBox="1"/>
              <p:nvPr/>
            </p:nvSpPr>
            <p:spPr>
              <a:xfrm>
                <a:off x="0" y="5821200"/>
                <a:ext cx="90676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11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100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101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001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101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Прямоугольник 1"/>
          <p:cNvSpPr/>
          <p:nvPr/>
        </p:nvSpPr>
        <p:spPr>
          <a:xfrm>
            <a:off x="3883680" y="6416640"/>
            <a:ext cx="2422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evel=3 ~(A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оугольник 2"/>
          <p:cNvSpPr/>
          <p:nvPr/>
        </p:nvSpPr>
        <p:spPr>
          <a:xfrm>
            <a:off x="90720" y="4267080"/>
            <a:ext cx="25412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Level=1 ~ (A3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Объект 3"/>
              <p:cNvSpPr txBox="1"/>
              <p:nvPr/>
            </p:nvSpPr>
            <p:spPr>
              <a:xfrm>
                <a:off x="-17640" y="4800600"/>
                <a:ext cx="92570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101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0101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101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001</m:t>
                        </m:r>
                      </m:e>
                    </m:d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0101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otopy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486400" y="2133360"/>
            <a:ext cx="9856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5000"/>
          </a:bodyPr>
          <a:p>
            <a:pPr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7387920" y="2180880"/>
            <a:ext cx="4604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Номер слайда 5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E42B14C-DED6-4360-9524-32B8DDB0AA49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Объект 6"/>
              <p:cNvSpPr txBox="1"/>
              <p:nvPr/>
            </p:nvSpPr>
            <p:spPr>
              <a:xfrm>
                <a:off x="165240" y="2057400"/>
                <a:ext cx="55497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≈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≈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∪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7" name="Прямоугольник 7"/>
          <p:cNvSpPr/>
          <p:nvPr/>
        </p:nvSpPr>
        <p:spPr>
          <a:xfrm>
            <a:off x="5887080" y="2133720"/>
            <a:ext cx="17794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cycl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Объект 9"/>
              <p:cNvSpPr txBox="1"/>
              <p:nvPr/>
            </p:nvSpPr>
            <p:spPr>
              <a:xfrm>
                <a:off x="73080" y="3200400"/>
                <a:ext cx="6556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≈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≈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∪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Прямоугольник 10"/>
          <p:cNvSpPr/>
          <p:nvPr/>
        </p:nvSpPr>
        <p:spPr>
          <a:xfrm>
            <a:off x="6726240" y="3276720"/>
            <a:ext cx="18936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cycle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5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F6E2918-3AA8-462A-9F02-DCE4C19F78D6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"/>
                <a:ea typeface="Times New Roman"/>
              </a:rPr>
              <a:t>                   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vation</a:t>
            </a:r>
            <a:r>
              <a:rPr b="1" lang="en-GB" sz="4000" spc="-1" strike="noStrike">
                <a:solidFill>
                  <a:srgbClr val="000000"/>
                </a:solidFill>
                <a:latin typeface="comic"/>
                <a:ea typeface="Times New Roman"/>
              </a:rPr>
              <a:t>.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current tasks are connected with: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GB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determination of conditions of regular behaviour of  trajectories;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tudies of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gral manifolds 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non-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iqueness of the cycles,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description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geometry of the phase portraits;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GB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ifurcations of the cycles, their dependence on the variations of the parameters, and</a:t>
            </a:r>
            <a:r>
              <a:rPr b="1" lang="en-GB" sz="3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  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nections of these models with </a:t>
            </a:r>
            <a:br>
              <a:rPr sz="3600"/>
            </a:b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ther models of the Gene Networ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5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A720AF5-6770-4AE7-9ADD-3E7E34DEDFD5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4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recent publications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1200" indent="-3312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u.Gaidov,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G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n cycles and other geometric phenomena in phase portraits of some nonlinear dynamical systems. </a:t>
            </a:r>
            <a:r>
              <a:rPr b="1" i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pringer Proc. in Math. &amp;Statistics,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4,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72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225 – 233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B.Ayupova,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G.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the uniqueness of a cycle in an asymmetric 3-D model of a molecular repressilator. </a:t>
            </a:r>
            <a:r>
              <a:rPr b="1" i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Journ.Appl.Industr. Math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.,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4, v.8(2), 1 – 6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Akinshin,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G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n cycles in symmetric dynamical systems. </a:t>
            </a:r>
            <a:r>
              <a:rPr b="1" i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Bulletin of Novosibirsk State Universit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012, v.2(2),  3 – 12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.Bukharina,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G.,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Golubyatnikov, D.Furman. Model  investigation of central regulatory contour of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 net of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melanogaster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chrohaete morphogenesis</a:t>
            </a:r>
            <a:r>
              <a:rPr b="1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</a:t>
            </a:r>
            <a:r>
              <a:rPr b="1" i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ussian  journal of development biology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2012, v.43(1), 49 – 53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1200" indent="-3312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u.Gaidov, </a:t>
            </a:r>
            <a:r>
              <a:rPr b="1" i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G.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the existence and stability of cycles in gene networks with variable feedbacks. </a:t>
            </a:r>
            <a:r>
              <a:rPr b="1" i="1" lang="en-US" sz="29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Contemporary Mathematics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2011, v. 553,  61 – 74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120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120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20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5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728EC86-B3BE-4309-99DF-C62775FE894C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cknowledgments: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RFBR grant 12-01-00074,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grant 80 of SB RAS, RAS VI.61.1.2,  6.6 and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400800" y="533160"/>
            <a:ext cx="5716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8610480" y="6338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/>
          <a:stretch/>
        </p:blipFill>
        <p:spPr>
          <a:xfrm>
            <a:off x="571680" y="990720"/>
            <a:ext cx="8223120" cy="58672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6478920" y="5962680"/>
            <a:ext cx="174888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h+bi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D716340-BFB3-4A81-ADF0-0E6AED1B8D1D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2" descr="D:\2014\ICiG\BGRS-14\Ljapunov.jpg"/>
          <p:cNvPicPr/>
          <p:nvPr/>
        </p:nvPicPr>
        <p:blipFill>
          <a:blip r:embed="rId1"/>
          <a:stretch/>
        </p:blipFill>
        <p:spPr>
          <a:xfrm>
            <a:off x="228600" y="171360"/>
            <a:ext cx="5105520" cy="656928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2"/>
          <p:cNvSpPr/>
          <p:nvPr/>
        </p:nvSpPr>
        <p:spPr>
          <a:xfrm>
            <a:off x="5562720" y="609480"/>
            <a:ext cx="33526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kse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reevich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apunov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1 - 1973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5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23D1F1-272B-4DF9-A506-7D4372E9E31B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Thank you for your patience</a:t>
            </a: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" descr="flower3"/>
          <p:cNvPicPr/>
          <p:nvPr/>
        </p:nvPicPr>
        <p:blipFill>
          <a:blip r:embed="rId1"/>
          <a:stretch/>
        </p:blipFill>
        <p:spPr>
          <a:xfrm>
            <a:off x="838080" y="988920"/>
            <a:ext cx="7467840" cy="58690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2"/>
          <p:cNvSpPr/>
          <p:nvPr/>
        </p:nvSpPr>
        <p:spPr>
          <a:xfrm>
            <a:off x="609480" y="5715000"/>
            <a:ext cx="259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rajectories of some 3-D systems</a:t>
            </a:r>
            <a:br>
              <a:rPr sz="2400"/>
            </a:br>
            <a:r>
              <a:rPr b="0" lang="en-US" sz="47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ight:</a:t>
            </a:r>
            <a:br>
              <a:rPr sz="4800"/>
            </a:br>
            <a:br>
              <a:rPr sz="4800"/>
            </a:br>
            <a:r>
              <a:rPr b="1" i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ef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Содержимое 5" descr="Ris1.jpg"/>
          <p:cNvPicPr/>
          <p:nvPr/>
        </p:nvPicPr>
        <p:blipFill>
          <a:blip r:embed="rId1"/>
          <a:stretch/>
        </p:blipFill>
        <p:spPr>
          <a:xfrm>
            <a:off x="0" y="2590920"/>
            <a:ext cx="4191120" cy="378432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3" descr="GaidovGolubyatnikovNano copy.jpg"/>
          <p:cNvPicPr/>
          <p:nvPr/>
        </p:nvPicPr>
        <p:blipFill>
          <a:blip r:embed="rId2"/>
          <a:stretch/>
        </p:blipFill>
        <p:spPr>
          <a:xfrm>
            <a:off x="5029200" y="2743200"/>
            <a:ext cx="3276720" cy="2817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3" name="Object 21"/>
              <p:cNvSpPr txBox="1"/>
              <p:nvPr/>
            </p:nvSpPr>
            <p:spPr>
              <a:xfrm>
                <a:off x="2048040" y="685800"/>
                <a:ext cx="68245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5"/>
              <p:cNvSpPr txBox="1"/>
              <p:nvPr/>
            </p:nvSpPr>
            <p:spPr>
              <a:xfrm>
                <a:off x="1371600" y="1676520"/>
                <a:ext cx="536580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Rectangle 8"/>
          <p:cNvSpPr/>
          <p:nvPr/>
        </p:nvSpPr>
        <p:spPr>
          <a:xfrm>
            <a:off x="8690400" y="-61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Прямоугольник 7"/>
          <p:cNvSpPr/>
          <p:nvPr/>
        </p:nvSpPr>
        <p:spPr>
          <a:xfrm>
            <a:off x="533520" y="5823000"/>
            <a:ext cx="853416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 inverse proble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3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to reconstruct integral manifolds inside and outside of the cyc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48235A7-5D2A-47A7-9A64-D0D2D80FC3B6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D:\Father\2013\IC&amp;G\2_cells.png"/>
          <p:cNvPicPr/>
          <p:nvPr/>
        </p:nvPicPr>
        <p:blipFill>
          <a:blip r:embed="rId1"/>
          <a:stretch/>
        </p:blipFill>
        <p:spPr>
          <a:xfrm>
            <a:off x="228600" y="762120"/>
            <a:ext cx="8667720" cy="52434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"/>
          <p:cNvSpPr/>
          <p:nvPr/>
        </p:nvSpPr>
        <p:spPr>
          <a:xfrm>
            <a:off x="400320" y="6416640"/>
            <a:ext cx="5604840" cy="4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egative feedbacks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···◄ (AS-C)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380880" y="5943600"/>
            <a:ext cx="5562720" cy="4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itive feedbacks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S-C)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 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0" y="76320"/>
            <a:ext cx="914400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Two cells complex in a natural gene network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87FA4D6-9729-40E4-B3DB-0B3A7F2CE01A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Объект 2"/>
              <p:cNvSpPr txBox="1"/>
              <p:nvPr/>
            </p:nvSpPr>
            <p:spPr>
              <a:xfrm>
                <a:off x="152280" y="228600"/>
                <a:ext cx="23702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Объект 4"/>
              <p:cNvSpPr txBox="1"/>
              <p:nvPr/>
            </p:nvSpPr>
            <p:spPr>
              <a:xfrm>
                <a:off x="2819520" y="228600"/>
                <a:ext cx="23763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σ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Прямоугольник 5"/>
          <p:cNvSpPr/>
          <p:nvPr/>
        </p:nvSpPr>
        <p:spPr>
          <a:xfrm>
            <a:off x="76320" y="1857240"/>
            <a:ext cx="69339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, 2;  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[AS-C],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[Dl],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i="1" lang="en-US" sz="27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[N]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Объект 8"/>
              <p:cNvSpPr txBox="1"/>
              <p:nvPr/>
            </p:nvSpPr>
            <p:spPr>
              <a:xfrm>
                <a:off x="5486400" y="228600"/>
                <a:ext cx="25290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/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Объект 10"/>
              <p:cNvSpPr txBox="1"/>
              <p:nvPr/>
            </p:nvSpPr>
            <p:spPr>
              <a:xfrm>
                <a:off x="6553080" y="990720"/>
                <a:ext cx="243864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/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4" name="Picture 3" descr="D:\Father\2013\Akinshin\SobolevPresentation\Presentation\images\even-plot.jpg"/>
          <p:cNvPicPr/>
          <p:nvPr/>
        </p:nvPicPr>
        <p:blipFill>
          <a:blip r:embed="rId1"/>
          <a:stretch/>
        </p:blipFill>
        <p:spPr>
          <a:xfrm>
            <a:off x="4648320" y="2440080"/>
            <a:ext cx="4495680" cy="44179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"/>
          <p:cNvSpPr/>
          <p:nvPr/>
        </p:nvSpPr>
        <p:spPr>
          <a:xfrm>
            <a:off x="76320" y="2440080"/>
            <a:ext cx="6019560" cy="46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</a:t>
            </a:r>
            <a:r>
              <a:rPr b="1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s monotonically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ing, it correspond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negative feedbacks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···◄ (AS-C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moid functions </a:t>
            </a:r>
            <a:r>
              <a:rPr b="0" i="1" lang="el-G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ve feedback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(AS-C) → D</a:t>
            </a:r>
            <a:r>
              <a:rPr b="1" i="1" lang="en-US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l</a:t>
            </a:r>
            <a:r>
              <a:rPr b="0" lang="en-US" sz="3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stable equilibrium points: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point </a:t>
            </a:r>
            <a:r>
              <a:rPr b="1" i="1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</a:t>
            </a:r>
            <a:r>
              <a:rPr b="1" lang="en-US" sz="29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 </a:t>
            </a:r>
            <a:r>
              <a:rPr b="1" lang="en-US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s unstable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14"/>
              <p:cNvSpPr txBox="1"/>
              <p:nvPr/>
            </p:nvSpPr>
            <p:spPr>
              <a:xfrm>
                <a:off x="4191120" y="3809880"/>
                <a:ext cx="5331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/>
                    </m:sSub>
                  </m:oMath>
                </a14:m>
              </a:p>
            </p:txBody>
          </p:sp>
        </mc:Choice>
        <mc:Fallback/>
      </mc:AlternateContent>
      <p:sp>
        <p:nvSpPr>
          <p:cNvPr id="77" name="Прямоугольник 1"/>
          <p:cNvSpPr/>
          <p:nvPr/>
        </p:nvSpPr>
        <p:spPr>
          <a:xfrm>
            <a:off x="8637120" y="0"/>
            <a:ext cx="3070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F9A815E-1FAD-47F7-BFC7-96FD45F4C6DA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304920" y="609480"/>
            <a:ext cx="8762760" cy="8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2" descr="D:\Father\2013\IC&amp;G\3t-labels2.png"/>
          <p:cNvPicPr/>
          <p:nvPr/>
        </p:nvPicPr>
        <p:blipFill>
          <a:blip r:embed="rId1"/>
          <a:stretch/>
        </p:blipFill>
        <p:spPr>
          <a:xfrm>
            <a:off x="0" y="457200"/>
            <a:ext cx="9067680" cy="5853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D:\Father\2013\IC&amp;G\2cells\3t.png"/>
          <p:cNvPicPr/>
          <p:nvPr/>
        </p:nvPicPr>
        <p:blipFill>
          <a:blip r:embed="rId2"/>
          <a:stretch/>
        </p:blipFill>
        <p:spPr>
          <a:xfrm>
            <a:off x="5524560" y="76320"/>
            <a:ext cx="3605040" cy="312408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2"/>
          <p:cNvSpPr/>
          <p:nvPr/>
        </p:nvSpPr>
        <p:spPr>
          <a:xfrm>
            <a:off x="457200" y="81000"/>
            <a:ext cx="5167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jectories of the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Прямоугольник 1"/>
          <p:cNvSpPr/>
          <p:nvPr/>
        </p:nvSpPr>
        <p:spPr>
          <a:xfrm>
            <a:off x="304920" y="5716440"/>
            <a:ext cx="6716520" cy="10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OREM 1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unstable cycle can appear near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C7DDD94-FDAD-4D08-8B9F-88F3E12EFC61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2" descr="D:\2014\2cells\4Risunok.png"/>
          <p:cNvPicPr/>
          <p:nvPr/>
        </p:nvPicPr>
        <p:blipFill>
          <a:blip r:embed="rId1"/>
          <a:stretch/>
        </p:blipFill>
        <p:spPr>
          <a:xfrm>
            <a:off x="228600" y="1600200"/>
            <a:ext cx="8008920" cy="518148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2"/>
          <p:cNvSpPr/>
          <p:nvPr/>
        </p:nvSpPr>
        <p:spPr>
          <a:xfrm>
            <a:off x="152280" y="76320"/>
            <a:ext cx="837108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ther 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comes the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ntal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 with the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al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ulatory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tour. The other one goes to the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neural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s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4577864-B733-4F7D-BA21-D6475D9966CA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24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ore complicated mode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pict_Phyl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60213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8575200" y="82440"/>
            <a:ext cx="3070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  <a:ea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990720" y="6434280"/>
            <a:ext cx="360" cy="349200"/>
          </a:xfrm>
          <a:prstGeom prst="rect">
            <a:avLst/>
          </a:prstGeom>
          <a:solidFill>
            <a:srgbClr val="bacd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1"/>
          <p:cNvSpPr/>
          <p:nvPr/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D5D41FE-94EC-4079-A5D8-2CB1C00EDBE3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" descr="D:\Father\2014\ICiG\GeneNetworkModels-master-old1\composition.png"/>
          <p:cNvPicPr/>
          <p:nvPr/>
        </p:nvPicPr>
        <p:blipFill>
          <a:blip r:embed="rId1"/>
          <a:stretch/>
        </p:blipFill>
        <p:spPr>
          <a:xfrm>
            <a:off x="152280" y="22860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1"/>
          <p:cNvSpPr/>
          <p:nvPr/>
        </p:nvSpPr>
        <p:spPr>
          <a:xfrm>
            <a:off x="76320" y="228600"/>
            <a:ext cx="708660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ve equilibrium points in the system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three of them are st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D:\2014\ICiG\5D_6D\Dro-ASC-6d\Runs\001\plot-time-x.png"/>
          <p:cNvPicPr/>
          <p:nvPr/>
        </p:nvPicPr>
        <p:blipFill>
          <a:blip r:embed="rId2"/>
          <a:stretch/>
        </p:blipFill>
        <p:spPr>
          <a:xfrm>
            <a:off x="4114800" y="11304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"/>
          <p:cNvSpPr/>
          <p:nvPr/>
        </p:nvSpPr>
        <p:spPr>
          <a:xfrm>
            <a:off x="5040720" y="1295280"/>
            <a:ext cx="16725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AS-C]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3" descr="cycles.jpg"/>
          <p:cNvPicPr/>
          <p:nvPr/>
        </p:nvPicPr>
        <p:blipFill>
          <a:blip r:embed="rId1"/>
          <a:stretch/>
        </p:blipFill>
        <p:spPr>
          <a:xfrm>
            <a:off x="4686480" y="1847880"/>
            <a:ext cx="4457520" cy="493380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2286000" y="228600"/>
            <a:ext cx="45720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б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Рисунок 5" descr="cycle3.jpg"/>
          <p:cNvPicPr/>
          <p:nvPr/>
        </p:nvPicPr>
        <p:blipFill>
          <a:blip r:embed="rId2"/>
          <a:stretch/>
        </p:blipFill>
        <p:spPr>
          <a:xfrm>
            <a:off x="76320" y="2190600"/>
            <a:ext cx="4486320" cy="46674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533520" y="304920"/>
            <a:ext cx="84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ary points and cycles of the system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8708760" y="76320"/>
            <a:ext cx="3070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21"/>
              <p:cNvSpPr txBox="1"/>
              <p:nvPr/>
            </p:nvSpPr>
            <p:spPr>
              <a:xfrm>
                <a:off x="206280" y="838080"/>
                <a:ext cx="235908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9"/>
              <p:cNvSpPr txBox="1"/>
              <p:nvPr/>
            </p:nvSpPr>
            <p:spPr>
              <a:xfrm>
                <a:off x="2887560" y="853920"/>
                <a:ext cx="24465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10"/>
              <p:cNvSpPr txBox="1"/>
              <p:nvPr/>
            </p:nvSpPr>
            <p:spPr>
              <a:xfrm>
                <a:off x="5535720" y="853920"/>
                <a:ext cx="23889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VladimirPetrovich</cp:lastModifiedBy>
  <dcterms:modified xsi:type="dcterms:W3CDTF">2014-09-30T12:03:48Z</dcterms:modified>
  <cp:revision>553</cp:revision>
  <dc:subject/>
  <dc:title>Слайд 1</dc:title>
</cp:coreProperties>
</file>