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11398680"/>
            <a:ext cx="360" cy="243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C3F-5459-488E-9CAA-53125618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519-B48D-4A2A-B092-1A37A1A1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1E2-5F8A-491A-9A96-2D3CDC08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D5B-DBB3-428D-8A29-45A9550F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95D-1F75-4115-AF30-9C04DBEA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23E-55EB-44DF-A8F0-1EC38545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1F4-BC68-447C-8502-337BB442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F1E-D82F-42C7-BDAB-F4AB8661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A08-DBF9-4B0D-929B-1F2B532F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8AF-0A82-4CC9-ADF6-41012F53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B8A-EEE3-47FB-BC7C-5771B38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0D8-2E4B-4E4C-95E5-446181B3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B7F282-05DB-4B17-87A4-6131252202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7BE641-1FEA-4F36-BE37-4FC6418F182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300"/>
            </a:br>
            <a:br>
              <a:rPr sz="4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model of one </a:t>
            </a:r>
            <a:br>
              <a:rPr sz="6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iological 2-cells complex</a:t>
            </a:r>
            <a:br>
              <a:rPr sz="6000"/>
            </a:br>
            <a:br>
              <a:rPr sz="60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kinshin A.A., Golubyatnikov V.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olev Institute of Mathematics SB RA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kharina T.A., Furman D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Cytology and Genetics SB 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Novosibirsk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24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September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Geometry Days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2014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BC0EFF-CE03-4CD8-8807-2E841B9A546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FB50DA-B5F2-4772-B0FF-FAE6F5ED176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453400" y="457200"/>
            <a:ext cx="31464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ENDIX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8"/>
              <p:cNvSpPr txBox="1"/>
              <p:nvPr/>
            </p:nvSpPr>
            <p:spPr>
              <a:xfrm>
                <a:off x="106200" y="3917880"/>
                <a:ext cx="8961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9"/>
              <p:cNvSpPr txBox="1"/>
              <p:nvPr/>
            </p:nvSpPr>
            <p:spPr>
              <a:xfrm>
                <a:off x="106200" y="2541600"/>
                <a:ext cx="9037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10"/>
          <p:cNvSpPr/>
          <p:nvPr/>
        </p:nvSpPr>
        <p:spPr>
          <a:xfrm>
            <a:off x="128520" y="1498680"/>
            <a:ext cx="797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” functions describing positiv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412720" y="3208320"/>
            <a:ext cx="47282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egative feedbacks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109080" y="4919760"/>
            <a:ext cx="87912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consider their smooth analogues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1"/>
              <p:cNvSpPr txBox="1"/>
              <p:nvPr/>
            </p:nvSpPr>
            <p:spPr>
              <a:xfrm>
                <a:off x="380880" y="3178080"/>
                <a:ext cx="1752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991848-F77B-4B9A-B2B1-DA3C41673D2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Объект 3"/>
              <p:cNvSpPr txBox="1"/>
              <p:nvPr/>
            </p:nvSpPr>
            <p:spPr>
              <a:xfrm>
                <a:off x="331920" y="1295280"/>
                <a:ext cx="2639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ик 4"/>
          <p:cNvSpPr/>
          <p:nvPr/>
        </p:nvSpPr>
        <p:spPr>
          <a:xfrm>
            <a:off x="2514600" y="92160"/>
            <a:ext cx="3124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Объект 6"/>
              <p:cNvSpPr txBox="1"/>
              <p:nvPr/>
            </p:nvSpPr>
            <p:spPr>
              <a:xfrm>
                <a:off x="3124080" y="1295280"/>
                <a:ext cx="4310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Прямоугольник 7"/>
          <p:cNvSpPr/>
          <p:nvPr/>
        </p:nvSpPr>
        <p:spPr>
          <a:xfrm>
            <a:off x="7676280" y="146376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8"/>
              <p:cNvSpPr txBox="1"/>
              <p:nvPr/>
            </p:nvSpPr>
            <p:spPr>
              <a:xfrm>
                <a:off x="457200" y="2590920"/>
                <a:ext cx="26398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Объект 10"/>
              <p:cNvSpPr txBox="1"/>
              <p:nvPr/>
            </p:nvSpPr>
            <p:spPr>
              <a:xfrm>
                <a:off x="3247920" y="2590920"/>
                <a:ext cx="4086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Прямоугольник 11"/>
          <p:cNvSpPr/>
          <p:nvPr/>
        </p:nvSpPr>
        <p:spPr>
          <a:xfrm>
            <a:off x="7752240" y="281952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13"/>
              <p:cNvSpPr txBox="1"/>
              <p:nvPr/>
            </p:nvSpPr>
            <p:spPr>
              <a:xfrm>
                <a:off x="1204920" y="3733920"/>
                <a:ext cx="5241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Прямоугольник 14"/>
          <p:cNvSpPr/>
          <p:nvPr/>
        </p:nvSpPr>
        <p:spPr>
          <a:xfrm>
            <a:off x="200160" y="4587840"/>
            <a:ext cx="905148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epiped                                                         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ly invariant for both systems (A1) and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or odd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Объект 16"/>
              <p:cNvSpPr txBox="1"/>
              <p:nvPr/>
            </p:nvSpPr>
            <p:spPr>
              <a:xfrm>
                <a:off x="2909880" y="4419720"/>
                <a:ext cx="471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1"/>
          <p:cNvSpPr/>
          <p:nvPr/>
        </p:nvSpPr>
        <p:spPr>
          <a:xfrm>
            <a:off x="93960" y="152280"/>
            <a:ext cx="872424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 is the Glass-Tyson (et al) dynamical syst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was considered in our previous pap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45C77D-08B6-440E-9655-8797B343316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D:\Father\2013\Akinshin\SobolevPresentation\Presentation\images\odd-plot.jpg"/>
          <p:cNvPicPr/>
          <p:nvPr/>
        </p:nvPicPr>
        <p:blipFill>
          <a:blip r:embed="rId1"/>
          <a:stretch/>
        </p:blipFill>
        <p:spPr>
          <a:xfrm>
            <a:off x="76320" y="1219320"/>
            <a:ext cx="4038480" cy="548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Father\2013\Akinshin\SobolevPresentation\Presentation\images\even-plot.jpg"/>
          <p:cNvPicPr/>
          <p:nvPr/>
        </p:nvPicPr>
        <p:blipFill>
          <a:blip r:embed="rId2"/>
          <a:stretch/>
        </p:blipFill>
        <p:spPr>
          <a:xfrm>
            <a:off x="4114800" y="68580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6320" y="152280"/>
            <a:ext cx="42670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; (A1)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e equilibrium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152280"/>
            <a:ext cx="41148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“many” equilibrium poi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905323-32EB-4075-AFF5-259E50B4E29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onvex invariant domain of the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3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D system (A1) 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osed by six triangle prisms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20320" y="6095880"/>
            <a:ext cx="3808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4968720" y="1374840"/>
                <a:ext cx="822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7696080" y="1268280"/>
                <a:ext cx="825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294600" y="28954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5" name="Rectangle 9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8364600" y="368460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1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5257800" y="533412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4983120" y="1523880"/>
            <a:ext cx="385596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76320" y="5867280"/>
                <a:ext cx="8991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344520" y="1752480"/>
                <a:ext cx="41115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304920" y="2362320"/>
                <a:ext cx="4170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272880" y="4079880"/>
                <a:ext cx="3308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270000" y="4816440"/>
                <a:ext cx="3049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255740-1A25-464F-B4F1-ED2C8C46E7A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80880" y="380880"/>
            <a:ext cx="876312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tential level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a block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faces of the block are intersected by outgoing trajectorie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arrows come out of the corresponding vertex of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 transition diagram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f the dynamical syst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79C115-BD28-478B-A5D0-08DA275B010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219320" y="1254240"/>
            <a:ext cx="5562360" cy="560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0" y="374760"/>
                <a:ext cx="2195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3780000" y="338040"/>
                <a:ext cx="2160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699240" y="347760"/>
                <a:ext cx="1987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9"/>
          <p:cNvSpPr/>
          <p:nvPr/>
        </p:nvSpPr>
        <p:spPr>
          <a:xfrm>
            <a:off x="1123920" y="1468440"/>
            <a:ext cx="687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trajectory and a limit cycle</a:t>
            </a:r>
            <a:r>
              <a:rPr b="1" lang="en-GB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4422960" y="274320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2594160" y="464832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380880" y="358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ajectories and bifurcation cycles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D:\Father\2011\Akinshin\071011.jpg"/>
          <p:cNvPicPr/>
          <p:nvPr/>
        </p:nvPicPr>
        <p:blipFill>
          <a:blip r:embed="rId1"/>
          <a:stretch/>
        </p:blipFill>
        <p:spPr>
          <a:xfrm>
            <a:off x="0" y="1523880"/>
            <a:ext cx="4317840" cy="53341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" descr=""/>
          <p:cNvPicPr/>
          <p:nvPr/>
        </p:nvPicPr>
        <p:blipFill>
          <a:blip r:embed="rId2"/>
          <a:stretch/>
        </p:blipFill>
        <p:spPr>
          <a:xfrm>
            <a:off x="4317840" y="1295280"/>
            <a:ext cx="4826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4AC7FB-94AC-469F-B103-FE8595BE8F2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135240" y="152280"/>
            <a:ext cx="2553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G:\2014\NSUpictures\hill105a-e89.png"/>
          <p:cNvPicPr/>
          <p:nvPr/>
        </p:nvPicPr>
        <p:blipFill>
          <a:blip r:embed="rId1"/>
          <a:stretch/>
        </p:blipFill>
        <p:spPr>
          <a:xfrm>
            <a:off x="4489560" y="1181160"/>
            <a:ext cx="4578120" cy="5499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G:\2014\NSUpictures\hill105a-e24.png"/>
          <p:cNvPicPr/>
          <p:nvPr/>
        </p:nvPicPr>
        <p:blipFill>
          <a:blip r:embed="rId2"/>
          <a:stretch/>
        </p:blipFill>
        <p:spPr>
          <a:xfrm>
            <a:off x="0" y="1154160"/>
            <a:ext cx="5029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1944F-33EF-4000-A941-C563F1D51F0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228600" y="152280"/>
            <a:ext cx="87631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 (J.Tyson, L.Glass et al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Объект 4"/>
              <p:cNvSpPr txBox="1"/>
              <p:nvPr/>
            </p:nvSpPr>
            <p:spPr>
              <a:xfrm>
                <a:off x="4462560" y="5638680"/>
                <a:ext cx="2563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Прямоугольник 5"/>
          <p:cNvSpPr/>
          <p:nvPr/>
        </p:nvSpPr>
        <p:spPr>
          <a:xfrm>
            <a:off x="0" y="5638680"/>
            <a:ext cx="89917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all points in                                (in (A4) )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approach </a:t>
            </a:r>
            <a:r>
              <a:rPr b="0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fixed direction.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Объект 8"/>
              <p:cNvSpPr txBox="1"/>
              <p:nvPr/>
            </p:nvSpPr>
            <p:spPr>
              <a:xfrm>
                <a:off x="609480" y="1066680"/>
                <a:ext cx="60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0"/>
              <p:cNvSpPr txBox="1"/>
              <p:nvPr/>
            </p:nvSpPr>
            <p:spPr>
              <a:xfrm>
                <a:off x="609480" y="2057400"/>
                <a:ext cx="6019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Объект 15"/>
              <p:cNvSpPr txBox="1"/>
              <p:nvPr/>
            </p:nvSpPr>
            <p:spPr>
              <a:xfrm>
                <a:off x="746280" y="3048120"/>
                <a:ext cx="6038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Объект 16"/>
              <p:cNvSpPr txBox="1"/>
              <p:nvPr/>
            </p:nvSpPr>
            <p:spPr>
              <a:xfrm>
                <a:off x="719280" y="4032360"/>
                <a:ext cx="595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Объект 18"/>
              <p:cNvSpPr txBox="1"/>
              <p:nvPr/>
            </p:nvSpPr>
            <p:spPr>
              <a:xfrm>
                <a:off x="1066680" y="3429000"/>
                <a:ext cx="381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Объект 19"/>
              <p:cNvSpPr txBox="1"/>
              <p:nvPr/>
            </p:nvSpPr>
            <p:spPr>
              <a:xfrm>
                <a:off x="5943600" y="342900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Прямоугольник 21"/>
          <p:cNvSpPr/>
          <p:nvPr/>
        </p:nvSpPr>
        <p:spPr>
          <a:xfrm>
            <a:off x="7602480" y="358128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2"/>
          <p:cNvSpPr/>
          <p:nvPr/>
        </p:nvSpPr>
        <p:spPr>
          <a:xfrm>
            <a:off x="0" y="4572000"/>
            <a:ext cx="93456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shown that the union      of the blocks listed in (A3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ntain a cycle, and conditions of its existenc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established.   </a:t>
            </a:r>
            <a:r>
              <a:rPr b="1" lang="en-GB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bout its uniqueness? 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Объект 24"/>
              <p:cNvSpPr txBox="1"/>
              <p:nvPr/>
            </p:nvSpPr>
            <p:spPr>
              <a:xfrm>
                <a:off x="4495680" y="4511520"/>
                <a:ext cx="381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26"/>
              <p:cNvSpPr txBox="1"/>
              <p:nvPr/>
            </p:nvSpPr>
            <p:spPr>
              <a:xfrm>
                <a:off x="6095880" y="6157800"/>
                <a:ext cx="22831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0A2740-27E6-458F-A923-BF4FCB13D7C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80880" y="457200"/>
            <a:ext cx="75438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2.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       of the blocks listed in (A4) contains a trajectory which remains the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theorem holds for smooth analogues of the system (A2) as w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L-case, there are infinitely many geometrically distinct trajectories in the diagram (A4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Объект 3"/>
              <p:cNvSpPr txBox="1"/>
              <p:nvPr/>
            </p:nvSpPr>
            <p:spPr>
              <a:xfrm>
                <a:off x="6095880" y="382680"/>
                <a:ext cx="533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Smale   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mathematical model of two cells via Turing’s equ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AMS,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s in Applied Mathematics, v. 6, 1977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these 4-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im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 describes one of two cells in a cell complex. Smale has shown that for some nice values of parameters this system can have non-trivial cycles, though its restriction to any cell has just a stable equilibrium point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05520" y="6095520"/>
            <a:ext cx="4521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5120" y="5304960"/>
            <a:ext cx="52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3728F2-9D2F-4883-9EC0-29D6D747B11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Объект 2"/>
              <p:cNvSpPr txBox="1"/>
              <p:nvPr/>
            </p:nvSpPr>
            <p:spPr>
              <a:xfrm>
                <a:off x="457200" y="1828800"/>
                <a:ext cx="51148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4"/>
              <p:cNvSpPr txBox="1"/>
              <p:nvPr/>
            </p:nvSpPr>
            <p:spPr>
              <a:xfrm>
                <a:off x="618336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617220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152280" y="3408480"/>
                <a:ext cx="1197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Прямоугольник 3"/>
          <p:cNvSpPr/>
          <p:nvPr/>
        </p:nvSpPr>
        <p:spPr>
          <a:xfrm>
            <a:off x="1523880" y="3200400"/>
            <a:ext cx="72392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 to concentrations of species in these two cel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odel is quite hypothe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C40538-EF70-432D-92B7-97F4ED3DD7D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28600" y="152280"/>
            <a:ext cx="60199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1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Объект 8"/>
              <p:cNvSpPr txBox="1"/>
              <p:nvPr/>
            </p:nvSpPr>
            <p:spPr>
              <a:xfrm>
                <a:off x="658800" y="1066680"/>
                <a:ext cx="5908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Объект 10"/>
              <p:cNvSpPr txBox="1"/>
              <p:nvPr/>
            </p:nvSpPr>
            <p:spPr>
              <a:xfrm>
                <a:off x="593640" y="2057400"/>
                <a:ext cx="605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Объект 18"/>
              <p:cNvSpPr txBox="1"/>
              <p:nvPr/>
            </p:nvSpPr>
            <p:spPr>
              <a:xfrm>
                <a:off x="237960" y="3276720"/>
                <a:ext cx="1686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Объект 19"/>
              <p:cNvSpPr txBox="1"/>
              <p:nvPr/>
            </p:nvSpPr>
            <p:spPr>
              <a:xfrm>
                <a:off x="1828800" y="3276720"/>
                <a:ext cx="1612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Прямоугольник 21"/>
          <p:cNvSpPr/>
          <p:nvPr/>
        </p:nvSpPr>
        <p:spPr>
          <a:xfrm>
            <a:off x="3352680" y="3352680"/>
            <a:ext cx="4429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zero potential lev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2"/>
          <p:cNvSpPr/>
          <p:nvPr/>
        </p:nvSpPr>
        <p:spPr>
          <a:xfrm>
            <a:off x="122040" y="4267080"/>
            <a:ext cx="88887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ow that in symmetric cases the union       of th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listed in (A5) contains a cycle, conditions of i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e were established. </a:t>
            </a:r>
            <a:r>
              <a:rPr b="1" lang="en-GB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 is unique in this un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nvariant 1-D manifold  </a:t>
            </a:r>
            <a:r>
              <a:rPr b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e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ixed direction.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Объект 24"/>
              <p:cNvSpPr txBox="1"/>
              <p:nvPr/>
            </p:nvSpPr>
            <p:spPr>
              <a:xfrm>
                <a:off x="7238880" y="4191120"/>
                <a:ext cx="457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Объект 1"/>
              <p:cNvSpPr txBox="1"/>
              <p:nvPr/>
            </p:nvSpPr>
            <p:spPr>
              <a:xfrm>
                <a:off x="609480" y="6248520"/>
                <a:ext cx="2597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4E32DB-D863-4FEC-AA5F-0B8E0F3A94B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49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D case for (A1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5653080" y="2577960"/>
                <a:ext cx="20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1219320"/>
            <a:ext cx="48769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variant piece-wise linear 2-D surfa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ing 2 cycles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responding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e constructed in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: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cycle5m"/>
          <p:cNvPicPr/>
          <p:nvPr/>
        </p:nvPicPr>
        <p:blipFill>
          <a:blip r:embed="rId1"/>
          <a:stretch/>
        </p:blipFill>
        <p:spPr>
          <a:xfrm>
            <a:off x="4648320" y="762120"/>
            <a:ext cx="4038480" cy="41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Object 20"/>
              <p:cNvSpPr txBox="1"/>
              <p:nvPr/>
            </p:nvSpPr>
            <p:spPr>
              <a:xfrm>
                <a:off x="0" y="5821200"/>
                <a:ext cx="9067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Прямоугольник 1"/>
          <p:cNvSpPr/>
          <p:nvPr/>
        </p:nvSpPr>
        <p:spPr>
          <a:xfrm>
            <a:off x="3883680" y="6416640"/>
            <a:ext cx="24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vel=3 ~(A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90720" y="4267080"/>
            <a:ext cx="2541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vel=1 ~ (A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Объект 3"/>
              <p:cNvSpPr txBox="1"/>
              <p:nvPr/>
            </p:nvSpPr>
            <p:spPr>
              <a:xfrm>
                <a:off x="-17640" y="4800600"/>
                <a:ext cx="9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topy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486400" y="2133360"/>
            <a:ext cx="9856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387920" y="2180880"/>
            <a:ext cx="4604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344695-390F-452C-8441-3CF076F3CB9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Объект 6"/>
              <p:cNvSpPr txBox="1"/>
              <p:nvPr/>
            </p:nvSpPr>
            <p:spPr>
              <a:xfrm>
                <a:off x="165240" y="2057400"/>
                <a:ext cx="5549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Прямоугольник 7"/>
          <p:cNvSpPr/>
          <p:nvPr/>
        </p:nvSpPr>
        <p:spPr>
          <a:xfrm>
            <a:off x="5887080" y="2133720"/>
            <a:ext cx="177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Объект 9"/>
              <p:cNvSpPr txBox="1"/>
              <p:nvPr/>
            </p:nvSpPr>
            <p:spPr>
              <a:xfrm>
                <a:off x="73080" y="3200400"/>
                <a:ext cx="6556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Прямоугольник 10"/>
          <p:cNvSpPr/>
          <p:nvPr/>
        </p:nvSpPr>
        <p:spPr>
          <a:xfrm>
            <a:off x="6726240" y="3276720"/>
            <a:ext cx="1893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8AE195-5085-47A0-BD65-D976F9266A4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"/>
                <a:ea typeface="Times New Roman"/>
              </a:rPr>
              <a:t>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1" lang="en-GB" sz="4000" spc="-1" strike="noStrike">
                <a:solidFill>
                  <a:srgbClr val="000000"/>
                </a:solidFill>
                <a:latin typeface="comic"/>
                <a:ea typeface="Times New Roman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urrent tasks are connected with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etermination of conditions of regular behaviour of  trajectories;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tudies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gral manifolds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n-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queness of the cycles,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cripti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eometry of the phase portraits;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furcations of the cycles, their dependence on the variations of the parameters, and</a:t>
            </a: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ons of these models with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models of the Gene Net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F7EA84-2D24-4FC6-BFF8-66B9E979BEA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cent publication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and other geometric phenomena in phase portraits of some nonlinear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 Proc. in Math. &amp;Statistics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7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225 – 23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B.Ayupov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uniqueness of a cycle in an asymmetric 3-D model of a molecular repressilator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Journ.Appl.Industr. Mat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v.8(2), 1 – 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Akinshin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in symmetric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ulletin of Novosibirsk State Universi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2, v.2(2),  3 –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Bukharin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Golubyatnikov, D.Furman. Model  investigation of central regulatory contour of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net of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melanogaste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hrohaete morphogenesis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ussian  journal of development biolog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2, v.43(1), 49 – 53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existence and stability of cycles in gene networks with variable feedback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ntemporary Mathematic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1, v. 553,  61 – 7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2F84D2-074A-49D0-A1CB-64635E90730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cknowledgments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FBR grant 12-01-00074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grant 80 of SB RAS, RAS VI.61.1.2,  6.6 an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400800" y="533160"/>
            <a:ext cx="571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610480" y="633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571680" y="990720"/>
            <a:ext cx="8223120" cy="5867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6478920" y="5962680"/>
            <a:ext cx="1748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+bi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1299D9-5F18-4887-A631-03DA5EAA7B1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D:\2014\ICiG\BGRS-14\Ljapunov.jpg"/>
          <p:cNvPicPr/>
          <p:nvPr/>
        </p:nvPicPr>
        <p:blipFill>
          <a:blip r:embed="rId1"/>
          <a:stretch/>
        </p:blipFill>
        <p:spPr>
          <a:xfrm>
            <a:off x="228600" y="171360"/>
            <a:ext cx="5105520" cy="65692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5562720" y="609480"/>
            <a:ext cx="33526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k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evich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apunov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1 - 197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C47257-0E38-4ECB-883F-E1A4E21ED5B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ank you for your patience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flower3"/>
          <p:cNvPicPr/>
          <p:nvPr/>
        </p:nvPicPr>
        <p:blipFill>
          <a:blip r:embed="rId1"/>
          <a:stretch/>
        </p:blipFill>
        <p:spPr>
          <a:xfrm>
            <a:off x="838080" y="988920"/>
            <a:ext cx="7467840" cy="5869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609480" y="5715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ajectories of some 3-D systems</a:t>
            </a:r>
            <a:br>
              <a:rPr sz="2400"/>
            </a:br>
            <a:r>
              <a:rPr b="0" lang="en-US" sz="47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:</a:t>
            </a:r>
            <a:br>
              <a:rPr sz="4800"/>
            </a:br>
            <a:br>
              <a:rPr sz="48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f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Содержимое 5" descr="Ris1.jpg"/>
          <p:cNvPicPr/>
          <p:nvPr/>
        </p:nvPicPr>
        <p:blipFill>
          <a:blip r:embed="rId1"/>
          <a:stretch/>
        </p:blipFill>
        <p:spPr>
          <a:xfrm>
            <a:off x="0" y="2590920"/>
            <a:ext cx="4191120" cy="3784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GaidovGolubyatnikovNano copy.jpg"/>
          <p:cNvPicPr/>
          <p:nvPr/>
        </p:nvPicPr>
        <p:blipFill>
          <a:blip r:embed="rId2"/>
          <a:stretch/>
        </p:blipFill>
        <p:spPr>
          <a:xfrm>
            <a:off x="5029200" y="2743200"/>
            <a:ext cx="3276720" cy="281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2048040" y="685800"/>
                <a:ext cx="6824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1371600" y="1676520"/>
                <a:ext cx="53658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8"/>
          <p:cNvSpPr/>
          <p:nvPr/>
        </p:nvSpPr>
        <p:spPr>
          <a:xfrm>
            <a:off x="8690400" y="-61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533520" y="5823000"/>
            <a:ext cx="85341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inverse probl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to reconstruct integral manifolds inside and outside of the cy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A9A0D1-3D42-43C2-87CF-E3AAC71C0F7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D:\Father\2013\IC&amp;G\2_cells.png"/>
          <p:cNvPicPr/>
          <p:nvPr/>
        </p:nvPicPr>
        <p:blipFill>
          <a:blip r:embed="rId1"/>
          <a:stretch/>
        </p:blipFill>
        <p:spPr>
          <a:xfrm>
            <a:off x="228600" y="762120"/>
            <a:ext cx="8667720" cy="5243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400320" y="6416640"/>
            <a:ext cx="56048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ga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80880" y="5943600"/>
            <a:ext cx="55627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i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-C)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 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0" y="76320"/>
            <a:ext cx="9144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wo cells complex in a natural gene network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B5189A-E85F-48A2-9A2D-46FFAC87428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Объект 2"/>
              <p:cNvSpPr txBox="1"/>
              <p:nvPr/>
            </p:nvSpPr>
            <p:spPr>
              <a:xfrm>
                <a:off x="152280" y="228600"/>
                <a:ext cx="2370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Объект 4"/>
              <p:cNvSpPr txBox="1"/>
              <p:nvPr/>
            </p:nvSpPr>
            <p:spPr>
              <a:xfrm>
                <a:off x="2819520" y="228600"/>
                <a:ext cx="2376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оугольник 5"/>
          <p:cNvSpPr/>
          <p:nvPr/>
        </p:nvSpPr>
        <p:spPr>
          <a:xfrm>
            <a:off x="76320" y="1857240"/>
            <a:ext cx="693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; 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AS-C],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Dl],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N]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8"/>
              <p:cNvSpPr txBox="1"/>
              <p:nvPr/>
            </p:nvSpPr>
            <p:spPr>
              <a:xfrm>
                <a:off x="5486400" y="228600"/>
                <a:ext cx="2529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Объект 10"/>
              <p:cNvSpPr txBox="1"/>
              <p:nvPr/>
            </p:nvSpPr>
            <p:spPr>
              <a:xfrm>
                <a:off x="6553080" y="990720"/>
                <a:ext cx="24386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3" descr="D:\Father\2013\Akinshin\SobolevPresentation\Presentation\images\even-plot.jpg"/>
          <p:cNvPicPr/>
          <p:nvPr/>
        </p:nvPicPr>
        <p:blipFill>
          <a:blip r:embed="rId1"/>
          <a:stretch/>
        </p:blipFill>
        <p:spPr>
          <a:xfrm>
            <a:off x="4648320" y="2440080"/>
            <a:ext cx="4495680" cy="4417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76320" y="2440080"/>
            <a:ext cx="601956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monotonicall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ing, it correspond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egative feedback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moid functions </a:t>
            </a:r>
            <a:r>
              <a:rPr b="0" i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feedbac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AS-C) → D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table equilibrium points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point </a:t>
            </a:r>
            <a:r>
              <a:rPr b="1" i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en-US" sz="29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 unstabl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4"/>
              <p:cNvSpPr txBox="1"/>
              <p:nvPr/>
            </p:nvSpPr>
            <p:spPr>
              <a:xfrm>
                <a:off x="4191120" y="3809880"/>
                <a:ext cx="533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Прямоугольник 1"/>
          <p:cNvSpPr/>
          <p:nvPr/>
        </p:nvSpPr>
        <p:spPr>
          <a:xfrm>
            <a:off x="8637120" y="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53D1EC-A79D-4714-9CC4-6C8E65CB230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04920" y="609480"/>
            <a:ext cx="876276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D:\Father\2013\IC&amp;G\3t-labels2.png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85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Father\2013\IC&amp;G\2cells\3t.png"/>
          <p:cNvPicPr/>
          <p:nvPr/>
        </p:nvPicPr>
        <p:blipFill>
          <a:blip r:embed="rId2"/>
          <a:stretch/>
        </p:blipFill>
        <p:spPr>
          <a:xfrm>
            <a:off x="5524560" y="76320"/>
            <a:ext cx="3605040" cy="3124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457200" y="81000"/>
            <a:ext cx="51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th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304920" y="5716440"/>
            <a:ext cx="67165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unstable cycle can appear nea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100216-71B6-43E4-A0DC-824F1DAB39D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D:\2014\2cells\4Risunok.png"/>
          <p:cNvPicPr/>
          <p:nvPr/>
        </p:nvPicPr>
        <p:blipFill>
          <a:blip r:embed="rId1"/>
          <a:stretch/>
        </p:blipFill>
        <p:spPr>
          <a:xfrm>
            <a:off x="228600" y="1600200"/>
            <a:ext cx="800892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52280" y="76320"/>
            <a:ext cx="8371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omes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t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 with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ator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ur. The other one goes to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eu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s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66E5D5-4CD2-4BB3-90D5-12701D91F75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re complicated mod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pict_Phyl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6021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8575200" y="8244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990720" y="6434280"/>
            <a:ext cx="360" cy="349200"/>
          </a:xfrm>
          <a:prstGeom prst="rect">
            <a:avLst/>
          </a:prstGeom>
          <a:solidFill>
            <a:srgbClr val="bacd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DDE394-98FA-4AE1-BA18-328C36FA6A0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D:\Father\2014\ICiG\GeneNetworkModels-master-old1\composition.png"/>
          <p:cNvPicPr/>
          <p:nvPr/>
        </p:nvPicPr>
        <p:blipFill>
          <a:blip r:embed="rId1"/>
          <a:stretch/>
        </p:blipFill>
        <p:spPr>
          <a:xfrm>
            <a:off x="15228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76320" y="228600"/>
            <a:ext cx="708660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equilibrium points in the system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ree of them a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:\2014\ICiG\5D_6D\Dro-ASC-6d\Runs\001\plot-time-x.png"/>
          <p:cNvPicPr/>
          <p:nvPr/>
        </p:nvPicPr>
        <p:blipFill>
          <a:blip r:embed="rId2"/>
          <a:stretch/>
        </p:blipFill>
        <p:spPr>
          <a:xfrm>
            <a:off x="4114800" y="11304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040720" y="1295280"/>
            <a:ext cx="1672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S-C]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cycles.jpg"/>
          <p:cNvPicPr/>
          <p:nvPr/>
        </p:nvPicPr>
        <p:blipFill>
          <a:blip r:embed="rId1"/>
          <a:stretch/>
        </p:blipFill>
        <p:spPr>
          <a:xfrm>
            <a:off x="4686480" y="1847880"/>
            <a:ext cx="4457520" cy="49338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286000" y="228600"/>
            <a:ext cx="4572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5" descr="cycle3.jpg"/>
          <p:cNvPicPr/>
          <p:nvPr/>
        </p:nvPicPr>
        <p:blipFill>
          <a:blip r:embed="rId2"/>
          <a:stretch/>
        </p:blipFill>
        <p:spPr>
          <a:xfrm>
            <a:off x="76320" y="2190600"/>
            <a:ext cx="4486320" cy="4667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533520" y="304920"/>
            <a:ext cx="84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ary points and cycles of the system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708760" y="7632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206280" y="838080"/>
                <a:ext cx="23590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2887560" y="853920"/>
                <a:ext cx="2446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5535720" y="853920"/>
                <a:ext cx="2388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VladimirPetrovich</cp:lastModifiedBy>
  <dcterms:modified xsi:type="dcterms:W3CDTF">2014-09-30T12:03:48Z</dcterms:modified>
  <cp:revision>553</cp:revision>
  <dc:subject/>
  <dc:title>Слайд 1</dc:title>
</cp:coreProperties>
</file>